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235-6753-472C-98AE-EC056DB8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F76-9F90-41B8-BDAA-4F520C4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18E-242F-4A69-898B-00D2F9A4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F8D-DB78-44F5-8D7C-7845AF89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C5E-0AA8-4F37-BE6D-09FC7C7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AF7-B86F-4C7A-83DC-ED25FCF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430-B657-4806-BD25-F6532AB0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3CB-C3BF-4158-937E-3EFF624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8DE-A76E-4BF7-91A1-11B77FA5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E16-F03A-47D7-9886-D58D1C8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6BF-39EB-4A85-BBCA-8524A18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BED-F7A3-496E-8051-233615B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DE99-40B1-49F4-B354-6B5DB9D4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403280" y="692280"/>
            <a:ext cx="61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EDUCACION COMO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CESIDAD DE L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971640" y="2924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1403280" y="2060640"/>
            <a:ext cx="5977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1.- RENOVACION DE LA VIDA POR TRANSMISI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611280" y="285264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La diferencia entre seres vivos e inanimados, es que los primeros se conservan por renov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4067280" y="2708280"/>
            <a:ext cx="432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tanto que subsiste, la lucha para utilizar en provecho propio las energías que nos rodean, utiliza, la luz, el aire , a la humedad y las materias del suelo, es decir las convierte en medios para su propia conserv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468360" y="4221000"/>
            <a:ext cx="30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Un ser vivo es aquel que domina y controla para su propia continuidad humana  las energías que en otro caso se perderí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4211640" y="4221000"/>
            <a:ext cx="3456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reproducción de otras formas de vida se prosigue en una sucesión contin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s especies, el proceso de vida continua en formas mas complejas. Algunas desaparecen y surgen formas mas avanzadas para vencer obsta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611280" y="537372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 continuidad de la vida significa una readaptación continua del ambiente  a las necesidades de los organismos v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468360" y="62064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leamos la palabra vida para designar toda la extensión de la experiencia, tanto racial como individual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48000" y="620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La vida abarca costumbres, instituciones, creencias, las victorias y derrotas, los ocios y las ocup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19640" y="1484280"/>
            <a:ext cx="3095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experiencia aplica el principio de la continuidad mediante la re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renovación de la existencia física se realiza en el caso de los seres humanos la creación de las creencias, ideales, esperanzas, la felicidad, las miserias y las pr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4000" y="2421000"/>
            <a:ext cx="4643280" cy="1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EDUCACION ES EL MEDIO DE ESTA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INUIDAD DE LA VID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55640" y="3645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 individuo nace inmaduro, indefenso, sin lenguaje, sin creencias, ideas, ni normas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515772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422100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Cada individuo, cada unidad de portadores vital de un grupo desaparece con 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211640" y="41497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nacimiento y la muerte de cada uno de los miembros constituidos de un grupo social determinan la necesidad de l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24000" y="5300640"/>
            <a:ext cx="8064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Hay un contraste : La inmadurez de los miembros recién nacidos, son los únicos representantes futuros y la madurez de los miembros adultos que posen conocimiento y las costumbres del gr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Es importante que sean iniciados en los intereses, propósitos, informaciones, destrezas y prácticas de los miembros maduros  en otro caso cesara del grupo su vida característic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187280" y="1197000"/>
            <a:ext cx="5689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- EDUCACION Y COMUNICAC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55640" y="220500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 ENSEÑAR Y APRENDER PARA LA EXISTENCIA CONTINUA DE LA SOCI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92428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ff"/>
                </a:solidFill>
                <a:latin typeface="Arial"/>
              </a:rPr>
              <a:t>Tiene la justificación en el hecho de que tal insistencia es un medio de evitar que caigamos en una noción escolástica  y formal de la edu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932360" y="2924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Las escuelas son un método importante de la transmisión  que forma las disposiciones de los seres inmadu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1835280" y="3789360"/>
            <a:ext cx="45370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sociedad existe en la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nsmisión y en 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unicación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8360" y="4797360"/>
            <a:ext cx="27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La comunicación es un modo en que llegan a poseer cosas en común. Hay de poseer cosas en común a fin de formar una comunidad o son los objetivos, creencias, aspiraciones, _inteligencia en comú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24360" y="5229360"/>
            <a:ext cx="4895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Los individuos no constituyen un grupo social porque trabajen todos en el mismo lug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c0000"/>
                </a:solidFill>
                <a:latin typeface="Arial"/>
              </a:rPr>
              <a:t>El fin común regula las actividades especificas en vista de el, entonces  forman una comun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8100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individuos se utilizan unos a otros  para obtener los resultados apetecidos sin  tomar en cuenta disposiciones  emocionales e intelectuales  y el consentimiento de los utiliz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1004400">
            <a:off x="4066920" y="1628640"/>
            <a:ext cx="43909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ioridad fisica o de posicion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trezas, habilidad técnica 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 dominio de instrumentos,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anismos o fiscales.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268360" y="2327400"/>
            <a:ext cx="4484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 experiencia debe de formularse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ra ser  comunicada.</a:t>
            </a:r>
            <a:endParaRPr b="0" lang="en-US" sz="800" spc="1" strike="noStrike">
              <a:ln w="0">
                <a:noFill/>
              </a:ln>
              <a:solidFill>
                <a:srgbClr val="00cc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42900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00"/>
                </a:solidFill>
                <a:latin typeface="Arial"/>
              </a:rPr>
              <a:t>La vida social amplia  e ilumina la experiencia, estimula y enriquece, la imaginación, crea  responsabilidad respecto  ala preescisión y la vivacidad de expresión del pens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211640" y="4005360"/>
            <a:ext cx="4248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La necesidad de esta enseñanza proporciona un inmenso estimulo  para reducir la experiencia  a aquel orden  y forma que hará más fáci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Comunicable y por lo tanto mas utiliz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1258920" y="692280"/>
            <a:ext cx="67690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- EL LUGAR DE LA EDUCACIÓN SISTEMATICA.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916280"/>
            <a:ext cx="26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00ff"/>
                </a:solidFill>
                <a:latin typeface="Arial"/>
              </a:rPr>
              <a:t>La educación que cada uno obtiene de vivir con los demás  y la educación deliberada del jov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191628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99"/>
                </a:solidFill>
                <a:latin typeface="Arial"/>
              </a:rPr>
              <a:t>Toda institución social sea económica, doméstica, política, legal o religiosa  amplia y perfecciona la experi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71640" y="292428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necesidad del adiestramiento para producir un cambio su actitud y hábitos es demasiado urgente para prescindir completamente de las consecuencias. Nuestro principal quehacer es el de capacitarse para compartir una vida en comú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393372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En los grupos sociales no desarrollamos encontramos muy poca enseñanza y adiestrami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56000" y="3789360"/>
            <a:ext cx="3456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n su mayor parte depende de los niños aprendan las costumbr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Esta participación es directa y es indirecta a través del juego, en donde reproducen acciones de los adul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55640" y="5300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La capacidad para participar en actividades adultas depende de un adiestramiento previo, que se otorga a organizaciones institucionales intencionadas (escue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1116000" y="981000"/>
            <a:ext cx="71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educación sistematica  no 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ible transmitir todos los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ursos y adquisiciones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na sociedad compleja.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2276640"/>
            <a:ext cx="34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9900"/>
                </a:solidFill>
                <a:latin typeface="Arial"/>
              </a:rPr>
              <a:t>Existe el peligro de que el material de instrucción sistemática meramente el tema de estudio  de las escuelas, aislando los temas de las experiencias de la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572000" y="2276640"/>
            <a:ext cx="367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a  filosofía de la educación  es el método de mantener en equilibrio entre los modos de educación espontáneos  y los sistemáticos, los incidentales y los inten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835280" y="4221000"/>
            <a:ext cx="597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ERDADERA NATURALEZA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VIDA CONSISTE EN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CHAR PARA  SEGUIR SIENDO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TA CONTINUACIÓN SE ASEGURA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R RENOVACIONES .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IDA ES UN PROCESO DE AUTORRENOVACIÓN. </a:t>
            </a:r>
            <a:endParaRPr b="0" lang="en-US" sz="1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1692360" y="53737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NUTRICION Y LA REPRODUCCI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SON LA VIDA FISIOLOGICA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16b55"/>
                </a:solidFill>
                <a:latin typeface="Arial Black"/>
              </a:rPr>
              <a:t>LA EDUCACION ES LA VIDA SOCIAL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16b5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29:17Z</dcterms:created>
  <dc:creator>LILI</dc:creator>
  <dc:description/>
  <dc:language>en-US</dc:language>
  <cp:lastModifiedBy>Carmen Galicia</cp:lastModifiedBy>
  <dcterms:modified xsi:type="dcterms:W3CDTF">2008-07-17T16:52:54Z</dcterms:modified>
  <cp:revision>60</cp:revision>
  <dc:subject/>
  <dc:title>Diapositiva 1</dc:title>
</cp:coreProperties>
</file>