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897-C91F-4062-A182-74C2DEAB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987-863C-45E1-A003-0E2ACFB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E9D-5F11-4FB4-A540-A33FC02F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00-339D-4FDD-9284-B6E638EA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8AF-90A9-4055-965E-3D82F8AF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A6E-5E2E-4572-A1AB-C1B643A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465C-6D8D-4711-AC91-A49EF73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A17-2EAC-4844-B693-3619C7F2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A369-207F-4D5E-A94E-85C04A4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FB53-0AD3-49E7-8322-104C36A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A6B5-EC88-4761-AF3A-2868AD9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5B2-EA83-404F-B977-6F2631B4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238F-38ED-4D5B-93F9-3C490B2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BBE3-2AE4-410D-B6D9-0D7C9A3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8DD-0E41-4422-AEC9-7EF7501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474-D53F-4A5C-B986-695DF35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496-8182-4D91-95F2-9B67B60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50A-9234-43B5-9504-3DFCC894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FA6-0276-4D82-9D90-1CACE17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A6A-DBA5-47F2-B83D-8A86FF86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52E-5BF2-44AB-BED1-54B0B6AE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AD8-8431-4A8B-8BE1-67437BF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C21-A844-4B07-B2B3-EAFFDAB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FCC-F6E7-487D-AA58-F8B8778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8BD0-CF81-48F5-B5B5-EA6D1320DCDD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35A-36C4-48B3-81BD-576483570870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LA OBRA PEDAGOGICA DE DURKHEI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uconnet, Paul (19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un ente social, pone en contacto al niño con una sociedad determina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sta universitaria o humanista: subordinar fines nacionales a humanos, o armoniz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La proposición de Durkhei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proche a la sociología de alentar nacionalismo estrecho, inmolar intereses de la humanidad en provecho de los del Estado, de un régimen polít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sión educar hijos para la Pa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ción liberal y huma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ucar a los hijos para la huma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tagonismo entre: educación social- educación humana, sociedad – humanida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les es el valor relativo de los deberes para con la Humanidad y de los deberes para con  la Pat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echo 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aría de cad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da sociedad se forj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dea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l cu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epa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los mas recóndito de los niños las condiciones de su propia exist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es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ción ejercid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or las generaciones adultas sobre aquellas que no que no han alcanzado aún  un grado de madurez suficiente para desenvolverse en la vida social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por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jeto suscitar y desarrol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cierto numero de estados físicos, intelectuales y  morales que exigen la sociedad política, así como el medio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iz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da uno de nosotros existe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s se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sta constituido por lo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dos ment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los acontecimiento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da particul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ser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otro, es un sistema de ideas, sentimientos, y de costumbres, que expresan en nosotros el grupo del que somos integrantes: creencias religiosas, opiniones, practicas morales, tradiciones nacionales o profesionales.  Su conjunto forman el SER SOCI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ituir el ese ser en cada uno es la META de la educ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iviliz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hombre no pasaría de ser un ani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través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operación y tradi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ociales el hombre se ha hecho homb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ralidades, lenguajes, religiones, ciencias, so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tes soci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Diagram 6"/>
          <p:cNvGrpSpPr/>
          <p:nvPr/>
        </p:nvGrpSpPr>
        <p:grpSpPr>
          <a:xfrm>
            <a:off x="969840" y="466560"/>
            <a:ext cx="7131240" cy="4307040"/>
            <a:chOff x="969840" y="466560"/>
            <a:chExt cx="7131240" cy="4307040"/>
          </a:xfrm>
        </p:grpSpPr>
        <p:sp>
          <p:nvSpPr>
            <p:cNvPr id="110" name="_s1028"/>
            <p:cNvSpPr/>
            <p:nvPr/>
          </p:nvSpPr>
          <p:spPr>
            <a:xfrm>
              <a:off x="3441600" y="1230480"/>
              <a:ext cx="2187720" cy="21873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46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29"/>
            <p:cNvSpPr/>
            <p:nvPr/>
          </p:nvSpPr>
          <p:spPr>
            <a:xfrm>
              <a:off x="3681360" y="46656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nguaj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ev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itiv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30"/>
            <p:cNvSpPr/>
            <p:nvPr/>
          </p:nvSpPr>
          <p:spPr>
            <a:xfrm>
              <a:off x="4160880" y="2478240"/>
              <a:ext cx="2187360" cy="218736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468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6391440" y="4226040"/>
              <a:ext cx="1709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ig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eg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enci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ción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c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rdinale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stituy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ligenc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2720880" y="2476440"/>
              <a:ext cx="2187720" cy="2187720"/>
            </a:xfrm>
            <a:prstGeom prst="ellipse">
              <a:avLst/>
            </a:prstGeom>
            <a:solidFill>
              <a:srgbClr val="00cc00">
                <a:alpha val="50000"/>
              </a:srgbClr>
            </a:solidFill>
            <a:ln w="4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3"/>
            <p:cNvSpPr/>
            <p:nvPr/>
          </p:nvSpPr>
          <p:spPr>
            <a:xfrm>
              <a:off x="969840" y="4227480"/>
              <a:ext cx="17100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A travès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moral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Hombre forja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volunt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e sobrepone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des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mis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atributos propios del hombre se realiza a través de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í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como sociales son ellos :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uc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epción sociológica de la naturaleza y papel que desempeña la educ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ta de crear hombres de acuerdo con el tipo ideal del hombre que implica dicha civilización y también para la humanid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ducación vista como cosa individual por excel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ce Durkheim: “Para Kant, Mill, Herbart y Spencer, la educaciòn tiene por objeto el realizar, en cada individuo, pero aupándolo, a su màs alto punto de perfecciòn posible, los atributos constitutivos de la especie humana en general” (pag. 0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21:13:09Z</dcterms:created>
  <dc:creator>REYES GALICIA</dc:creator>
  <dc:description/>
  <dc:language>en-US</dc:language>
  <cp:lastModifiedBy>Carmen Galicia</cp:lastModifiedBy>
  <dcterms:modified xsi:type="dcterms:W3CDTF">2008-07-17T16:28:41Z</dcterms:modified>
  <cp:revision>3</cp:revision>
  <dc:subject/>
  <dc:title>LA OBRA PEDAGOGICA DE DURKHEIM</dc:title>
</cp:coreProperties>
</file>