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648-B6A5-4AE5-A2C1-8BEC73DB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E0C-9A4A-4451-9228-46D003C7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F1B-BEFC-4B5C-BF5B-A5E5FBCB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5E2-0816-46F5-98B5-E2916062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BA8-B280-4174-B00D-EB7CEE4D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188E-4AF7-4512-AF34-93DE841D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FA8D-6B39-4277-8926-22724F74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CBE5-62BD-4F33-A6BA-73B8E5DD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FCD1-E69B-4285-BCEF-0E7C99E3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F172-A954-49AF-89E0-3709BAD1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B409-87EC-4F39-B493-C1A32A7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B5D-D9E9-441C-8D58-406EE772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E364-1F8E-4B9D-A04D-251C2B66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0873-5C1D-409C-921B-B4B31BDD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DE66-6E7E-4676-9C15-13ECDF89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E338-E8FA-4986-9F3E-EF61C470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027B-C14C-44F7-BF0A-0657C9E0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3C1-2830-4DB1-B77F-7CB450A9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7C8-2562-4D64-812B-50CF31F1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1EB-64FD-4DDE-B788-3688F8F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B54-F677-46F7-88FD-46FB1F2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C17-B5A4-4A68-882F-DD2BB64A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5CF-1985-4251-AA73-F6E47843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F3B-6CEF-44B6-ACD6-B26AF279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ABAF-0227-4CE6-B274-936CB5701BA0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D737-2BED-497E-AEB6-870F17DCE9A5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LA OBRA PEDAGOGICA DE DURKHEI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auconnet, Paul (19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es un ente social, pone en contacto al niño con una sociedad determinad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testa universitaria o humanista: subordinar fines nacionales a humanos, o armonizar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La proposición de Durkhei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proche a la sociología de alentar nacionalismo estrecho, inmolar intereses de la humanidad en provecho de los del Estado, de un régimen polít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isión educar hijos para la Pa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ucación liberal y human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ucar a los hijos para la human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tagonismo entre: educación social- educación humana, sociedad – humanida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uáles es el valor relativo de los deberes para con la Humanidad y de los deberes para con  la Pat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echo soci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varía de cada soci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da sociedad se forj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deal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homb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di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través del cua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epa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los mas recóndito de los niños las condiciones de su propia exist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es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cción ejercid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or las generaciones adultas sobre aquellas que no que no han alcanzado aún  un grado de madurez suficiente para desenvolverse en la vida social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ene por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bjeto suscitar y desarrol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 cierto numero de estados físicos, intelectuales y  morales que exigen la sociedad política, así como el medio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iz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ada uno de nosotros existe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os ser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sta constituido por lo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ados ment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los acontecimientos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da particu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ser indivi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otro, es un sistema de ideas, sentimientos, y de costumbres, que expresan en nosotros el grupo del que somos integrantes: creencias religiosas, opiniones, practicas morales, tradiciones nacionales o profesionales.  Su conjunto forman el SER SOCIAL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stituir el ese ser en cada uno es la META de la educ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iviliz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hombre no pasaría de ser un ani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través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operación y tradi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ciales el hombre se ha hecho homb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ralidades, lenguajes, religiones, ciencias, so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tes soci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Diagram 6"/>
          <p:cNvGrpSpPr/>
          <p:nvPr/>
        </p:nvGrpSpPr>
        <p:grpSpPr>
          <a:xfrm>
            <a:off x="969840" y="466560"/>
            <a:ext cx="7131240" cy="4307040"/>
            <a:chOff x="969840" y="466560"/>
            <a:chExt cx="7131240" cy="4307040"/>
          </a:xfrm>
        </p:grpSpPr>
        <p:sp>
          <p:nvSpPr>
            <p:cNvPr id="110" name="_s1028"/>
            <p:cNvSpPr/>
            <p:nvPr/>
          </p:nvSpPr>
          <p:spPr>
            <a:xfrm>
              <a:off x="3441600" y="1230480"/>
              <a:ext cx="2187720" cy="218736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46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29"/>
            <p:cNvSpPr/>
            <p:nvPr/>
          </p:nvSpPr>
          <p:spPr>
            <a:xfrm>
              <a:off x="3681360" y="466560"/>
              <a:ext cx="1709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nguaj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ev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sitiv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030"/>
            <p:cNvSpPr/>
            <p:nvPr/>
          </p:nvSpPr>
          <p:spPr>
            <a:xfrm>
              <a:off x="4160880" y="2478240"/>
              <a:ext cx="2187360" cy="218736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468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31"/>
            <p:cNvSpPr/>
            <p:nvPr/>
          </p:nvSpPr>
          <p:spPr>
            <a:xfrm>
              <a:off x="6391440" y="4226040"/>
              <a:ext cx="1709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o 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ligi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ueg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ienci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aboración 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ci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rdinale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stituy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ligenci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2720880" y="2476440"/>
              <a:ext cx="2187720" cy="2187720"/>
            </a:xfrm>
            <a:prstGeom prst="ellipse">
              <a:avLst/>
            </a:prstGeom>
            <a:solidFill>
              <a:srgbClr val="00cc00">
                <a:alpha val="50000"/>
              </a:srgbClr>
            </a:solidFill>
            <a:ln w="4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33"/>
            <p:cNvSpPr/>
            <p:nvPr/>
          </p:nvSpPr>
          <p:spPr>
            <a:xfrm>
              <a:off x="969840" y="4227480"/>
              <a:ext cx="17100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A travès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moral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Hombre forja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volunt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e sobrepone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des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mis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atributos propios del hombre se realiza a través de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í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 e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como sociales son ellos :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cepción sociológica de la naturaleza y papel que desempeña la educaci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ata de crear hombres de acuerdo con el tipo ideal del hombre que implica dicha civilización y también para la humanid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vista como cosa individual por excel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ce Durkheim: “Para Kant, Mill, Herbart y Spencer, la educaciòn tiene por objeto el realizar, en cada individuo, pero aupándolo, a su màs alto punto de perfecciòn posible, los atributos constitutivos de la especie humana en general” (pag. 0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21:13:09Z</dcterms:created>
  <dc:creator>REYES GALICIA</dc:creator>
  <dc:description/>
  <dc:language>en-US</dc:language>
  <cp:lastModifiedBy>Carmen Galicia</cp:lastModifiedBy>
  <dcterms:modified xsi:type="dcterms:W3CDTF">2008-07-17T16:28:41Z</dcterms:modified>
  <cp:revision>3</cp:revision>
  <dc:subject/>
  <dc:title>LA OBRA PEDAGOGICA DE DURKHEIM</dc:title>
</cp:coreProperties>
</file>