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8355-2F0B-47BC-B418-C99CC47BA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BC83-EDD7-497F-B13E-F7517267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6CE0-8012-4C31-B0C4-CD297404A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79B2-C45C-4E8D-870D-22F5E3773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3BE9-813D-4961-B91B-63C76E716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EDE5A-D899-4EE8-BF85-B33B72B5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A9AF-51E4-4634-8821-D4BA386B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F5FBA-9656-499B-A958-CFC3A64A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55D70-8ADA-4649-9167-27E1FAAB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061B-700E-443A-A4AA-C2FAF413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4E69-276A-4D64-AA9F-470F6C28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EF97-2A71-4DAB-A34F-61532B2D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440B-45C5-44E9-A074-6CEE00CF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3F40C-E791-4B63-A003-A02EEDC4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9F16-8187-4A05-8EB7-DE2536B5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393D-0A6E-4562-9596-724A76152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E4443-F2E0-4765-8877-B8023138A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6FFF-21B5-4D25-B94F-E4A3C8C6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E739-BC41-4294-8AD4-F2CE014B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7FF7-8A61-4436-8C6B-78187BCD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93CB-1FC3-439D-BA48-F27E5723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FC04-0D85-4358-B8BE-60083FFB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856B-6E56-49DC-A8CA-1CAC253E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AF8D-3ADB-420A-A78F-66C998F5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4CA9-4856-453A-B10A-3D8DF55932EA}" type="slidenum">
              <a:rPr b="0" lang="es-MX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8058-F287-4743-8A47-2E5E9E3C270E}" type="slidenum">
              <a:rPr b="0" lang="es-MX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b7"/>
                </a:solidFill>
                <a:latin typeface="Arial Black"/>
              </a:rPr>
              <a:t>LA OBRA PEDAGOGICA DE DURKHEIM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727280" y="4020840"/>
            <a:ext cx="6229440" cy="16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Fauconnet, Paul (199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educación es un ente social, pone en contacto al niño con una sociedad determinad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otesta universitaria o humanista: subordinar fines nacionales a humanos, o armonizarl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La proposición de Durkhei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30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proche a la sociología de alentar nacionalismo estrecho, inmolar intereses de la humanidad en provecho de los del Estado, de un régimen polític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isión educar hijos para la Patr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15080" y="1904760"/>
            <a:ext cx="3930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ducación liberal y humani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ducar a los hijos para la human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ntagonismo entre: educación social- educación humana, sociedad – humanidad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¿Cuáles es el valor relativo de los deberes para con la Humanidad y de los deberes para con  la Patri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ducación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un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hecho social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educación varía de cada socie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ada sociedad se forja un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ideal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 hombr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ducació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s el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medio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 través del cual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prepar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n los mas recóndito de los niños las condiciones de su propia existenci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educación es l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cción ejercid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por las generaciones adultas sobre aquellas que no que no han alcanzado aún  un grado de madurez suficiente para desenvolverse en la vida social”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iene por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objeto suscitar y desarrollar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un cierto numero de estados físicos, intelectuales y  morales que exigen la sociedad política, así como el medio so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ducació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s un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socializació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cada uno de nosotros existen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dos sere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 el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individual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soc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individual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 esta constituido por los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stados mentale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 los acontecimientos de l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vida particular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 el ser individu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otro, es un sistema de ideas, sentimientos, y de costumbres, que expresan en nosotros el grupo del que somos integrantes: creencias religiosas, opiniones, practicas morales, tradiciones nacionales o profesionales.  Su conjunto forman el SER SOCIAL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nstituir el ese ser en cada uno es la META de la educació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in l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civilizació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 el hombre no pasaría de ser un anima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 través de l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cooperación y tradició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sociales el hombre se ha hecho hombr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oralidades, lenguajes, religiones, ciencias, son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ntes sociale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Diagram 6"/>
          <p:cNvGrpSpPr/>
          <p:nvPr/>
        </p:nvGrpSpPr>
        <p:grpSpPr>
          <a:xfrm>
            <a:off x="969840" y="466560"/>
            <a:ext cx="7131240" cy="4307040"/>
            <a:chOff x="969840" y="466560"/>
            <a:chExt cx="7131240" cy="4307040"/>
          </a:xfrm>
        </p:grpSpPr>
        <p:sp>
          <p:nvSpPr>
            <p:cNvPr id="110" name="_s1028"/>
            <p:cNvSpPr/>
            <p:nvPr/>
          </p:nvSpPr>
          <p:spPr>
            <a:xfrm>
              <a:off x="3441600" y="1230480"/>
              <a:ext cx="2187720" cy="2187360"/>
            </a:xfrm>
            <a:prstGeom prst="ellipse">
              <a:avLst/>
            </a:prstGeom>
            <a:solidFill>
              <a:srgbClr val="ffff66">
                <a:alpha val="50000"/>
              </a:srgbClr>
            </a:solidFill>
            <a:ln w="46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1029"/>
            <p:cNvSpPr/>
            <p:nvPr/>
          </p:nvSpPr>
          <p:spPr>
            <a:xfrm>
              <a:off x="3681360" y="466560"/>
              <a:ext cx="17096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enguaje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leva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ensitiv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1030"/>
            <p:cNvSpPr/>
            <p:nvPr/>
          </p:nvSpPr>
          <p:spPr>
            <a:xfrm>
              <a:off x="4160880" y="2478240"/>
              <a:ext cx="2187360" cy="2187360"/>
            </a:xfrm>
            <a:prstGeom prst="ellipse">
              <a:avLst/>
            </a:prstGeom>
            <a:solidFill>
              <a:srgbClr val="99ff66">
                <a:alpha val="50000"/>
              </a:srgbClr>
            </a:solidFill>
            <a:ln w="468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_s1031"/>
            <p:cNvSpPr/>
            <p:nvPr/>
          </p:nvSpPr>
          <p:spPr>
            <a:xfrm>
              <a:off x="6391440" y="4226040"/>
              <a:ext cx="17096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no de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ligion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uego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ienci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laboración de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ocion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ardinales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stituye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teligencia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032"/>
            <p:cNvSpPr/>
            <p:nvPr/>
          </p:nvSpPr>
          <p:spPr>
            <a:xfrm>
              <a:off x="2720880" y="2476440"/>
              <a:ext cx="2187720" cy="2187720"/>
            </a:xfrm>
            <a:prstGeom prst="ellipse">
              <a:avLst/>
            </a:prstGeom>
            <a:solidFill>
              <a:srgbClr val="00cc00">
                <a:alpha val="50000"/>
              </a:srgbClr>
            </a:solidFill>
            <a:ln w="468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1033"/>
            <p:cNvSpPr/>
            <p:nvPr/>
          </p:nvSpPr>
          <p:spPr>
            <a:xfrm>
              <a:off x="969840" y="4227480"/>
              <a:ext cx="17100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A travès </a:t>
              </a: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moralida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Hombre forja </a:t>
              </a: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volunta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se sobrepone</a:t>
              </a: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 des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transmisió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de atributos propios del hombre se realiza a través de un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ví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que es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social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 como sociales son ellos : l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ducació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ncepción sociológica de la naturaleza y papel que desempeña la educació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rata de crear hombres de acuerdo con el tipo ideal del hombre que implica dicha civilización y también para la humanida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educación vista como cosa individual por excelenci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ice Durkheim: “Para Kant, Mill, Herbart y Spencer, la educaciòn tiene por objeto el realizar, en cada individuo, pero aupándolo, a su màs alto punto de perfecciòn posible, los atributos constitutivos de la especie humana en general” (pag. 03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0T21:13:09Z</dcterms:created>
  <dc:creator>REYES GALICIA</dc:creator>
  <dc:description/>
  <dc:language>en-US</dc:language>
  <cp:lastModifiedBy>Carmen Galicia</cp:lastModifiedBy>
  <dcterms:modified xsi:type="dcterms:W3CDTF">2008-07-17T16:28:41Z</dcterms:modified>
  <cp:revision>3</cp:revision>
  <dc:subject/>
  <dc:title>LA OBRA PEDAGOGICA DE DURKHEIM</dc:title>
</cp:coreProperties>
</file>