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58A3-72BD-45E6-95F3-D532C58B71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79B5-E807-4E63-8A1A-9CBA8FE12E4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C65-1A0E-40E3-A030-77E013D2E92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6BE-7E02-4097-817C-2F8BE467E1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45E-6E5D-4404-8644-9AC6BB6ADEE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B40B-F120-4AF9-B1A2-BE60D6E6D74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6DB-82A5-4545-9A73-2423B9BEFED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93D-BE0C-41D3-AD49-984CA5D5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19A-1386-49EE-9013-7FEE70D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8CC-CE8E-4AE5-A47C-1BDB9283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58F-0758-4404-968B-F08AB02A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F687-C53D-4952-96B3-A638A032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3D7D-9DE0-4B67-85E7-906C8F8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07C-A2B6-45C7-8EC0-92A3CD2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136-5B98-41E8-BAD4-3514A3F0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1F56-21C6-41FA-A4CD-E3841CA7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07CA-7B28-4640-8303-23BC2C1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00E3-41C2-4B7C-B2F8-3027B98D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37A-2F7C-4228-825E-1D2B4A3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DF7-D707-4B4C-80B9-54DDC24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B47-84F3-4066-A9C2-F79F85D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63A-FB6A-4962-B894-BC70A322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9DE5-F411-4A97-BE27-3B85F20B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733-A901-4C93-B5DE-1FA34F0E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33B-ACA7-478E-860B-76F26FB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5D2-436F-413A-9306-4522B7D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054-EB83-489E-ADA3-AE703068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3E1-D22F-42EF-B1AE-81774A7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B0C-F01B-4AC4-9247-533433D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BFB-E85B-41DD-9468-D0125FE0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65D-1BF9-4E59-8D01-0A1E8CA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88F6-08BB-46F0-9EBF-C1566ED13666}" type="slidenum">
              <a:rPr b="0" lang="es-MX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E99-79C8-4854-A99C-4B218055671C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cc"/>
                </a:solidFill>
                <a:latin typeface="Tahoma"/>
              </a:rPr>
              <a:t>EDUCACIÓ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4" descr="Explorar0059"/>
          <p:cNvPicPr/>
          <p:nvPr/>
        </p:nvPicPr>
        <p:blipFill>
          <a:blip r:embed="rId1"/>
          <a:stretch/>
        </p:blipFill>
        <p:spPr>
          <a:xfrm>
            <a:off x="971640" y="1341360"/>
            <a:ext cx="7343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Explorar0061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Explorar0062"/>
          <p:cNvPicPr/>
          <p:nvPr/>
        </p:nvPicPr>
        <p:blipFill>
          <a:blip r:embed="rId1"/>
          <a:stretch/>
        </p:blipFill>
        <p:spPr>
          <a:xfrm>
            <a:off x="1042920" y="476280"/>
            <a:ext cx="7632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Explorar0063"/>
          <p:cNvPicPr/>
          <p:nvPr/>
        </p:nvPicPr>
        <p:blipFill>
          <a:blip r:embed="rId1"/>
          <a:stretch/>
        </p:blipFill>
        <p:spPr>
          <a:xfrm>
            <a:off x="969840" y="1725480"/>
            <a:ext cx="72741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Explorar0064"/>
          <p:cNvPicPr/>
          <p:nvPr/>
        </p:nvPicPr>
        <p:blipFill>
          <a:blip r:embed="rId1"/>
          <a:stretch/>
        </p:blipFill>
        <p:spPr>
          <a:xfrm>
            <a:off x="682560" y="260280"/>
            <a:ext cx="77770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Explorar0065"/>
          <p:cNvPicPr/>
          <p:nvPr/>
        </p:nvPicPr>
        <p:blipFill>
          <a:blip r:embed="rId1"/>
          <a:stretch/>
        </p:blipFill>
        <p:spPr>
          <a:xfrm>
            <a:off x="611280" y="476280"/>
            <a:ext cx="7777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5:27Z</dcterms:created>
  <dc:creator>marco</dc:creator>
  <dc:description/>
  <dc:language>en-US</dc:language>
  <cp:lastModifiedBy>Carmen Galicia</cp:lastModifiedBy>
  <dcterms:modified xsi:type="dcterms:W3CDTF">2008-07-17T16:35:35Z</dcterms:modified>
  <cp:revision>4</cp:revision>
  <dc:subject/>
  <dc:title>Diapositiva 1</dc:title>
</cp:coreProperties>
</file>