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392C-FECA-4B22-8DE5-C56947A91805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E476-F046-4BCC-980E-D82CF581C7C8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9267-ECD6-47E4-89DD-FAAF374A9056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D7D7-1122-466C-8190-4AC0370A593A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F3C2-CC48-49F8-B126-482DEFC0D258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2DAE-16E1-4B1F-8999-26F1AAECE5D9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8D7E-DA94-4E6A-8972-F550080118A9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662B-47A2-48F7-95DD-CA0C96995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7C18-D122-4B55-87D2-22F660C6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7B59-B741-4B60-A30A-0F70EC90D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E483-AAE3-44B8-8E45-DC48E952D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0E2C-3F06-4F11-B95D-DF89BDD53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B971-B5A9-49DE-B8CE-8A8BE6FC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4EE0-4CE4-479D-8C6B-7F99CD34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537B-CF74-4D87-8D6E-81BE9440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BCB1-49ED-4FC8-BDF2-0077070A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9A5D-E170-4D38-BDDA-D81BE398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A176-A806-4AC7-B4D0-142EEFA9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82A4-2750-47CB-BB65-7B0110A9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45B6-913C-4644-987F-30C08234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410A-9BD3-43C3-B0C2-52291E4C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62465-46B6-45DF-92DB-65465E4C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86F1-EE60-4467-8917-13ED37043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56CA-0CE6-41FB-A447-B496ACA04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5193-73EB-4953-A04B-93B455A3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BE16-E7C0-46A8-BFA7-22A0A18B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8F77-D774-4B5B-BBA4-AC4888AF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ACEC-182B-4A71-8173-E2B1B39E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1B42-3F0D-4FDF-B5EC-CC7E4CB9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7DE8-5478-420B-9665-2415CBEE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15D3-C67E-4F8C-BCE9-0DC18839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7582-5F39-41B8-A966-29F8BEDD2CB1}" type="slidenum">
              <a:rPr b="0" lang="es-MX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6B41-F166-4047-932E-8C491D1B21FE}" type="slidenum">
              <a:rPr b="0" lang="es-MX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ffffcc"/>
                </a:solidFill>
                <a:latin typeface="Tahoma"/>
              </a:rPr>
              <a:t>EDUCACIÓ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1" name="Picture 4" descr="Explorar0059"/>
          <p:cNvPicPr/>
          <p:nvPr/>
        </p:nvPicPr>
        <p:blipFill>
          <a:blip r:embed="rId1"/>
          <a:stretch/>
        </p:blipFill>
        <p:spPr>
          <a:xfrm>
            <a:off x="971640" y="1341360"/>
            <a:ext cx="73436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4" descr="Explorar0061"/>
          <p:cNvPicPr/>
          <p:nvPr/>
        </p:nvPicPr>
        <p:blipFill>
          <a:blip r:embed="rId1"/>
          <a:stretch/>
        </p:blipFill>
        <p:spPr>
          <a:xfrm>
            <a:off x="684360" y="476280"/>
            <a:ext cx="75596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4" descr="Explorar0062"/>
          <p:cNvPicPr/>
          <p:nvPr/>
        </p:nvPicPr>
        <p:blipFill>
          <a:blip r:embed="rId1"/>
          <a:stretch/>
        </p:blipFill>
        <p:spPr>
          <a:xfrm>
            <a:off x="1042920" y="476280"/>
            <a:ext cx="76327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Explorar0063"/>
          <p:cNvPicPr/>
          <p:nvPr/>
        </p:nvPicPr>
        <p:blipFill>
          <a:blip r:embed="rId1"/>
          <a:stretch/>
        </p:blipFill>
        <p:spPr>
          <a:xfrm>
            <a:off x="969840" y="1725480"/>
            <a:ext cx="727416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4" descr="Explorar0064"/>
          <p:cNvPicPr/>
          <p:nvPr/>
        </p:nvPicPr>
        <p:blipFill>
          <a:blip r:embed="rId1"/>
          <a:stretch/>
        </p:blipFill>
        <p:spPr>
          <a:xfrm>
            <a:off x="682560" y="260280"/>
            <a:ext cx="7777080" cy="61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4" descr="Explorar0065"/>
          <p:cNvPicPr/>
          <p:nvPr/>
        </p:nvPicPr>
        <p:blipFill>
          <a:blip r:embed="rId1"/>
          <a:stretch/>
        </p:blipFill>
        <p:spPr>
          <a:xfrm>
            <a:off x="611280" y="476280"/>
            <a:ext cx="7777080" cy="59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7T18:45:27Z</dcterms:created>
  <dc:creator>marco</dc:creator>
  <dc:description/>
  <dc:language>en-US</dc:language>
  <cp:lastModifiedBy>Carmen Galicia</cp:lastModifiedBy>
  <dcterms:modified xsi:type="dcterms:W3CDTF">2008-07-17T16:35:35Z</dcterms:modified>
  <cp:revision>4</cp:revision>
  <dc:subject/>
  <dc:title>Diapositiva 1</dc:title>
</cp:coreProperties>
</file>