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B3F-8A4C-41B5-829D-50FA67CB8B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FFF2-4B4E-48E8-B7AE-6462603CFBA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08BB-FDA1-4B27-99EF-F5B066DB24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1C6D-A325-4B69-8632-EA41F7B5BA2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473-9A90-4E8D-9F73-95CF767D7B3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0D2-5D33-4F4E-A3CE-5AAFC33F7E2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BF1-8F3D-40AC-B256-925AFD07719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920-9014-4CDD-90ED-8A1A259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009-60D7-491C-A99F-7B7AABC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134-A59C-40B6-9E46-FB4621F8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9B0-8EFF-4749-BEAE-B68DD33E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AC8E-9EF2-404C-9A62-395FE654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C07-2F7B-4C9A-A58F-76A04F2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9A17-8F89-4ACB-B34A-BC10130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12F-1679-41CA-9B63-482EC820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D835-922C-4CAC-9547-D375661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E8A-A381-46F2-B807-304434B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F44-3C1B-4008-9C91-0B184C0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10A-6C16-4F78-8D70-91818464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4583-C00C-4ED1-B554-CC73BDE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F33-1C8C-41F7-8D29-17C5125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AE5-FC11-4D86-A12A-37EF7EEB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4F4F-F628-4943-BBF1-C540B7B5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1D5-2F30-4B7B-A88E-09E6722E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896-DC07-4C30-86EA-FDE249FA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9C4-E2AA-4B0A-B146-DD1382E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440-3B92-458A-AE74-7B8587A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711-0AF0-43C3-B657-2F126A2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6E2-FFC4-4B69-8EF5-325BABF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99D-C1B7-42E2-8E96-D2D497A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B28-45B1-48D0-B8DD-D40E626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C32-1F78-4144-82AE-0AF7723DC81C}" type="slidenum">
              <a:rPr b="0" lang="es-MX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56D3-7DA2-4F7C-9C27-D6F9A5BB5F57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cc"/>
                </a:solidFill>
                <a:latin typeface="Tahoma"/>
              </a:rPr>
              <a:t>EDUCACIÓ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4" descr="Explorar0059"/>
          <p:cNvPicPr/>
          <p:nvPr/>
        </p:nvPicPr>
        <p:blipFill>
          <a:blip r:embed="rId1"/>
          <a:stretch/>
        </p:blipFill>
        <p:spPr>
          <a:xfrm>
            <a:off x="971640" y="1341360"/>
            <a:ext cx="7343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Explorar0061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Explorar0062"/>
          <p:cNvPicPr/>
          <p:nvPr/>
        </p:nvPicPr>
        <p:blipFill>
          <a:blip r:embed="rId1"/>
          <a:stretch/>
        </p:blipFill>
        <p:spPr>
          <a:xfrm>
            <a:off x="1042920" y="476280"/>
            <a:ext cx="7632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Explorar0063"/>
          <p:cNvPicPr/>
          <p:nvPr/>
        </p:nvPicPr>
        <p:blipFill>
          <a:blip r:embed="rId1"/>
          <a:stretch/>
        </p:blipFill>
        <p:spPr>
          <a:xfrm>
            <a:off x="969840" y="1725480"/>
            <a:ext cx="72741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Explorar0064"/>
          <p:cNvPicPr/>
          <p:nvPr/>
        </p:nvPicPr>
        <p:blipFill>
          <a:blip r:embed="rId1"/>
          <a:stretch/>
        </p:blipFill>
        <p:spPr>
          <a:xfrm>
            <a:off x="682560" y="260280"/>
            <a:ext cx="77770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Explorar0065"/>
          <p:cNvPicPr/>
          <p:nvPr/>
        </p:nvPicPr>
        <p:blipFill>
          <a:blip r:embed="rId1"/>
          <a:stretch/>
        </p:blipFill>
        <p:spPr>
          <a:xfrm>
            <a:off x="611280" y="476280"/>
            <a:ext cx="7777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5:27Z</dcterms:created>
  <dc:creator>marco</dc:creator>
  <dc:description/>
  <dc:language>en-US</dc:language>
  <cp:lastModifiedBy>Carmen Galicia</cp:lastModifiedBy>
  <dcterms:modified xsi:type="dcterms:W3CDTF">2008-07-17T16:35:35Z</dcterms:modified>
  <cp:revision>4</cp:revision>
  <dc:subject/>
  <dc:title>Diapositiva 1</dc:title>
</cp:coreProperties>
</file>