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8216-6504-4BC8-A617-8554BC727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3136-2D15-4372-8900-6387AC83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114F-6789-44A4-A2CF-C39AEA4AE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0422-F9A4-4B63-948E-3069FF172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CAF5-4D4F-4B52-B0E9-F0CAB7AB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B1A5-D64A-44F4-B3B1-F7E4C107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F2E0-FF02-48EC-892E-BD1CC158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A370-B174-407D-9318-3B0DF235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30CC-354F-4387-9F83-62965FDF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70F4-8661-45BF-9E2D-AB913555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1408-C3E0-41F3-BE40-5D9C004A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40DE-6670-4207-BFBF-1A4A9464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E8A7-BE45-409B-A733-73E723D50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www.elpais.com/recorte/20070108elpepiedu_1/LCO340/Ies/Alumnos_secundaria.jpg&amp;imgrefurl=http://www.elpais.com/articulo/educacion/alumnos/podran/titularse/excepcionalmente/suspensos/elpepusocedu/20070108elpepiedu_3/Tes&amp;h=250&amp;w=340&amp;sz=21&amp;hl=es&amp;start=2&amp;tbnid=al_VwE2EVPGn6M:&amp;tbnh=88&amp;tbnw=119&amp;prev=/images%3Fq%3Dalumnos%2Bsecundaria%26gbv%3D2%26hl%3Des%26newwindow%3D1%26safe%3Dof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49400"/>
            <a:ext cx="8556840" cy="63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05:46:57Z</dcterms:created>
  <dc:creator>Belen Martini</dc:creator>
  <dc:description/>
  <dc:language>en-US</dc:language>
  <cp:lastModifiedBy>Belen Martini</cp:lastModifiedBy>
  <dcterms:modified xsi:type="dcterms:W3CDTF">2008-07-16T05:53:41Z</dcterms:modified>
  <cp:revision>2</cp:revision>
  <dc:subject/>
  <dc:title>Slide 1</dc:title>
</cp:coreProperties>
</file>