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65A1-5124-4130-93BB-FF7F9B1CE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E645-697D-443D-8A4E-16B66AFC9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72E8-A0F1-4E68-8635-439B86438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5A65-0DA7-4971-AB12-0184105A5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6E53-FA47-4F98-8EB6-33F76721B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C79E-84FD-4656-8AAC-0B6447DEF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6AA5-EB48-48E0-A1C5-A83514987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1DB9-9BD3-429A-9A98-AACAD379D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A37B-E23A-442E-A6D5-8C7001086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95D0-6881-44E8-A8DD-E05817373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0984-0CE4-4B34-9992-FBC7E7138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A354-0D1B-4CF6-844D-46C76F559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E0B38-3FF2-4B26-B4E2-FEF2440AD3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m.mx/imgres?imgurl=http://www.elpais.com/recorte/20070108elpepiedu_1/LCO340/Ies/Alumnos_secundaria.jpg&amp;imgrefurl=http://www.elpais.com/articulo/educacion/alumnos/podran/titularse/excepcionalmente/suspensos/elpepusocedu/20070108elpepiedu_3/Tes&amp;h=250&amp;w=340&amp;sz=21&amp;hl=es&amp;start=2&amp;tbnid=al_VwE2EVPGn6M:&amp;tbnh=88&amp;tbnw=119&amp;prev=/images%3Fq%3Dalumnos%2Bsecundaria%26gbv%3D2%26hl%3Des%26newwindow%3D1%26safe%3Doff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880" y="149400"/>
            <a:ext cx="8556840" cy="632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6T05:46:57Z</dcterms:created>
  <dc:creator>Belen Martini</dc:creator>
  <dc:description/>
  <dc:language>en-US</dc:language>
  <cp:lastModifiedBy>Belen Martini</cp:lastModifiedBy>
  <dcterms:modified xsi:type="dcterms:W3CDTF">2008-07-16T05:53:41Z</dcterms:modified>
  <cp:revision>2</cp:revision>
  <dc:subject/>
  <dc:title>Slide 1</dc:title>
</cp:coreProperties>
</file>