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E31-FBB3-4EAE-A763-1F679D7F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D5F-1E79-4BA0-AB68-24287B38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6012-7284-4407-BDA5-F0B92CF5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BAB7-057C-4A45-8F5E-CABF824E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A03-F9B3-4D12-9901-B705258F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D6F4-16E5-4C94-BA9C-C8862667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924-1640-429B-AFB8-2D9A2711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15F-52F5-4EAB-820B-095F184A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3B3-C8A1-4DC9-B59C-97BEB278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5EAC-36B3-4764-BDF3-47E9AA52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689-33A4-46E9-A6D9-FFC82C58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1CF-66D5-449A-9173-81B7A9CC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1FA0-1CF1-4514-9A3E-1FFC22D3A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elpais.com/recorte/20070108elpepiedu_1/LCO340/Ies/Alumnos_secundaria.jpg&amp;imgrefurl=http://www.elpais.com/articulo/educacion/alumnos/podran/titularse/excepcionalmente/suspensos/elpepusocedu/20070108elpepiedu_3/Tes&amp;h=250&amp;w=340&amp;sz=21&amp;hl=es&amp;start=2&amp;tbnid=al_VwE2EVPGn6M:&amp;tbnh=88&amp;tbnw=119&amp;prev=/images%3Fq%3Dalumnos%2Bsecundaria%26gbv%3D2%26hl%3Des%26newwindow%3D1%26safe%3Dof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49400"/>
            <a:ext cx="855684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5:46:57Z</dcterms:created>
  <dc:creator>Belen Martini</dc:creator>
  <dc:description/>
  <dc:language>en-US</dc:language>
  <cp:lastModifiedBy>Belen Martini</cp:lastModifiedBy>
  <dcterms:modified xsi:type="dcterms:W3CDTF">2008-07-16T05:53:41Z</dcterms:modified>
  <cp:revision>2</cp:revision>
  <dc:subject/>
  <dc:title>Slide 1</dc:title>
</cp:coreProperties>
</file>