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006C-0D00-456D-A32C-E2CAFDCD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5BF2-67D9-4E3B-BA8C-8AE62A18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D78-1080-42B2-B1D2-773F42E6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15D-0AC1-4F58-BEC8-67B09E0E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7384-D12D-40CC-B3B6-44CF9E8E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A43B-3C5B-4670-96F1-49474FDA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E60D-7B48-4502-8C94-788C8CA3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11C9-1458-459F-8448-8345CE8E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945A-CE1C-4664-8FA4-F1174AAD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7302-9820-43E4-8711-1196BBDC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6D1E-E09C-41FB-9405-176919BB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312-666E-41B9-880D-AD14B6FC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D99E-E155-4BAC-AB1F-A019D7A8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5EB2-2CC5-41CB-BDCF-13DC5F37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9C3F-6AD6-4477-8D18-CF66821B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262C-6D2E-4EC0-AEE4-2F4CD131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771C-10B4-481C-A891-7A263354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3410-2854-492B-A0E9-AC5050CB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BAF7B-FA5D-4260-BFF6-2FF24BF7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1BC87-6253-4225-AAE7-1EF8158C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DAE69-F7FC-4229-8A24-FE43F19F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D2452-B129-4588-A854-BC1535C8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502-A004-4BAB-B35F-3ACA812F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8B6E-2563-43C3-8244-0E45C8F3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86238-963D-40AC-9498-34AD9C34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0A805-126D-4B11-900F-E26648D6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C1E68-1DDD-4E36-9255-B2F9F410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8BFE5-7A5B-460E-B51F-CC8CD32A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3D223-DAE3-41BB-998C-F3D5A402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E76F0-F48F-478E-8B72-06EE8E8C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9B124-D783-4E65-91EA-03AC1A23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B3FC6-1E6B-405F-9785-6DB9A8FE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B2784-ED84-4385-A4C6-ADD7BEBF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9B3-5576-40E2-BD42-093E7064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87F0D-29AD-4BB8-801F-2B94E83C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CD896-14C4-4696-BDBC-CD02D22D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07E6B-6699-4925-B885-D68DAB64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98DFC-A049-4B68-8EC0-DF916519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6CA27-BED3-46FC-B855-FCB9367A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62583-1E67-46F5-9511-98CBC418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B1C59-BE4B-47A7-B78E-75C07281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E29AA-44FB-44A4-BB40-945CE8B7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4CECA-1884-486C-B298-CEA8B79A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B549E-9C6E-43B5-8C27-CF512A0F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E84-FE92-448D-935A-9811D100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64D4F-F558-4DEE-A942-4A6FDB85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F9E46-E650-4A8F-ABE6-54292BDA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B1A5E-EEAC-4FEB-A6BF-ADC54032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17217-4FED-4AFB-A064-28FA49AB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5D2F1-782A-4AFD-8C9E-0CA0EAFA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E8445-F43E-45A1-8592-90D63F01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6C3A0-F3C0-4649-AF30-74F866A3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96D27-028E-41AF-9E2E-6B7F7643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34911-81F6-4491-8312-CEA6E884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B88D4-CEB9-4E02-86D3-07E0607F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9A1-AB92-4BC4-A803-EFD433B8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BA9F5-1022-4528-8F54-CB6FC434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C5403-71D6-48E4-AE36-BDAF99B7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ABAB8-EE84-4DA2-A241-D26F08DA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CE287-2BF5-4C73-BF45-D38EF0D1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5B405-4C01-4DD2-9173-6EA7642C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411BC-E906-4E7C-BE55-708C4BCF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4D89F-BE6D-49C9-B0D2-C128F99A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EB8AA-441E-427E-8370-D9F65E79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8DB50-0F1B-4116-84CF-47A7FDF9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B2C68-E616-4775-B553-47946F65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1BA-E0C0-4BB0-9E35-CA71FD24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AFE46-CF2A-43D7-99DB-E5702905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9A7CB-61AC-4194-9C3C-1693BA23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63C84-1F5A-4F53-97D9-B9E12354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F437F-F7F9-4A88-96E1-AC90EAA2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8FC7D-48F7-4A77-8371-5E118CDE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25DB2-D715-4427-8B00-32708CB3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EC7E5-FF4B-4991-9800-E8AEB090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B8AD8-FDA5-496E-AC03-50F4AB5E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4E3A7-C775-4D9F-91A3-C239145E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485AC-AFFB-44EF-95F1-D9F033A4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10B-758F-460B-ADB7-621B9599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BA3D7-4A97-4102-A0A6-C7A63D0B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CD25E-57FE-402A-AABE-AF3C228B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DFDA3-15E4-4AFA-BF6F-209CF15E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3D42A-BE16-4F72-A5DE-788AF579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19B1B-8742-4567-B3B1-5AD1C27B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9BC13-E2EA-4A9F-8071-F22A0FBB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C7DE4-EAB7-4285-86F1-E768514C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60B21-5D63-44B6-944E-23E6BE2F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7E05A-8605-49BE-B7E2-2C0A0E0D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09A2A-62D9-48A5-B19D-D90D9F30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AF4-EB07-4805-AC7A-FDBCAE00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D5AA5-343D-4540-AAEF-7C253466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BBE71-A4B5-475B-9F71-EA428D2B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42606-8271-4DF8-A462-CD7249D6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8EBDD-F6EC-42F9-8868-5F94398B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64A9B-E60B-4F85-A17B-5BD007B5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D5613-BC3E-4BA8-9508-8CF8E844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711BA-9CD1-4819-9D5D-7326035E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A6CC-9011-4318-944D-0CF235A3073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2F5E-617F-4B8E-B2B7-644CFEDC738C}" type="slidenum">
              <a:rPr b="0" lang="es-MX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CE20-368D-4302-BF60-AAECF647143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4008-6DEA-412B-A330-A54462A7C3F5}" type="slidenum"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FCC4-28F7-4262-AAA1-4B3C5C0D115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AF06-684E-43A8-9672-F32341954E3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B419-B302-48CA-8FC6-6DED0995962D}" type="slidenum"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B8C8-EBAA-49C6-ACDD-129648284E1D}" type="slidenum">
              <a:rPr b="0" lang="es-MX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0"/>
          <p:cNvSpPr/>
          <p:nvPr/>
        </p:nvSpPr>
        <p:spPr>
          <a:xfrm>
            <a:off x="500040" y="2428920"/>
            <a:ext cx="1440000" cy="647640"/>
          </a:xfrm>
          <a:prstGeom prst="rect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EXTERNA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3786120" y="2357280"/>
            <a:ext cx="2016360" cy="648000"/>
          </a:xfrm>
          <a:prstGeom prst="rect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INTERNA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7072200" y="2357280"/>
            <a:ext cx="1800360" cy="648000"/>
          </a:xfrm>
          <a:prstGeom prst="rect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INICI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Line 15"/>
          <p:cNvSpPr/>
          <p:nvPr/>
        </p:nvSpPr>
        <p:spPr>
          <a:xfrm>
            <a:off x="7858080" y="18572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Line 26"/>
          <p:cNvSpPr/>
          <p:nvPr/>
        </p:nvSpPr>
        <p:spPr>
          <a:xfrm>
            <a:off x="7858080" y="30002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AutoShape 34"/>
          <p:cNvSpPr/>
          <p:nvPr/>
        </p:nvSpPr>
        <p:spPr>
          <a:xfrm>
            <a:off x="2411280" y="404640"/>
            <a:ext cx="4751640" cy="1152720"/>
          </a:xfrm>
          <a:custGeom>
            <a:avLst/>
            <a:gdLst>
              <a:gd name="textAreaLeft" fmla="*/ 1384200 w 4751640"/>
              <a:gd name="textAreaRight" fmla="*/ 3367440 w 4751640"/>
              <a:gd name="textAreaTop" fmla="*/ 0 h 1152720"/>
              <a:gd name="textAreaBottom" fmla="*/ 857880 h 1152720"/>
            </a:gdLst>
            <a:ahLst/>
            <a:rect l="textAreaLeft" t="textAreaTop" r="textAreaRight" b="textAreaBottom"/>
            <a:pathLst>
              <a:path w="21600" h="21600">
                <a:moveTo>
                  <a:pt x="8993" y="16072"/>
                </a:moveTo>
                <a:lnTo>
                  <a:pt x="8993" y="20218"/>
                </a:lnTo>
                <a:cubicBezTo>
                  <a:pt x="8993" y="20909"/>
                  <a:pt x="8573" y="21600"/>
                  <a:pt x="8153" y="21600"/>
                </a:cubicBezTo>
                <a:lnTo>
                  <a:pt x="0" y="21600"/>
                </a:lnTo>
                <a:lnTo>
                  <a:pt x="2750" y="13564"/>
                </a:lnTo>
                <a:lnTo>
                  <a:pt x="0" y="5528"/>
                </a:lnTo>
                <a:lnTo>
                  <a:pt x="6293" y="5528"/>
                </a:lnTo>
                <a:lnTo>
                  <a:pt x="6293" y="1382"/>
                </a:lnTo>
                <a:cubicBezTo>
                  <a:pt x="6293" y="691"/>
                  <a:pt x="6713" y="0"/>
                  <a:pt x="7133" y="0"/>
                </a:cubicBezTo>
                <a:lnTo>
                  <a:pt x="14467" y="0"/>
                </a:lnTo>
                <a:cubicBezTo>
                  <a:pt x="14887" y="0"/>
                  <a:pt x="15307" y="691"/>
                  <a:pt x="15307" y="1382"/>
                </a:cubicBezTo>
                <a:lnTo>
                  <a:pt x="15307" y="5528"/>
                </a:lnTo>
                <a:lnTo>
                  <a:pt x="21600" y="5528"/>
                </a:lnTo>
                <a:lnTo>
                  <a:pt x="18850" y="13564"/>
                </a:lnTo>
                <a:lnTo>
                  <a:pt x="21600" y="21600"/>
                </a:lnTo>
                <a:lnTo>
                  <a:pt x="13447" y="21600"/>
                </a:lnTo>
                <a:cubicBezTo>
                  <a:pt x="13027" y="21600"/>
                  <a:pt x="12607" y="20909"/>
                  <a:pt x="12607" y="20218"/>
                </a:cubicBezTo>
                <a:lnTo>
                  <a:pt x="12607" y="16072"/>
                </a:lnTo>
                <a:close/>
              </a:path>
              <a:path fill="darkenLess" w="21600" h="21600">
                <a:moveTo>
                  <a:pt x="8993" y="16072"/>
                </a:moveTo>
                <a:lnTo>
                  <a:pt x="8993" y="20218"/>
                </a:lnTo>
                <a:cubicBezTo>
                  <a:pt x="8993" y="19527"/>
                  <a:pt x="8573" y="18836"/>
                  <a:pt x="8153" y="18836"/>
                </a:cubicBezTo>
                <a:lnTo>
                  <a:pt x="7133" y="18836"/>
                </a:lnTo>
                <a:cubicBezTo>
                  <a:pt x="6713" y="18836"/>
                  <a:pt x="6293" y="18145"/>
                  <a:pt x="6293" y="17454"/>
                </a:cubicBezTo>
                <a:cubicBezTo>
                  <a:pt x="6293" y="16763"/>
                  <a:pt x="6713" y="16072"/>
                  <a:pt x="7133" y="16072"/>
                </a:cubicBezTo>
                <a:close/>
              </a:path>
              <a:path fill="darkenLess" w="21600" h="21600">
                <a:moveTo>
                  <a:pt x="12607" y="16072"/>
                </a:moveTo>
                <a:lnTo>
                  <a:pt x="12607" y="20218"/>
                </a:lnTo>
                <a:cubicBezTo>
                  <a:pt x="12607" y="19527"/>
                  <a:pt x="13027" y="18836"/>
                  <a:pt x="13447" y="18836"/>
                </a:cubicBezTo>
                <a:lnTo>
                  <a:pt x="14467" y="18836"/>
                </a:lnTo>
                <a:cubicBezTo>
                  <a:pt x="14887" y="18836"/>
                  <a:pt x="15307" y="18145"/>
                  <a:pt x="15307" y="17454"/>
                </a:cubicBezTo>
                <a:cubicBezTo>
                  <a:pt x="15307" y="16763"/>
                  <a:pt x="14887" y="16072"/>
                  <a:pt x="14467" y="16072"/>
                </a:cubicBezTo>
                <a:close/>
              </a:path>
              <a:path fill="darkenLess" w="21600" h="21600">
                <a:moveTo>
                  <a:pt x="6293" y="17454"/>
                </a:moveTo>
                <a:lnTo>
                  <a:pt x="6293" y="5528"/>
                </a:lnTo>
              </a:path>
              <a:path fill="darkenLess" w="21600" h="21600">
                <a:moveTo>
                  <a:pt x="15307" y="17454"/>
                </a:moveTo>
                <a:lnTo>
                  <a:pt x="15307" y="5528"/>
                </a:lnTo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Forte"/>
              </a:rPr>
              <a:t>INDEPENDENCIA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Forte"/>
              </a:rPr>
              <a:t>DE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Forte"/>
              </a:rPr>
              <a:t>MÉXIC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26 Conector recto"/>
          <p:cNvSpPr/>
          <p:nvPr/>
        </p:nvSpPr>
        <p:spPr>
          <a:xfrm>
            <a:off x="4787280" y="1262160"/>
            <a:ext cx="6120" cy="10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28 Conector recto"/>
          <p:cNvSpPr/>
          <p:nvPr/>
        </p:nvSpPr>
        <p:spPr>
          <a:xfrm>
            <a:off x="3929040" y="3929040"/>
            <a:ext cx="1928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3" name="32 Conector recto de flecha"/>
          <p:cNvCxnSpPr/>
          <p:nvPr/>
        </p:nvCxnSpPr>
        <p:spPr>
          <a:xfrm flipH="1">
            <a:off x="3927240" y="3929040"/>
            <a:ext cx="2160" cy="5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54" name="35 Conector recto de flecha"/>
          <p:cNvCxnSpPr/>
          <p:nvPr/>
        </p:nvCxnSpPr>
        <p:spPr>
          <a:xfrm flipH="1">
            <a:off x="5857560" y="3930480"/>
            <a:ext cx="2160" cy="501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55" name="38 CuadroTexto"/>
          <p:cNvSpPr/>
          <p:nvPr/>
        </p:nvSpPr>
        <p:spPr>
          <a:xfrm>
            <a:off x="3143160" y="4572000"/>
            <a:ext cx="1571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Reformas borbónica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39 CuadroTexto"/>
          <p:cNvSpPr/>
          <p:nvPr/>
        </p:nvSpPr>
        <p:spPr>
          <a:xfrm>
            <a:off x="4286160" y="5643720"/>
            <a:ext cx="21574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Insatisfacció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socia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7" name="41 Conector recto de flecha"/>
          <p:cNvCxnSpPr/>
          <p:nvPr/>
        </p:nvCxnSpPr>
        <p:spPr>
          <a:xfrm>
            <a:off x="4865760" y="2999880"/>
            <a:ext cx="64080" cy="2644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58" name="43 CuadroTexto"/>
          <p:cNvSpPr/>
          <p:nvPr/>
        </p:nvSpPr>
        <p:spPr>
          <a:xfrm>
            <a:off x="5143680" y="4500720"/>
            <a:ext cx="1571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Crisis agrícol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51 Conector recto"/>
          <p:cNvSpPr/>
          <p:nvPr/>
        </p:nvSpPr>
        <p:spPr>
          <a:xfrm flipH="1">
            <a:off x="1213920" y="1857240"/>
            <a:ext cx="180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52 Conector recto"/>
          <p:cNvSpPr/>
          <p:nvPr/>
        </p:nvSpPr>
        <p:spPr>
          <a:xfrm flipH="1">
            <a:off x="1213920" y="3071880"/>
            <a:ext cx="180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54 Conector recto"/>
          <p:cNvSpPr/>
          <p:nvPr/>
        </p:nvSpPr>
        <p:spPr>
          <a:xfrm>
            <a:off x="1214280" y="1857240"/>
            <a:ext cx="66438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55 Conector recto"/>
          <p:cNvSpPr/>
          <p:nvPr/>
        </p:nvSpPr>
        <p:spPr>
          <a:xfrm>
            <a:off x="285840" y="3571920"/>
            <a:ext cx="16430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57 CuadroTexto"/>
          <p:cNvSpPr/>
          <p:nvPr/>
        </p:nvSpPr>
        <p:spPr>
          <a:xfrm>
            <a:off x="285840" y="3857760"/>
            <a:ext cx="1571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Ilustració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58 CuadroTexto"/>
          <p:cNvSpPr/>
          <p:nvPr/>
        </p:nvSpPr>
        <p:spPr>
          <a:xfrm>
            <a:off x="1000080" y="4572000"/>
            <a:ext cx="157176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Independencia de la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trece colonia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65" name="59 Conector recto de flecha"/>
          <p:cNvCxnSpPr/>
          <p:nvPr/>
        </p:nvCxnSpPr>
        <p:spPr>
          <a:xfrm flipH="1">
            <a:off x="285120" y="3571920"/>
            <a:ext cx="1080" cy="286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6" name="60 Conector recto de flecha"/>
          <p:cNvCxnSpPr/>
          <p:nvPr/>
        </p:nvCxnSpPr>
        <p:spPr>
          <a:xfrm flipH="1">
            <a:off x="1926360" y="3573360"/>
            <a:ext cx="2520" cy="929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7" name="67 CuadroTexto"/>
          <p:cNvSpPr/>
          <p:nvPr/>
        </p:nvSpPr>
        <p:spPr>
          <a:xfrm>
            <a:off x="7143840" y="3714840"/>
            <a:ext cx="171432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Miguel Hidalg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Ignacio Allend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Josefa Ortiz de Domínguez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70 CuadroTexto"/>
          <p:cNvSpPr/>
          <p:nvPr/>
        </p:nvSpPr>
        <p:spPr>
          <a:xfrm>
            <a:off x="3000240" y="150012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Sus causa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76 CuadroTexto"/>
          <p:cNvSpPr/>
          <p:nvPr/>
        </p:nvSpPr>
        <p:spPr>
          <a:xfrm>
            <a:off x="285840" y="32148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m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77 CuadroTexto"/>
          <p:cNvSpPr/>
          <p:nvPr/>
        </p:nvSpPr>
        <p:spPr>
          <a:xfrm>
            <a:off x="7786800" y="3143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78 CuadroTexto"/>
          <p:cNvSpPr/>
          <p:nvPr/>
        </p:nvSpPr>
        <p:spPr>
          <a:xfrm>
            <a:off x="4429080" y="32148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m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2" name="huapango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9:42:09Z</dcterms:created>
  <dc:creator>PC</dc:creator>
  <dc:description/>
  <dc:language>en-US</dc:language>
  <cp:lastModifiedBy>PC</cp:lastModifiedBy>
  <dcterms:modified xsi:type="dcterms:W3CDTF">2008-07-16T19:43:47Z</dcterms:modified>
  <cp:revision>1</cp:revision>
  <dc:subject/>
  <dc:title>Diapositiva 1</dc:title>
</cp:coreProperties>
</file>