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DD6-0072-4083-A4C3-583F3F41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D37-B262-4064-AE9F-AD91CF03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D9A-5ED4-4F92-BD13-0458993D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577-8882-480C-B7D6-A69EF8F6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0094-A4FA-4F8C-869A-37031EDA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C917-B8A4-4C6D-B2C6-7253F603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0A95-986A-4D23-8A86-82256BE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AA67-EBB0-4D93-8845-C11E1C24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A4DB-9FEA-4123-B608-44A44B2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58F1-B52B-4319-B406-598AFDEF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CBB-B607-436F-BEEE-BE50C26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2D1-BF0B-414F-8D2A-94CB08C0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3A72-DAD0-4C7C-A774-7010162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A617-E77C-4183-8728-5FF5C781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7D7A-0329-49D4-96F0-AF2D5AB3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D233-B5AA-413B-A51D-52F91D45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C436-D665-4263-B7E5-3EC7E25D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4CC4-2F56-4B25-93D0-72DFFF67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5EB3-AF86-4E1D-969B-736795D5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9EF4-4139-4ACA-AAE7-7729E5D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1C6B-2693-4C89-9CBE-2740C41A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C907-3F16-4404-BBB1-18C4D3A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2A8-5311-4D09-980C-89F1FC86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446E-4A31-42D3-A83E-2AE79CC6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2DFE-B055-44AC-B15E-8B5D298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5AE6-3E93-484E-A909-872E738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8A2C-C5E1-4F06-B786-676FB8C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7D19-0F16-419E-B241-4A0789B3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58EF-4218-4657-AE6E-1DF06CEB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2779-247E-4DE1-8A90-4F88BD31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A0A2-0A18-4986-982B-4230E7C7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0AE3-386D-42B6-BEB4-F358E4B0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734A-4BEF-4935-9893-ECE8658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E82-9243-4BE1-A9F3-00F287E6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E404-9FCC-4C68-8D96-BA21D383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3DFF-301A-4132-898E-65C41B8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B2B0-C9E9-401C-B829-5FD6DE59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611C-6474-4C0E-A632-98BD01F6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69D2-12FA-464A-A16A-01B890A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64E5-0478-4687-B8AD-5B1741B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6206-C92A-409A-A930-7E65531C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5FDB-62E9-4D64-B691-AEB30B6A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4CF2-2183-4B8E-A66E-F8D39E79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F0F8-A502-4734-A0A3-45874A66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E00-E9AD-4778-BEB6-32EE19D3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5380D-E1C8-43F9-8295-59755733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96E73-F992-4052-A7B0-ECDB2527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3FC5-F61F-4D34-B381-DBEF3D61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5902-C2ED-4DF8-9522-F1DE2B0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98A4-331E-4B1B-B0D6-C5E7DD7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75E7E-1AD3-4F5D-AB05-C540E76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49555-AF81-402A-AF87-DAC23B7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EA89-A6DF-4C0C-8128-9715664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D1FB-7052-4052-B787-F7879F9B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291A-ACFE-4117-B8E0-E22CEC8A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0B7-9B04-49C4-AD68-78C82E4F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E1FB-AD9F-4A3A-98E3-01A7E796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BB8F-75E7-4E1D-BB4B-91C55363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0DB7B-04CD-43F1-8AC1-90BBB637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EB677-A1E5-4CDB-A22E-2D84CCA1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CFC11-1E06-4955-B224-3CA50E34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F2E8-31CF-48DB-B6A2-CD981DC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A22D-A6D8-4082-8682-8947F835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BB15-CFBF-4833-9A3B-E40B6FB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51E0-FC2A-4EA2-8AC9-C1664965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709C-E2B0-47BD-8933-9DE3D42A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BDF-457C-42DD-9071-EC12B3DA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0253-A23D-4B97-8695-7A4A74F4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44FA-CED4-4E84-B30E-C6A84F32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5752F-5927-4691-BD55-EC4FA059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79DC9-E8F2-4B16-9EA7-083AA967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2F29F-63E2-4003-954C-72068489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EFA60-7534-439C-9E0C-5ADCFF20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3B2B-D10E-4B9B-AEFA-10B22FF1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EE571-ACD8-4265-8DF6-759B0D0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034E-3753-42EB-95D6-84BB186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D06CE-A757-49FC-8D0A-9601D646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B07-7A3C-4078-8852-1D6DB49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54AF2-A821-4ABF-B0AA-2A8E484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E38F5-3C8D-4AA4-BDDC-421307B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EA0E4-17F8-45BD-8BED-5ABE10DB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BA1EB-33C5-40B1-9DCE-01B105A7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2520E-4B00-4654-A165-964E6CD0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1A010-7E2C-4A3B-A6FF-C1E007FB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EBA8B-5187-48DD-9A57-8BF4BAB8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4067-9D64-4762-BA37-E40C9EC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196D7-30EF-4F4E-B0C2-2163EC58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5A01-6E61-4EDB-AF3D-A0FF9F01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DEA-C731-432B-9E14-08E988BF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56488-41C7-46FE-B777-4808497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7C179-7162-4627-B7F5-3E9195BE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46FC-BC6E-4FFE-A903-C852B4E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E36E5-28FD-4CA3-B0B4-BAD3719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E0E57-B7D6-4F00-8ED9-B49D9E9D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AE1F9-33EE-437F-ABD7-1453AB18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C458B-151D-4EF9-A1B4-6B56EAD5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150-B902-41C9-8616-76AF9F5727D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9C34-143F-4304-82C1-2779C69E1FC1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AF72-A447-4100-90AF-796988CCF81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AB33-52A4-4B6B-BEC4-D7E58315CB6D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73B7-FBD8-4C13-B1BF-943058ED4A3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B3B8-334E-48CB-BCAE-ABD3F3DA1E7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1C0-EC82-483C-8678-B0630A1CF463}" type="slidenum"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8DFE-7A84-4B15-8DDC-19764BCAA36F}" type="slidenum">
              <a:rPr b="0" lang="es-MX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"/>
          <p:cNvSpPr/>
          <p:nvPr/>
        </p:nvSpPr>
        <p:spPr>
          <a:xfrm>
            <a:off x="500040" y="2428920"/>
            <a:ext cx="1440000" cy="64764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XTERN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786120" y="2357280"/>
            <a:ext cx="2016360" cy="64800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TERN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072200" y="2357280"/>
            <a:ext cx="1800360" cy="64800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ICI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7858080" y="18572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7858080" y="30002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AutoShape 34"/>
          <p:cNvSpPr/>
          <p:nvPr/>
        </p:nvSpPr>
        <p:spPr>
          <a:xfrm>
            <a:off x="2411280" y="404640"/>
            <a:ext cx="4751640" cy="1152720"/>
          </a:xfrm>
          <a:custGeom>
            <a:avLst/>
            <a:gdLst>
              <a:gd name="textAreaLeft" fmla="*/ 1384200 w 4751640"/>
              <a:gd name="textAreaRight" fmla="*/ 3367440 w 4751640"/>
              <a:gd name="textAreaTop" fmla="*/ 0 h 1152720"/>
              <a:gd name="textAreaBottom" fmla="*/ 857880 h 1152720"/>
            </a:gdLst>
            <a:ahLst/>
            <a:rect l="textAreaLeft" t="textAreaTop" r="textAreaRight" b="textAreaBottom"/>
            <a:pathLst>
              <a:path w="21600" h="21600">
                <a:moveTo>
                  <a:pt x="8993" y="16072"/>
                </a:moveTo>
                <a:lnTo>
                  <a:pt x="8993" y="20218"/>
                </a:lnTo>
                <a:cubicBezTo>
                  <a:pt x="8993" y="20909"/>
                  <a:pt x="8573" y="21600"/>
                  <a:pt x="8153" y="21600"/>
                </a:cubicBezTo>
                <a:lnTo>
                  <a:pt x="0" y="21600"/>
                </a:lnTo>
                <a:lnTo>
                  <a:pt x="2750" y="13564"/>
                </a:lnTo>
                <a:lnTo>
                  <a:pt x="0" y="5528"/>
                </a:lnTo>
                <a:lnTo>
                  <a:pt x="6293" y="5528"/>
                </a:lnTo>
                <a:lnTo>
                  <a:pt x="6293" y="1382"/>
                </a:lnTo>
                <a:cubicBezTo>
                  <a:pt x="6293" y="691"/>
                  <a:pt x="6713" y="0"/>
                  <a:pt x="7133" y="0"/>
                </a:cubicBezTo>
                <a:lnTo>
                  <a:pt x="14467" y="0"/>
                </a:lnTo>
                <a:cubicBezTo>
                  <a:pt x="14887" y="0"/>
                  <a:pt x="15307" y="691"/>
                  <a:pt x="15307" y="1382"/>
                </a:cubicBezTo>
                <a:lnTo>
                  <a:pt x="15307" y="5528"/>
                </a:lnTo>
                <a:lnTo>
                  <a:pt x="21600" y="5528"/>
                </a:lnTo>
                <a:lnTo>
                  <a:pt x="18850" y="13564"/>
                </a:lnTo>
                <a:lnTo>
                  <a:pt x="21600" y="21600"/>
                </a:lnTo>
                <a:lnTo>
                  <a:pt x="13447" y="21600"/>
                </a:lnTo>
                <a:cubicBezTo>
                  <a:pt x="13027" y="21600"/>
                  <a:pt x="12607" y="20909"/>
                  <a:pt x="12607" y="20218"/>
                </a:cubicBezTo>
                <a:lnTo>
                  <a:pt x="12607" y="16072"/>
                </a:lnTo>
                <a:close/>
              </a:path>
              <a:path fill="darkenLess" w="21600" h="21600">
                <a:moveTo>
                  <a:pt x="8993" y="16072"/>
                </a:moveTo>
                <a:lnTo>
                  <a:pt x="8993" y="20218"/>
                </a:lnTo>
                <a:cubicBezTo>
                  <a:pt x="8993" y="19527"/>
                  <a:pt x="8573" y="18836"/>
                  <a:pt x="8153" y="18836"/>
                </a:cubicBezTo>
                <a:lnTo>
                  <a:pt x="7133" y="18836"/>
                </a:lnTo>
                <a:cubicBezTo>
                  <a:pt x="6713" y="18836"/>
                  <a:pt x="6293" y="18145"/>
                  <a:pt x="6293" y="17454"/>
                </a:cubicBezTo>
                <a:cubicBezTo>
                  <a:pt x="6293" y="16763"/>
                  <a:pt x="6713" y="16072"/>
                  <a:pt x="7133" y="16072"/>
                </a:cubicBezTo>
                <a:close/>
              </a:path>
              <a:path fill="darkenLess" w="21600" h="21600">
                <a:moveTo>
                  <a:pt x="12607" y="16072"/>
                </a:moveTo>
                <a:lnTo>
                  <a:pt x="12607" y="20218"/>
                </a:lnTo>
                <a:cubicBezTo>
                  <a:pt x="12607" y="19527"/>
                  <a:pt x="13027" y="18836"/>
                  <a:pt x="13447" y="18836"/>
                </a:cubicBezTo>
                <a:lnTo>
                  <a:pt x="14467" y="18836"/>
                </a:lnTo>
                <a:cubicBezTo>
                  <a:pt x="14887" y="18836"/>
                  <a:pt x="15307" y="18145"/>
                  <a:pt x="15307" y="17454"/>
                </a:cubicBezTo>
                <a:cubicBezTo>
                  <a:pt x="15307" y="16763"/>
                  <a:pt x="14887" y="16072"/>
                  <a:pt x="14467" y="16072"/>
                </a:cubicBezTo>
                <a:close/>
              </a:path>
              <a:path fill="darkenLess" w="21600" h="21600">
                <a:moveTo>
                  <a:pt x="6293" y="17454"/>
                </a:moveTo>
                <a:lnTo>
                  <a:pt x="6293" y="5528"/>
                </a:lnTo>
              </a:path>
              <a:path fill="darkenLess" w="21600" h="21600">
                <a:moveTo>
                  <a:pt x="15307" y="17454"/>
                </a:moveTo>
                <a:lnTo>
                  <a:pt x="15307" y="5528"/>
                </a:lnTo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INDEPENDENCI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DE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Forte"/>
              </a:rPr>
              <a:t>MÉXIC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26 Conector recto"/>
          <p:cNvSpPr/>
          <p:nvPr/>
        </p:nvSpPr>
        <p:spPr>
          <a:xfrm>
            <a:off x="4787280" y="1262160"/>
            <a:ext cx="6120" cy="10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28 Conector recto"/>
          <p:cNvSpPr/>
          <p:nvPr/>
        </p:nvSpPr>
        <p:spPr>
          <a:xfrm>
            <a:off x="3929040" y="3929040"/>
            <a:ext cx="1928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3" name="32 Conector recto de flecha"/>
          <p:cNvCxnSpPr/>
          <p:nvPr/>
        </p:nvCxnSpPr>
        <p:spPr>
          <a:xfrm flipH="1">
            <a:off x="3927240" y="3929040"/>
            <a:ext cx="2160" cy="5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4" name="35 Conector recto de flecha"/>
          <p:cNvCxnSpPr/>
          <p:nvPr/>
        </p:nvCxnSpPr>
        <p:spPr>
          <a:xfrm flipH="1">
            <a:off x="5857560" y="3930480"/>
            <a:ext cx="2160" cy="50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5" name="38 CuadroTexto"/>
          <p:cNvSpPr/>
          <p:nvPr/>
        </p:nvSpPr>
        <p:spPr>
          <a:xfrm>
            <a:off x="3143160" y="4572000"/>
            <a:ext cx="1571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Reformas borbónic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39 CuadroTexto"/>
          <p:cNvSpPr/>
          <p:nvPr/>
        </p:nvSpPr>
        <p:spPr>
          <a:xfrm>
            <a:off x="4286160" y="5643720"/>
            <a:ext cx="21574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nsatisfacció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7" name="41 Conector recto de flecha"/>
          <p:cNvCxnSpPr/>
          <p:nvPr/>
        </p:nvCxnSpPr>
        <p:spPr>
          <a:xfrm>
            <a:off x="4865760" y="2999880"/>
            <a:ext cx="64080" cy="2644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8" name="43 CuadroTexto"/>
          <p:cNvSpPr/>
          <p:nvPr/>
        </p:nvSpPr>
        <p:spPr>
          <a:xfrm>
            <a:off x="5143680" y="4500720"/>
            <a:ext cx="1571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risis agrícol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51 Conector recto"/>
          <p:cNvSpPr/>
          <p:nvPr/>
        </p:nvSpPr>
        <p:spPr>
          <a:xfrm flipH="1">
            <a:off x="1213920" y="1857240"/>
            <a:ext cx="180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52 Conector recto"/>
          <p:cNvSpPr/>
          <p:nvPr/>
        </p:nvSpPr>
        <p:spPr>
          <a:xfrm flipH="1">
            <a:off x="1213920" y="3071880"/>
            <a:ext cx="180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54 Conector recto"/>
          <p:cNvSpPr/>
          <p:nvPr/>
        </p:nvSpPr>
        <p:spPr>
          <a:xfrm>
            <a:off x="1214280" y="1857240"/>
            <a:ext cx="6643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55 Conector recto"/>
          <p:cNvSpPr/>
          <p:nvPr/>
        </p:nvSpPr>
        <p:spPr>
          <a:xfrm>
            <a:off x="285840" y="3571920"/>
            <a:ext cx="1643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57 CuadroTexto"/>
          <p:cNvSpPr/>
          <p:nvPr/>
        </p:nvSpPr>
        <p:spPr>
          <a:xfrm>
            <a:off x="285840" y="3857760"/>
            <a:ext cx="1571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lustració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58 CuadroTexto"/>
          <p:cNvSpPr/>
          <p:nvPr/>
        </p:nvSpPr>
        <p:spPr>
          <a:xfrm>
            <a:off x="1000080" y="4572000"/>
            <a:ext cx="157176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Independencia de la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trece colonia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5" name="59 Conector recto de flecha"/>
          <p:cNvCxnSpPr/>
          <p:nvPr/>
        </p:nvCxnSpPr>
        <p:spPr>
          <a:xfrm flipH="1">
            <a:off x="285120" y="3571920"/>
            <a:ext cx="108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6" name="60 Conector recto de flecha"/>
          <p:cNvCxnSpPr/>
          <p:nvPr/>
        </p:nvCxnSpPr>
        <p:spPr>
          <a:xfrm flipH="1">
            <a:off x="1926360" y="3573360"/>
            <a:ext cx="252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7" name="67 CuadroTexto"/>
          <p:cNvSpPr/>
          <p:nvPr/>
        </p:nvSpPr>
        <p:spPr>
          <a:xfrm>
            <a:off x="7143840" y="3714840"/>
            <a:ext cx="17143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iguel Hidal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Ignacio Allen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Josefa Ortiz de Domínguez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70 CuadroTexto"/>
          <p:cNvSpPr/>
          <p:nvPr/>
        </p:nvSpPr>
        <p:spPr>
          <a:xfrm>
            <a:off x="3000240" y="15001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Sus causa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76 CuadroTexto"/>
          <p:cNvSpPr/>
          <p:nvPr/>
        </p:nvSpPr>
        <p:spPr>
          <a:xfrm>
            <a:off x="285840" y="3214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m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77 CuadroTexto"/>
          <p:cNvSpPr/>
          <p:nvPr/>
        </p:nvSpPr>
        <p:spPr>
          <a:xfrm>
            <a:off x="7786800" y="31431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78 CuadroTexto"/>
          <p:cNvSpPr/>
          <p:nvPr/>
        </p:nvSpPr>
        <p:spPr>
          <a:xfrm>
            <a:off x="4429080" y="3214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m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huapango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9:42:09Z</dcterms:created>
  <dc:creator>PC</dc:creator>
  <dc:description/>
  <dc:language>en-US</dc:language>
  <cp:lastModifiedBy>PC</cp:lastModifiedBy>
  <dcterms:modified xsi:type="dcterms:W3CDTF">2008-07-16T19:43:47Z</dcterms:modified>
  <cp:revision>1</cp:revision>
  <dc:subject/>
  <dc:title>Diapositiva 1</dc:title>
</cp:coreProperties>
</file>