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0D9BB-C90A-42A3-BD36-EC14CEAE2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6041E-BDAC-4969-A13B-B8939B03D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52523-A9A1-42DC-93A0-6FBE0DCBC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88697-707B-4F2A-83C2-DBB41D8E4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40548-CEE2-48C7-B509-30E818B09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4C456-B532-45CC-B90C-1D65B45CC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D1473-2B95-4788-A3A0-173D0049E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63DF7-F291-4098-8240-D6865F145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3E627-6047-478F-A8B8-3F3B3B6ED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11F1A-157E-4F00-9ECB-AC251018C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1E093-48B0-4815-B0F2-CE92A155B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84B44-0C6E-439C-B7CD-D2A6462E3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91943-E4CB-48C5-B4FD-EA8411962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19BA6-59A2-4AE8-A7B3-E61FDF8DE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C852A-87F7-4707-9F1C-4A5F18A77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6E69C-41B8-45E6-857C-7E135B320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4F1F6-B337-44C9-ADED-DBC553CD8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96ADDD-9AFC-4360-8587-55F830F45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DA15C0-E006-4F8B-83BF-4B31FC660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870E7B-9C2D-4D06-A572-2C26FBBBC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CA670D-F690-4793-95FA-87D91E1F8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92FA50-2A43-4C42-9542-DAF933A4D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300A2-C456-4AB7-A8F5-E253195BD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21744F-8B02-47C2-B80F-9D80785D1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25B2C0-3A86-4ADA-B28B-A50BE026C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4E13AE-F34D-4055-9F2D-6518EE8E9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5E904C-EAB2-49DD-9D9E-B7BBB3B8A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D01DC9-4700-4181-93E0-F65214ECC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F7E4BE-F41F-4DA6-9B2B-878A3EF82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8088B1-F35E-4160-8EF9-7FF2963FB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B30104-B007-474F-81BB-2F4EEE272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B468AD-7629-404D-B11B-1B34E4948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0CD7C8-42CE-4E1F-936D-7F519B0A1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8CEEA-1971-4A5F-9966-AD13319FA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F22289-478B-40EB-A24D-85E0E5F39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61286A-0FB6-4FF0-8DCD-84A46589D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7D0938-53EB-44A9-894D-A8B1A7824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126F83-03AC-4B27-9851-673D5A2C7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B7BD2E-BCDD-45B1-981B-A18BD90A4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53C2CB-3C69-4DB7-885C-80CC4B289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9CE775-7AB4-4595-8B19-9A98A0B8D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197E12-E4E1-47AE-8930-E67F39DC1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E8F4E8-4CA1-49B2-8784-6E93BEAF2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A40D34-CF4C-412B-9B78-693A580DB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8BA3C-72A3-4248-B318-8B7A85F79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D199E8-A30C-4F1A-84E8-5BEB95D2C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542896-0478-48C4-B542-CE728B2CD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C84FB6-5DDB-4D12-8009-55C315B7C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B3A884-DE21-47E2-A481-E6F8D147A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8C15BD-0CF7-4754-9849-A1337AE62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F5E96B-396C-487F-8553-72F04D5D6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546EAC-6A6E-4513-9087-FCFDB5BD1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0F2FA5-9099-4C12-B247-E4D3CB1F4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08A75B-BB45-4614-AC6A-67B782B3B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81A7AF-0B61-4E67-B6E3-C5BAED375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22C41-8307-4B9F-95F9-261E6DBC7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2C23D3-7A40-43C4-9150-A32500885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72A3F7-D148-46CB-B829-F85EC41F9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58F514-B114-4D99-BF22-8A1364973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1C91B9-769A-4F7B-B740-D03255506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62B8A2-BB22-49CC-AF14-686DDA4EB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DE92D1-7E24-4166-BE04-17E2283A6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7B933A-D1D1-4C29-B55D-9FB8651CE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9BBA79-B926-4F23-9102-9BB373CFC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CFAAE6-D83D-4C32-95F3-76FD36ED6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F1EA66-790A-4BC4-BACD-8685B0920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8A936-86BD-4340-8111-0585E5431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077A0A-EE72-4CF9-ABA3-2B57D54CF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C96187-E5B6-4FB8-95CC-AD1CB761B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919939-1E24-453C-81BC-7728E4D1B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A5721E-E5BC-4B8B-8EF8-8B5DE0BEA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41832D-F55B-4CA6-83AD-8ACEB3D16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716F61-F6B1-4A77-9EEC-0F9931B75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E65C6F-ACBC-425D-95C7-D35E2B0FD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9B229D-CEB0-43E8-84A0-80A316D63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BF735F-6B33-4E56-B212-23F302756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61FB06-DB4E-4270-B56F-174603414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A635B-14DE-4A90-BFB8-CEA6D14F3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6D3B09-F152-4886-B56D-F414AD621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3B834F-0466-447D-A493-A4807F97D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B6E2B7-DD97-49B4-A25D-C1276FB5F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06E5C4-444B-4166-8490-6E224A83D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E0A32B-9B6C-4276-8E3A-73DD60C7A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5BC498-C033-4251-9F28-D1366550F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7ACAF3-0863-4DA9-98CD-F40664DF6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7BA87A-E269-4A31-A334-748342631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5292E2-92DA-4D37-8B31-F001B7BA8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2960E1-D3C4-4125-B9DA-0754338D0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FFDD3-20FE-4EB9-8504-C577A24B0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6F5D02-2A79-43C9-8161-3A860212E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ECB23E-17CE-47E6-B442-A9FE9D124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DCB527-D8DD-4E03-947A-0A8B46870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82AAB8-7B7D-42AA-92C8-AAAE917C8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54EFC3-29A7-457C-BA0F-8488D6D45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9D74A4-F059-4898-A705-D6A3F19DA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D5F242-1F44-4922-A298-E1851F0B7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10 Triángulo rectángulo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" name="7 Conector recto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8 Conector recto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9C592-FE38-413A-83AA-B0D5AD7D6A7E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10 Triángulo rectángulo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" name="7 Conector recto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" name="8 Conector recto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9 Triángulo isósceles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CE7C6-3BA7-4950-AD0D-D7CB185AF537}" type="slidenum">
              <a:rPr b="0" lang="es-MX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10 Triángulo rectángulo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0" name="7 Conector recto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8 Conector recto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DBEA9-B840-4143-A0C9-E28FEAF97007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9 Triángulo rectángulo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4" name="11 Triángulo isósceles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5" name="14 Conector recto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15 Conector recto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31FBC-ADF5-4217-9288-A6C3A9A82F5E}" type="slidenum">
              <a:rPr b="0" lang="es-MX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10 Triángulo rectángulo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9" name="7 Conector recto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8 Conector recto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13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14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31BCF-11BE-4C2F-AF65-8CD84EDF24B4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6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7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8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AFE7A-2C2B-4866-8FE5-C1A842F3FD82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9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20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21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6A727-B6FD-4882-ACD6-7EF8CCE6CBE6}" type="slidenum"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22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23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24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97566-48BE-4655-8DDF-0CFC58323C04}" type="slidenum">
              <a:rPr b="0" lang="es-MX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10"/>
          <p:cNvSpPr/>
          <p:nvPr/>
        </p:nvSpPr>
        <p:spPr>
          <a:xfrm>
            <a:off x="500040" y="2428920"/>
            <a:ext cx="1440000" cy="647640"/>
          </a:xfrm>
          <a:prstGeom prst="rect">
            <a:avLst/>
          </a:prstGeom>
          <a:solidFill>
            <a:srgbClr val="ff388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Century Gothic"/>
              </a:rPr>
              <a:t>EXTERNAS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6" name="Rectangle 12"/>
          <p:cNvSpPr/>
          <p:nvPr/>
        </p:nvSpPr>
        <p:spPr>
          <a:xfrm>
            <a:off x="3786120" y="2357280"/>
            <a:ext cx="2016360" cy="648000"/>
          </a:xfrm>
          <a:prstGeom prst="rect">
            <a:avLst/>
          </a:prstGeom>
          <a:solidFill>
            <a:srgbClr val="ff388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Century Gothic"/>
              </a:rPr>
              <a:t>INTERNAS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7" name="Rectangle 14"/>
          <p:cNvSpPr/>
          <p:nvPr/>
        </p:nvSpPr>
        <p:spPr>
          <a:xfrm>
            <a:off x="7072200" y="2357280"/>
            <a:ext cx="1800360" cy="648000"/>
          </a:xfrm>
          <a:prstGeom prst="rect">
            <a:avLst/>
          </a:prstGeom>
          <a:solidFill>
            <a:srgbClr val="ff388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Century Gothic"/>
              </a:rPr>
              <a:t>INICIO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8" name="Line 15"/>
          <p:cNvSpPr/>
          <p:nvPr/>
        </p:nvSpPr>
        <p:spPr>
          <a:xfrm>
            <a:off x="7858080" y="1857240"/>
            <a:ext cx="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9" name="Line 26"/>
          <p:cNvSpPr/>
          <p:nvPr/>
        </p:nvSpPr>
        <p:spPr>
          <a:xfrm>
            <a:off x="7858080" y="3000240"/>
            <a:ext cx="0" cy="720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0" name="AutoShape 34"/>
          <p:cNvSpPr/>
          <p:nvPr/>
        </p:nvSpPr>
        <p:spPr>
          <a:xfrm>
            <a:off x="2411280" y="404640"/>
            <a:ext cx="4751640" cy="1152720"/>
          </a:xfrm>
          <a:custGeom>
            <a:avLst/>
            <a:gdLst>
              <a:gd name="textAreaLeft" fmla="*/ 1384200 w 4751640"/>
              <a:gd name="textAreaRight" fmla="*/ 3367440 w 4751640"/>
              <a:gd name="textAreaTop" fmla="*/ 0 h 1152720"/>
              <a:gd name="textAreaBottom" fmla="*/ 857880 h 1152720"/>
            </a:gdLst>
            <a:ahLst/>
            <a:rect l="textAreaLeft" t="textAreaTop" r="textAreaRight" b="textAreaBottom"/>
            <a:pathLst>
              <a:path w="21600" h="21600">
                <a:moveTo>
                  <a:pt x="8993" y="16072"/>
                </a:moveTo>
                <a:lnTo>
                  <a:pt x="8993" y="20218"/>
                </a:lnTo>
                <a:cubicBezTo>
                  <a:pt x="8993" y="20909"/>
                  <a:pt x="8573" y="21600"/>
                  <a:pt x="8153" y="21600"/>
                </a:cubicBezTo>
                <a:lnTo>
                  <a:pt x="0" y="21600"/>
                </a:lnTo>
                <a:lnTo>
                  <a:pt x="2750" y="13564"/>
                </a:lnTo>
                <a:lnTo>
                  <a:pt x="0" y="5528"/>
                </a:lnTo>
                <a:lnTo>
                  <a:pt x="6293" y="5528"/>
                </a:lnTo>
                <a:lnTo>
                  <a:pt x="6293" y="1382"/>
                </a:lnTo>
                <a:cubicBezTo>
                  <a:pt x="6293" y="691"/>
                  <a:pt x="6713" y="0"/>
                  <a:pt x="7133" y="0"/>
                </a:cubicBezTo>
                <a:lnTo>
                  <a:pt x="14467" y="0"/>
                </a:lnTo>
                <a:cubicBezTo>
                  <a:pt x="14887" y="0"/>
                  <a:pt x="15307" y="691"/>
                  <a:pt x="15307" y="1382"/>
                </a:cubicBezTo>
                <a:lnTo>
                  <a:pt x="15307" y="5528"/>
                </a:lnTo>
                <a:lnTo>
                  <a:pt x="21600" y="5528"/>
                </a:lnTo>
                <a:lnTo>
                  <a:pt x="18850" y="13564"/>
                </a:lnTo>
                <a:lnTo>
                  <a:pt x="21600" y="21600"/>
                </a:lnTo>
                <a:lnTo>
                  <a:pt x="13447" y="21600"/>
                </a:lnTo>
                <a:cubicBezTo>
                  <a:pt x="13027" y="21600"/>
                  <a:pt x="12607" y="20909"/>
                  <a:pt x="12607" y="20218"/>
                </a:cubicBezTo>
                <a:lnTo>
                  <a:pt x="12607" y="16072"/>
                </a:lnTo>
                <a:close/>
              </a:path>
              <a:path fill="darkenLess" w="21600" h="21600">
                <a:moveTo>
                  <a:pt x="8993" y="16072"/>
                </a:moveTo>
                <a:lnTo>
                  <a:pt x="8993" y="20218"/>
                </a:lnTo>
                <a:cubicBezTo>
                  <a:pt x="8993" y="19527"/>
                  <a:pt x="8573" y="18836"/>
                  <a:pt x="8153" y="18836"/>
                </a:cubicBezTo>
                <a:lnTo>
                  <a:pt x="7133" y="18836"/>
                </a:lnTo>
                <a:cubicBezTo>
                  <a:pt x="6713" y="18836"/>
                  <a:pt x="6293" y="18145"/>
                  <a:pt x="6293" y="17454"/>
                </a:cubicBezTo>
                <a:cubicBezTo>
                  <a:pt x="6293" y="16763"/>
                  <a:pt x="6713" y="16072"/>
                  <a:pt x="7133" y="16072"/>
                </a:cubicBezTo>
                <a:close/>
              </a:path>
              <a:path fill="darkenLess" w="21600" h="21600">
                <a:moveTo>
                  <a:pt x="12607" y="16072"/>
                </a:moveTo>
                <a:lnTo>
                  <a:pt x="12607" y="20218"/>
                </a:lnTo>
                <a:cubicBezTo>
                  <a:pt x="12607" y="19527"/>
                  <a:pt x="13027" y="18836"/>
                  <a:pt x="13447" y="18836"/>
                </a:cubicBezTo>
                <a:lnTo>
                  <a:pt x="14467" y="18836"/>
                </a:lnTo>
                <a:cubicBezTo>
                  <a:pt x="14887" y="18836"/>
                  <a:pt x="15307" y="18145"/>
                  <a:pt x="15307" y="17454"/>
                </a:cubicBezTo>
                <a:cubicBezTo>
                  <a:pt x="15307" y="16763"/>
                  <a:pt x="14887" y="16072"/>
                  <a:pt x="14467" y="16072"/>
                </a:cubicBezTo>
                <a:close/>
              </a:path>
              <a:path fill="darkenLess" w="21600" h="21600">
                <a:moveTo>
                  <a:pt x="6293" y="17454"/>
                </a:moveTo>
                <a:lnTo>
                  <a:pt x="6293" y="5528"/>
                </a:lnTo>
              </a:path>
              <a:path fill="darkenLess" w="21600" h="21600">
                <a:moveTo>
                  <a:pt x="15307" y="17454"/>
                </a:moveTo>
                <a:lnTo>
                  <a:pt x="15307" y="5528"/>
                </a:lnTo>
              </a:path>
            </a:pathLst>
          </a:custGeom>
          <a:solidFill>
            <a:srgbClr val="ff388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Forte"/>
              </a:rPr>
              <a:t>INDEPENDENCIA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Forte"/>
              </a:rPr>
              <a:t>DE 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Forte"/>
              </a:rPr>
              <a:t>MÉXICO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1" name="26 Conector recto"/>
          <p:cNvSpPr/>
          <p:nvPr/>
        </p:nvSpPr>
        <p:spPr>
          <a:xfrm>
            <a:off x="4787280" y="1262160"/>
            <a:ext cx="6120" cy="1095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2" name="28 Conector recto"/>
          <p:cNvSpPr/>
          <p:nvPr/>
        </p:nvSpPr>
        <p:spPr>
          <a:xfrm>
            <a:off x="3929040" y="3929040"/>
            <a:ext cx="192888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cxnSp>
        <p:nvCxnSpPr>
          <p:cNvPr id="353" name="32 Conector recto de flecha"/>
          <p:cNvCxnSpPr/>
          <p:nvPr/>
        </p:nvCxnSpPr>
        <p:spPr>
          <a:xfrm flipH="1">
            <a:off x="3927240" y="3929040"/>
            <a:ext cx="2160" cy="5025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354" name="35 Conector recto de flecha"/>
          <p:cNvCxnSpPr/>
          <p:nvPr/>
        </p:nvCxnSpPr>
        <p:spPr>
          <a:xfrm flipH="1">
            <a:off x="5857560" y="3930480"/>
            <a:ext cx="2160" cy="5011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355" name="38 CuadroTexto"/>
          <p:cNvSpPr/>
          <p:nvPr/>
        </p:nvSpPr>
        <p:spPr>
          <a:xfrm>
            <a:off x="3143160" y="4572000"/>
            <a:ext cx="1571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e400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entury Gothic"/>
              </a:rPr>
              <a:t>Reformas borbónicas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6" name="39 CuadroTexto"/>
          <p:cNvSpPr/>
          <p:nvPr/>
        </p:nvSpPr>
        <p:spPr>
          <a:xfrm>
            <a:off x="4286160" y="5643720"/>
            <a:ext cx="215748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e400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entury Gothic"/>
              </a:rPr>
              <a:t>Insatisfacción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entury Gothic"/>
              </a:rPr>
              <a:t>socia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cxnSp>
        <p:nvCxnSpPr>
          <p:cNvPr id="357" name="41 Conector recto de flecha"/>
          <p:cNvCxnSpPr/>
          <p:nvPr/>
        </p:nvCxnSpPr>
        <p:spPr>
          <a:xfrm>
            <a:off x="4865760" y="2999880"/>
            <a:ext cx="64080" cy="2644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358" name="43 CuadroTexto"/>
          <p:cNvSpPr/>
          <p:nvPr/>
        </p:nvSpPr>
        <p:spPr>
          <a:xfrm>
            <a:off x="5143680" y="4500720"/>
            <a:ext cx="15714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e400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entury Gothic"/>
              </a:rPr>
              <a:t>Crisis agrícola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9" name="51 Conector recto"/>
          <p:cNvSpPr/>
          <p:nvPr/>
        </p:nvSpPr>
        <p:spPr>
          <a:xfrm flipH="1">
            <a:off x="1213920" y="1857240"/>
            <a:ext cx="1800" cy="500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0" name="52 Conector recto"/>
          <p:cNvSpPr/>
          <p:nvPr/>
        </p:nvSpPr>
        <p:spPr>
          <a:xfrm flipH="1">
            <a:off x="1213920" y="3071880"/>
            <a:ext cx="1800" cy="500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1" name="54 Conector recto"/>
          <p:cNvSpPr/>
          <p:nvPr/>
        </p:nvSpPr>
        <p:spPr>
          <a:xfrm>
            <a:off x="1214280" y="1857240"/>
            <a:ext cx="664380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2" name="55 Conector recto"/>
          <p:cNvSpPr/>
          <p:nvPr/>
        </p:nvSpPr>
        <p:spPr>
          <a:xfrm>
            <a:off x="285840" y="3571920"/>
            <a:ext cx="164304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3" name="57 CuadroTexto"/>
          <p:cNvSpPr/>
          <p:nvPr/>
        </p:nvSpPr>
        <p:spPr>
          <a:xfrm>
            <a:off x="285840" y="3857760"/>
            <a:ext cx="157140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e400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entury Gothic"/>
              </a:rPr>
              <a:t>Ilustración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4" name="58 CuadroTexto"/>
          <p:cNvSpPr/>
          <p:nvPr/>
        </p:nvSpPr>
        <p:spPr>
          <a:xfrm>
            <a:off x="1000080" y="4572000"/>
            <a:ext cx="1571760" cy="733320"/>
          </a:xfrm>
          <a:prstGeom prst="rect">
            <a:avLst/>
          </a:prstGeom>
          <a:solidFill>
            <a:srgbClr val="ffffff"/>
          </a:solidFill>
          <a:ln w="25560">
            <a:solidFill>
              <a:srgbClr val="e400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Century Gothic"/>
              </a:rPr>
              <a:t>Independencia de las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s-MX" sz="1400" spc="-1" strike="noStrike">
                <a:solidFill>
                  <a:srgbClr val="000000"/>
                </a:solidFill>
                <a:latin typeface="Century Gothic"/>
              </a:rPr>
              <a:t>trece colonias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</p:txBody>
      </p:sp>
      <p:cxnSp>
        <p:nvCxnSpPr>
          <p:cNvPr id="365" name="59 Conector recto de flecha"/>
          <p:cNvCxnSpPr/>
          <p:nvPr/>
        </p:nvCxnSpPr>
        <p:spPr>
          <a:xfrm flipH="1">
            <a:off x="285120" y="3571920"/>
            <a:ext cx="1080" cy="2865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366" name="60 Conector recto de flecha"/>
          <p:cNvCxnSpPr/>
          <p:nvPr/>
        </p:nvCxnSpPr>
        <p:spPr>
          <a:xfrm flipH="1">
            <a:off x="1926360" y="3573360"/>
            <a:ext cx="2520" cy="9295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367" name="67 CuadroTexto"/>
          <p:cNvSpPr/>
          <p:nvPr/>
        </p:nvSpPr>
        <p:spPr>
          <a:xfrm>
            <a:off x="7143840" y="3714840"/>
            <a:ext cx="1714320" cy="2014200"/>
          </a:xfrm>
          <a:prstGeom prst="rect">
            <a:avLst/>
          </a:prstGeom>
          <a:solidFill>
            <a:srgbClr val="ffffff"/>
          </a:solidFill>
          <a:ln w="25560">
            <a:solidFill>
              <a:srgbClr val="e400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0" lang="es-MX" sz="1800" spc="-1" strike="noStrike">
                <a:solidFill>
                  <a:srgbClr val="000000"/>
                </a:solidFill>
                <a:latin typeface="Century Gothic"/>
              </a:rPr>
              <a:t>Miguel Hidalgo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s-MX" sz="1800" spc="-1" strike="noStrike">
                <a:solidFill>
                  <a:srgbClr val="000000"/>
                </a:solidFill>
                <a:latin typeface="Century Gothic"/>
              </a:rPr>
              <a:t>Ignacio Allende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s-MX" sz="1800" spc="-1" strike="noStrike">
                <a:solidFill>
                  <a:srgbClr val="000000"/>
                </a:solidFill>
                <a:latin typeface="Century Gothic"/>
              </a:rPr>
              <a:t>Josefa Ortiz de Domínguez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8" name="70 CuadroTexto"/>
          <p:cNvSpPr/>
          <p:nvPr/>
        </p:nvSpPr>
        <p:spPr>
          <a:xfrm>
            <a:off x="3000240" y="1500120"/>
            <a:ext cx="235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Century Gothic"/>
              </a:rPr>
              <a:t>Sus causas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9" name="76 CuadroTexto"/>
          <p:cNvSpPr/>
          <p:nvPr/>
        </p:nvSpPr>
        <p:spPr>
          <a:xfrm>
            <a:off x="285840" y="3214800"/>
            <a:ext cx="85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Century Gothic"/>
              </a:rPr>
              <a:t>como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0" name="77 CuadroTexto"/>
          <p:cNvSpPr/>
          <p:nvPr/>
        </p:nvSpPr>
        <p:spPr>
          <a:xfrm>
            <a:off x="7786800" y="3143160"/>
            <a:ext cx="85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Century Gothic"/>
              </a:rPr>
              <a:t>con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1" name="78 CuadroTexto"/>
          <p:cNvSpPr/>
          <p:nvPr/>
        </p:nvSpPr>
        <p:spPr>
          <a:xfrm>
            <a:off x="4429080" y="3214800"/>
            <a:ext cx="85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Century Gothic"/>
              </a:rPr>
              <a:t>como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72" name="huapango.mid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3" dur="1" fill="hold"/>
                                        <p:tgtEl>
                                          <p:spTgt spid="3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16T19:42:09Z</dcterms:created>
  <dc:creator>PC</dc:creator>
  <dc:description/>
  <dc:language>en-US</dc:language>
  <cp:lastModifiedBy>PC</cp:lastModifiedBy>
  <dcterms:modified xsi:type="dcterms:W3CDTF">2008-07-16T19:43:47Z</dcterms:modified>
  <cp:revision>1</cp:revision>
  <dc:subject/>
  <dc:title>Diapositiva 1</dc:title>
</cp:coreProperties>
</file>