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32.jpeg" ContentType="image/jpeg"/>
  <Override PartName="/ppt/media/image35.png" ContentType="image/png"/>
  <Override PartName="/ppt/media/image10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BF2-A750-4F7E-9CE8-65E4FA63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F563-705F-412B-97C8-ECC3D120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1F4-3F68-42EF-897E-5C6CCF59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63F-A9AA-4F31-B07E-C831057D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C3D1-3565-470B-ADC1-ED715C35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E642-74DE-4EB0-AFEE-F2ABE955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AC1B-3630-4390-AF53-97B10034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E6B3-C536-485B-9645-98C4D329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DADF-54B0-473A-BA3D-76386AF5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491C-6CEA-42B0-A933-F90F3EF9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AFB6-785C-4DE5-8BAD-1A450D86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D62-E4D0-4CD1-97A3-7A014958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D9BD-E158-4607-BF8A-385BEEC4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D492-6065-48ED-8FB2-917FE6C8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E3F0-4C38-4348-8E71-2215F728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CFA3-F2BF-4494-8D17-56657E0F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376A-E8C5-4131-B223-8E60DDBB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AE56E-9D03-451E-93FF-C5F16EB9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36F3A-4B26-4120-BB99-99826A02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856B1-0BFD-4A5A-80EB-B34FCA96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131E7-4911-4F17-987E-B443710E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ADD7F-CEDD-4BD9-9936-DB84649F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A10-F81A-4848-A2D1-56F91B87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229A5-968F-4C0D-B417-04D2E3CE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8D799-7BD0-4A77-B3AB-12937073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4277B-A814-47FB-9B31-F52531D6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8BDFE-F8D2-4A04-9FEA-758B2579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3F0D8-1F49-4FEC-9603-C51A0FBF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31678-E745-4BCC-AB72-403E4A3C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151A-1780-41EC-B463-A195EE7D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B7D28-D8B1-4211-9274-2965019C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248E8-EBC0-490E-B80B-8F204538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44F3A-8E05-4C3C-9716-89204CCA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4D4-CB52-4E37-B198-F7B6FC30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5B91E-2D2D-462A-8554-2126982A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09A24-C70C-4FC9-88BE-1EEECE10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796DC-AAF8-4037-9289-860B6CFA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BC5E2-FCAC-463F-90BA-A3C36C3C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3C0CC-E8AE-4B7B-9136-1204A69A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3FD71-98D3-4B74-8D29-F59DDE43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EE81B-4855-4D74-A215-5F853211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ADCEC-BE50-454B-91EB-7B1FF01C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619FC-D75F-4560-9289-1133B1F8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A3666-3842-4BEE-A6B2-A098BB53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B1C-3264-45A7-B837-581D969B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ED40B-6CD3-4709-9A06-C88260C6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40A46-AC10-4574-8B50-56840E44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88A9E-4EAD-4D90-9E2A-0666CED0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D66B5-1594-4F0F-B868-FB75B5AA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95994-E046-4FE8-813E-88A1A830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A190E-03FB-4C45-A35E-3D3A477D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F57EB-4703-4E6F-A9A1-2636137E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052BD-BF48-49D0-AA0E-AC207509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E64B9-C4FC-4AB4-892C-9600D9B0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90182-E3E0-43CC-9761-A1ECB44B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A83-E738-4354-B499-52C12918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2F9C5-B657-4E72-AE20-5F30FEF7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929A0-13FF-4D1D-A64F-0FAA84AF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DDBEA-5D13-42BE-8779-2136856A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601EC-D73A-4EEE-A654-4C5EE6A8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D1FD3-21AB-4258-A164-ACDDE016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BD028-7879-4BA7-8F05-F89E7799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BE283-8B33-4AAB-BBCD-181B0814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84DEA-2FE0-48BD-8BEA-07CD3690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85CBD-21AB-47A0-9143-350A59D9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3BAD1-EDA4-4655-A2C5-DCC5FA9B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7BC-5817-42FD-8959-16A3A9C6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38EC9-D1B9-43EA-B85C-C718447D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1E8B3-8120-4BB9-8B33-00259C6D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6619C-C09E-42A2-8802-D59F4F29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25D89-C96A-4930-AE57-B9077CD6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0A194-5832-4BD8-B618-C2217273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B1343-3B75-44B7-B189-BDAB1283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4C656-5343-4B72-9147-A02F80FA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835C1-8CA9-4833-A02E-05DA05BA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2A7CC-DA36-4753-AEE9-0BC2240B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D4047-2DAF-47CE-99B2-A7150720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3EB-15EC-410E-AE27-575F2331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3EA22-7887-41C8-9E48-03DC4D67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29C81-9F07-4CC1-B5FA-7B6FDAF8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35A72-B1CE-4B81-B9A6-D340ECB0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80E77-0DFA-4E3A-8012-894A7023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1FB94-37F9-4C6E-BC57-FE919B9D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4798A-C72E-4E44-9C71-1EDBED05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B4B4F-D5EB-46B0-9BF3-D5E3BA91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B7AEF-8945-406B-BB39-FD991D9F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510AB-7645-46A7-9BBF-22FFED61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5BE3D-F8DD-4EDF-8854-81343F06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EA5C-80C4-4A81-A713-D817959A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FD120-BD85-41F0-AF4F-3BFCF15D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FA89F-E16E-489E-9A47-99409D1E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8EC94-0D53-4D81-A4FB-35ACBFB8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2F652-A088-4EC8-B18F-D831F79B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5F673-DCDC-4F7F-8DAD-D31915B4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00B9E-FBF3-4E64-A9A2-413C247A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4E1B4-A1FD-4147-A3EF-11E49D2A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04D2-D0A8-44B3-8584-AFB05CEB25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E3D9-70A1-4DBE-B071-6E0B5D1AD16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A762-0004-4FCF-8486-700662D5035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709E-7D60-43A4-8B6E-BF5E65781FF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6933-6AB9-4DDF-92E4-414C4E98B63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C15E-0AAE-4203-AB77-265DC57092F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C0FB-C356-499D-85AF-D7C523A166C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d787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787a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d787a3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787a3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787a3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787a3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14D1-CB86-4304-A6BA-B8BE72A5B5ED}" type="slidenum">
              <a:rPr b="0" lang="en-US" sz="1000" spc="-1" strike="noStrike">
                <a:solidFill>
                  <a:srgbClr val="d787a3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706320" y="1420920"/>
            <a:ext cx="8188560" cy="18586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14240" y="34290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Lucida Sans Unicode"/>
              </a:rPr>
              <a:t>LA CONQUISTA Y LA COLON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UNIDAD III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58006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4 Rectángulo" descr=""/>
          <p:cNvPicPr/>
          <p:nvPr/>
        </p:nvPicPr>
        <p:blipFill>
          <a:blip r:embed="rId1"/>
          <a:stretch/>
        </p:blipFill>
        <p:spPr>
          <a:xfrm>
            <a:off x="993600" y="85680"/>
            <a:ext cx="7186680" cy="1152720"/>
          </a:xfrm>
          <a:prstGeom prst="rect">
            <a:avLst/>
          </a:prstGeom>
          <a:ln w="0">
            <a:noFill/>
          </a:ln>
        </p:spPr>
      </p:pic>
      <p:sp>
        <p:nvSpPr>
          <p:cNvPr id="458" name="7 CuadroTexto"/>
          <p:cNvSpPr/>
          <p:nvPr/>
        </p:nvSpPr>
        <p:spPr>
          <a:xfrm>
            <a:off x="285840" y="1357200"/>
            <a:ext cx="392904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3.3.1 Organización polí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En cuanto a las instituciones establecidas en América, en dependencia del mismo proceso de conquista y colonización, fueron surgiendo la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La Capitanía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La Real Aud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El Virr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Los Gobern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Alcaldías may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Correg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República de in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Las Congre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8 CuadroTexto"/>
          <p:cNvSpPr/>
          <p:nvPr/>
        </p:nvSpPr>
        <p:spPr>
          <a:xfrm>
            <a:off x="4572000" y="1428840"/>
            <a:ext cx="3929040" cy="71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3.3.2 Organización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852f74"/>
                </a:solidFill>
                <a:latin typeface="Agency FB"/>
              </a:rPr>
              <a:t>EL SISTEMA TRIBUTARIO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:  En cargado a la autoridades agrupadas en torno a la Real Hacienda y responsables directos de la captación de pagos para el sostenimiento de las diversas instituciones civ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000" spc="-1" strike="noStrike">
                <a:solidFill>
                  <a:srgbClr val="852f74"/>
                </a:solidFill>
                <a:latin typeface="Agency FB"/>
              </a:rPr>
              <a:t>LA PROPIEDAD DE LA TIERRA: </a:t>
            </a:r>
            <a:r>
              <a:rPr b="0" i="1" lang="en-US" sz="2000" spc="-1" strike="noStrike">
                <a:solidFill>
                  <a:srgbClr val="ffffff"/>
                </a:solidFill>
                <a:latin typeface="Agency FB"/>
              </a:rPr>
              <a:t>La real merced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surgió como forma legal de poseer la tierra.  </a:t>
            </a:r>
            <a:r>
              <a:rPr b="0" i="1" lang="en-US" sz="2000" spc="-1" strike="noStrike">
                <a:solidFill>
                  <a:srgbClr val="ffffff"/>
                </a:solidFill>
                <a:latin typeface="Agency FB"/>
              </a:rPr>
              <a:t>Las labores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que eran unidades empleadas para los cultivos agrícolas. </a:t>
            </a:r>
            <a:r>
              <a:rPr b="0" i="1" lang="en-US" sz="2000" spc="-1" strike="noStrike">
                <a:solidFill>
                  <a:srgbClr val="ffffff"/>
                </a:solidFill>
                <a:latin typeface="Agency FB"/>
              </a:rPr>
              <a:t>Las caballerías </a:t>
            </a: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 extensión de tierra equivalente a 43 hectáreas, entre otras, la existencia de la propiedad comunal modalidad de tenencia de la tierra que diversos grupos indígenas habían logrado mante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4 Rectángulo" descr=""/>
          <p:cNvPicPr/>
          <p:nvPr/>
        </p:nvPicPr>
        <p:blipFill>
          <a:blip r:embed="rId1"/>
          <a:stretch/>
        </p:blipFill>
        <p:spPr>
          <a:xfrm>
            <a:off x="993600" y="85680"/>
            <a:ext cx="6735960" cy="1152720"/>
          </a:xfrm>
          <a:prstGeom prst="rect">
            <a:avLst/>
          </a:prstGeom>
          <a:ln w="0">
            <a:noFill/>
          </a:ln>
        </p:spPr>
      </p:pic>
      <p:sp>
        <p:nvSpPr>
          <p:cNvPr id="461" name="7 CuadroTexto"/>
          <p:cNvSpPr/>
          <p:nvPr/>
        </p:nvSpPr>
        <p:spPr>
          <a:xfrm>
            <a:off x="357120" y="1409760"/>
            <a:ext cx="3714840" cy="84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La presencia de españoles, indígenas americanos, africanos esclavizados y las diversas mezclas de estas culturas y etnias dieron paso a un mosaico social que se diferenció de forma muy marc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Los esclavos africanos fueron arrancados de sus tierras y obligados a realizar los trabajos más pesados en las minas y plantaciones novohispa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Las castas eran un grupo de mezclas entre españoles, indígenas y africa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s-MX" sz="2200" spc="-1" strike="noStrike">
                <a:solidFill>
                  <a:srgbClr val="ffffff"/>
                </a:solidFill>
                <a:latin typeface="Agency FB"/>
              </a:rPr>
              <a:t>Una de las consecuencias más importantes de la Colonia fue el mestiza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" descr="C:\Documents and Settings\All Users\Documentos\Mis imágenes\historia de méxico\4.tif"/>
          <p:cNvPicPr/>
          <p:nvPr/>
        </p:nvPicPr>
        <p:blipFill>
          <a:blip r:embed="rId6"/>
          <a:stretch/>
        </p:blipFill>
        <p:spPr>
          <a:xfrm>
            <a:off x="4786200" y="1643040"/>
            <a:ext cx="3643560" cy="42861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C:\Documents and Settings\All Users\Documentos\Mis imágenes\CAPITAL.bmp"/>
          <p:cNvPicPr/>
          <p:nvPr/>
        </p:nvPicPr>
        <p:blipFill>
          <a:blip r:embed="rId7"/>
          <a:stretch/>
        </p:blipFill>
        <p:spPr>
          <a:xfrm>
            <a:off x="4786200" y="1643040"/>
            <a:ext cx="3643560" cy="42861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C:\Documents and Settings\All Users\Documentos\Mis imágenes\Ilustracion 2.jpg"/>
          <p:cNvPicPr/>
          <p:nvPr/>
        </p:nvPicPr>
        <p:blipFill>
          <a:blip r:embed="rId8"/>
          <a:stretch/>
        </p:blipFill>
        <p:spPr>
          <a:xfrm>
            <a:off x="4786200" y="1643040"/>
            <a:ext cx="3643560" cy="42861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8" descr="C:\Documents and Settings\All Users\Documentos\Mis imágenes\MARGINACIÒN1.jpg"/>
          <p:cNvPicPr/>
          <p:nvPr/>
        </p:nvPicPr>
        <p:blipFill>
          <a:blip r:embed="rId9"/>
          <a:stretch/>
        </p:blipFill>
        <p:spPr>
          <a:xfrm>
            <a:off x="4786200" y="1643040"/>
            <a:ext cx="3643560" cy="42861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9" descr="C:\Documents and Settings\All Users\Documentos\Mis imágenes\historia de méxico\19.tif"/>
          <p:cNvPicPr/>
          <p:nvPr/>
        </p:nvPicPr>
        <p:blipFill>
          <a:blip r:embed="rId10"/>
          <a:stretch/>
        </p:blipFill>
        <p:spPr>
          <a:xfrm>
            <a:off x="4786200" y="1643040"/>
            <a:ext cx="364356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7 CuadroTexto"/>
          <p:cNvSpPr/>
          <p:nvPr/>
        </p:nvSpPr>
        <p:spPr>
          <a:xfrm>
            <a:off x="357120" y="107172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doni MT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doni MT"/>
              </a:rPr>
              <a:t>socio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8 Abrir llave"/>
          <p:cNvSpPr/>
          <p:nvPr/>
        </p:nvSpPr>
        <p:spPr>
          <a:xfrm>
            <a:off x="2071800" y="714240"/>
            <a:ext cx="357120" cy="135756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357560"/>
              <a:gd name="textAreaBottom" fmla="*/ 1348560 h 135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326"/>
                </a:lnTo>
                <a:cubicBezTo>
                  <a:pt x="10800" y="10563"/>
                  <a:pt x="5400" y="10800"/>
                  <a:pt x="0" y="10800"/>
                </a:cubicBezTo>
                <a:cubicBezTo>
                  <a:pt x="5400" y="10800"/>
                  <a:pt x="10800" y="11037"/>
                  <a:pt x="10800" y="11274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9 CuadroTexto"/>
          <p:cNvSpPr/>
          <p:nvPr/>
        </p:nvSpPr>
        <p:spPr>
          <a:xfrm>
            <a:off x="2428920" y="57168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MT"/>
              </a:rPr>
              <a:t>Sector 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10 CuadroTexto"/>
          <p:cNvSpPr/>
          <p:nvPr/>
        </p:nvSpPr>
        <p:spPr>
          <a:xfrm>
            <a:off x="2428920" y="185724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MT"/>
              </a:rPr>
              <a:t>Sector ru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11 CuadroTexto"/>
          <p:cNvSpPr/>
          <p:nvPr/>
        </p:nvSpPr>
        <p:spPr>
          <a:xfrm>
            <a:off x="4286160" y="500040"/>
            <a:ext cx="42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MT"/>
              </a:rPr>
              <a:t>Burócratas, militares, eclesiásticos, comerciantes, propietarios y min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12 Abrir llave"/>
          <p:cNvSpPr/>
          <p:nvPr/>
        </p:nvSpPr>
        <p:spPr>
          <a:xfrm>
            <a:off x="3857760" y="428760"/>
            <a:ext cx="285480" cy="78552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785520"/>
              <a:gd name="textAreaBottom" fmla="*/ 7783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13 Abrir llave"/>
          <p:cNvSpPr/>
          <p:nvPr/>
        </p:nvSpPr>
        <p:spPr>
          <a:xfrm>
            <a:off x="3857760" y="1571760"/>
            <a:ext cx="214200" cy="85716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857160"/>
              <a:gd name="textAreaBottom" fmla="*/ 85176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14 CuadroTexto"/>
          <p:cNvSpPr/>
          <p:nvPr/>
        </p:nvSpPr>
        <p:spPr>
          <a:xfrm>
            <a:off x="4214880" y="1714680"/>
            <a:ext cx="492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MT"/>
              </a:rPr>
              <a:t>Hacendados, empresarios de minas, órdenes religiosas, agricultores y trabajadores de mi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15 CuadroTexto"/>
          <p:cNvSpPr/>
          <p:nvPr/>
        </p:nvSpPr>
        <p:spPr>
          <a:xfrm>
            <a:off x="0" y="414324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doni MT"/>
              </a:rPr>
              <a:t>Esquema de posicione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16 Abrir llave"/>
          <p:cNvSpPr/>
          <p:nvPr/>
        </p:nvSpPr>
        <p:spPr>
          <a:xfrm>
            <a:off x="1714680" y="3643200"/>
            <a:ext cx="285480" cy="207180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2071800"/>
              <a:gd name="textAreaBottom" fmla="*/ 2064600 h 20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17 CuadroTexto"/>
          <p:cNvSpPr/>
          <p:nvPr/>
        </p:nvSpPr>
        <p:spPr>
          <a:xfrm>
            <a:off x="2071800" y="3714840"/>
            <a:ext cx="1928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doni MT"/>
              </a:rPr>
              <a:t>Criterio etnocentrista acorde con la mentalidad europea y española en particular. Los españoles, “señores de la tierra”, aunque muy pocos eran nobles de or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18 CuadroTexto"/>
          <p:cNvSpPr/>
          <p:nvPr/>
        </p:nvSpPr>
        <p:spPr>
          <a:xfrm>
            <a:off x="4357800" y="4071960"/>
            <a:ext cx="192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doni MT"/>
              </a:rPr>
              <a:t>División jerárquica pasada una generación después de la Conqu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19 Abrir llave"/>
          <p:cNvSpPr/>
          <p:nvPr/>
        </p:nvSpPr>
        <p:spPr>
          <a:xfrm>
            <a:off x="4143240" y="3643200"/>
            <a:ext cx="285840" cy="207180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071800"/>
              <a:gd name="textAreaBottom" fmla="*/ 2064600 h 20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20 Abrir llave"/>
          <p:cNvSpPr/>
          <p:nvPr/>
        </p:nvSpPr>
        <p:spPr>
          <a:xfrm>
            <a:off x="6215040" y="3143160"/>
            <a:ext cx="357120" cy="3214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214800"/>
              <a:gd name="textAreaBottom" fmla="*/ 3205800 h 32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21 CuadroTexto"/>
          <p:cNvSpPr/>
          <p:nvPr/>
        </p:nvSpPr>
        <p:spPr>
          <a:xfrm>
            <a:off x="6572160" y="2857680"/>
            <a:ext cx="19288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doni MT"/>
              </a:rPr>
              <a:t>Distinción entre peninsulares y criol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doni MT"/>
              </a:rPr>
              <a:t>Mestizos en el tercer ni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doni MT"/>
              </a:rPr>
              <a:t>En el cuarto nivel los “indios” o “gente menuda” antiguos habitantes de Mesoamérica. Los pobladores de las regiones del norte eran considerados como “indios bárbaro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8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8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La iglesia nació subordinada a la autoridad de los monarcas aunque, con el tiempo, llegó a constituirse un Estado frente al poder civil.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Franciscan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Dominic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Agustin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Jesuita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Los carmelita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Los mercedari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Los hipólit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Juanin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Antoninos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</p:txBody>
      </p:sp>
      <p:pic>
        <p:nvPicPr>
          <p:cNvPr id="483" name="3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C:\Documents and Settings\All Users\Documentos\Mis imágenes\historia de méxico\61.tif"/>
          <p:cNvPicPr/>
          <p:nvPr/>
        </p:nvPicPr>
        <p:blipFill>
          <a:blip r:embed="rId3"/>
          <a:stretch/>
        </p:blipFill>
        <p:spPr>
          <a:xfrm>
            <a:off x="5143680" y="1500120"/>
            <a:ext cx="3500280" cy="43578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mhtml:file://C:\Documents%20and%20Settings\All%20Users\Documentos\Mis%20imágenes\historia%20de%20méxico\MÉXICO%20HISTORIA%201\LAS%20REFORMAS%20BORBÓNICAS.mht!http://personales.ya.com/fororeal/salontrono.jpg"/>
          <p:cNvPicPr/>
          <p:nvPr/>
        </p:nvPicPr>
        <p:blipFill>
          <a:blip r:embed="rId4"/>
          <a:stretch/>
        </p:blipFill>
        <p:spPr>
          <a:xfrm>
            <a:off x="5143680" y="1500120"/>
            <a:ext cx="3500280" cy="43578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"/>
          <p:cNvPicPr/>
          <p:nvPr/>
        </p:nvPicPr>
        <p:blipFill>
          <a:blip r:embed="rId5"/>
          <a:stretch/>
        </p:blipFill>
        <p:spPr>
          <a:xfrm>
            <a:off x="5143680" y="1500120"/>
            <a:ext cx="350028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13 CuadroTexto"/>
          <p:cNvSpPr/>
          <p:nvPr/>
        </p:nvSpPr>
        <p:spPr>
          <a:xfrm>
            <a:off x="3214800" y="4287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14 Abrir llave"/>
          <p:cNvSpPr/>
          <p:nvPr/>
        </p:nvSpPr>
        <p:spPr>
          <a:xfrm rot="5400000">
            <a:off x="4393080" y="-1821600"/>
            <a:ext cx="571320" cy="60721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6072120"/>
              <a:gd name="textAreaBottom" fmla="*/ 6057360 h 607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"/>
                  <a:pt x="10800" y="169"/>
                </a:cubicBezTo>
                <a:lnTo>
                  <a:pt x="10800" y="10631"/>
                </a:lnTo>
                <a:cubicBezTo>
                  <a:pt x="10800" y="10716"/>
                  <a:pt x="5400" y="10800"/>
                  <a:pt x="0" y="10800"/>
                </a:cubicBezTo>
                <a:cubicBezTo>
                  <a:pt x="5400" y="10800"/>
                  <a:pt x="10800" y="10885"/>
                  <a:pt x="10800" y="10969"/>
                </a:cubicBezTo>
                <a:lnTo>
                  <a:pt x="10800" y="21431"/>
                </a:lnTo>
                <a:cubicBezTo>
                  <a:pt x="10800" y="215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15 CuadroTexto"/>
          <p:cNvSpPr/>
          <p:nvPr/>
        </p:nvSpPr>
        <p:spPr>
          <a:xfrm>
            <a:off x="857160" y="14288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16 CuadroTexto"/>
          <p:cNvSpPr/>
          <p:nvPr/>
        </p:nvSpPr>
        <p:spPr>
          <a:xfrm>
            <a:off x="6786720" y="15001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17 Abrir llave"/>
          <p:cNvSpPr/>
          <p:nvPr/>
        </p:nvSpPr>
        <p:spPr>
          <a:xfrm rot="16200000">
            <a:off x="4357440" y="-785520"/>
            <a:ext cx="642960" cy="6072120"/>
          </a:xfrm>
          <a:custGeom>
            <a:avLst/>
            <a:gdLst>
              <a:gd name="textAreaLeft" fmla="*/ 410760 w 642960"/>
              <a:gd name="textAreaRight" fmla="*/ 642960 w 642960"/>
              <a:gd name="textAreaTop" fmla="*/ 0 h 6072120"/>
              <a:gd name="textAreaBottom" fmla="*/ 6072480 h 607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66"/>
                </a:lnTo>
                <a:cubicBezTo>
                  <a:pt x="10800" y="10866"/>
                  <a:pt x="5400" y="10866"/>
                  <a:pt x="0" y="10866"/>
                </a:cubicBezTo>
                <a:cubicBezTo>
                  <a:pt x="5400" y="10866"/>
                  <a:pt x="10800" y="10866"/>
                  <a:pt x="10800" y="1086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18 CuadroTexto"/>
          <p:cNvSpPr/>
          <p:nvPr/>
        </p:nvSpPr>
        <p:spPr>
          <a:xfrm>
            <a:off x="714240" y="2571840"/>
            <a:ext cx="78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o sólo era poderoso por su riqueza sino también por su número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20 Abrir llave"/>
          <p:cNvSpPr/>
          <p:nvPr/>
        </p:nvSpPr>
        <p:spPr>
          <a:xfrm rot="5400000">
            <a:off x="4286160" y="-857160"/>
            <a:ext cx="571320" cy="8001000"/>
          </a:xfrm>
          <a:custGeom>
            <a:avLst/>
            <a:gdLst>
              <a:gd name="textAreaLeft" fmla="*/ 365040 w 571320"/>
              <a:gd name="textAreaRight" fmla="*/ 571680 w 571320"/>
              <a:gd name="textAreaTop" fmla="*/ 0 h 8001000"/>
              <a:gd name="textAreaBottom" fmla="*/ 8001360 h 800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21 CuadroTexto"/>
          <p:cNvSpPr/>
          <p:nvPr/>
        </p:nvSpPr>
        <p:spPr>
          <a:xfrm>
            <a:off x="285840" y="34290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ras p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22 CuadroTexto"/>
          <p:cNvSpPr/>
          <p:nvPr/>
        </p:nvSpPr>
        <p:spPr>
          <a:xfrm>
            <a:off x="6215040" y="3429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zgados de capellan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23 Abrir llave"/>
          <p:cNvSpPr/>
          <p:nvPr/>
        </p:nvSpPr>
        <p:spPr>
          <a:xfrm rot="16200000">
            <a:off x="4357440" y="1143000"/>
            <a:ext cx="642960" cy="6072120"/>
          </a:xfrm>
          <a:custGeom>
            <a:avLst/>
            <a:gdLst>
              <a:gd name="textAreaLeft" fmla="*/ 410760 w 642960"/>
              <a:gd name="textAreaRight" fmla="*/ 642960 w 642960"/>
              <a:gd name="textAreaTop" fmla="*/ 0 h 6072120"/>
              <a:gd name="textAreaBottom" fmla="*/ 6072480 h 607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66"/>
                </a:lnTo>
                <a:cubicBezTo>
                  <a:pt x="10800" y="10866"/>
                  <a:pt x="5400" y="10866"/>
                  <a:pt x="0" y="10866"/>
                </a:cubicBezTo>
                <a:cubicBezTo>
                  <a:pt x="5400" y="10866"/>
                  <a:pt x="10800" y="10866"/>
                  <a:pt x="10800" y="1086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24 CuadroTexto"/>
          <p:cNvSpPr/>
          <p:nvPr/>
        </p:nvSpPr>
        <p:spPr>
          <a:xfrm>
            <a:off x="785880" y="442908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La riqueza y poder del clero originó numerosos y frecuentes conflictos que produjeron un estado de agitación e intranqu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27 Flecha abajo"/>
          <p:cNvSpPr/>
          <p:nvPr/>
        </p:nvSpPr>
        <p:spPr>
          <a:xfrm>
            <a:off x="4500720" y="507204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28 CuadroTexto"/>
          <p:cNvSpPr/>
          <p:nvPr/>
        </p:nvSpPr>
        <p:spPr>
          <a:xfrm>
            <a:off x="1285920" y="557208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 los dos cleros se produjeron luchas constantes que terminaron en el siglo 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8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7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7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8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8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8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8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8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8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8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77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2" dur="770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4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6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4571"/>
                </a:solidFill>
                <a:latin typeface="Bodoni MT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La reforma económic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La reforma política administrativ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Expulsión de los jesuit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lnSpc>
                <a:spcPct val="100000"/>
              </a:lnSpc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14571"/>
                </a:solidFill>
                <a:latin typeface="Bodoni MT"/>
              </a:rPr>
              <a:t>A mediados del siglo XVIII, la dinastía borbona decidió modificar el estilo de gobierno que había establecido la Casa de los Habsburg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14571"/>
                </a:solidFill>
                <a:latin typeface="Bodoni MT"/>
              </a:rPr>
              <a:t>A la llegada de los borbones al poder, la economía española estaba en una situación de inferioridad, sobre todo con Inglaterr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14571"/>
                </a:solidFill>
                <a:latin typeface="Bodoni MT"/>
              </a:rPr>
              <a:t>Con sus reformas afectaron al grupo de los criollos novohispan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2" name="7 Rectángulo" descr=""/>
          <p:cNvPicPr/>
          <p:nvPr/>
        </p:nvPicPr>
        <p:blipFill>
          <a:blip r:embed="rId2"/>
          <a:stretch/>
        </p:blipFill>
        <p:spPr>
          <a:xfrm>
            <a:off x="49320" y="438120"/>
            <a:ext cx="885024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path" presetID="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7 0 L 0.21 0.22236 L -0.04 0.22236 L 0 0 Z">
                                      <p:cBhvr>
                                        <p:cTn id="923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8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3" dur="2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2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20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9 Diagrama" descr=""/>
          <p:cNvPicPr/>
          <p:nvPr/>
        </p:nvPicPr>
        <p:blipFill>
          <a:blip r:embed="rId2"/>
          <a:stretch/>
        </p:blipFill>
        <p:spPr>
          <a:xfrm>
            <a:off x="573120" y="895320"/>
            <a:ext cx="7491240" cy="51404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7667640" y="6381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en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3 Rectángulo"/>
          <p:cNvSpPr/>
          <p:nvPr/>
        </p:nvSpPr>
        <p:spPr>
          <a:xfrm>
            <a:off x="2214720" y="357120"/>
            <a:ext cx="4572000" cy="71460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2e4e"/>
                </a:solidFill>
                <a:latin typeface="Baskerville Old Face"/>
              </a:rPr>
              <a:t>DESCUBRIMIENTO   DE   AM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5 Rectángulo"/>
          <p:cNvSpPr/>
          <p:nvPr/>
        </p:nvSpPr>
        <p:spPr>
          <a:xfrm>
            <a:off x="3286080" y="2928960"/>
            <a:ext cx="2214720" cy="57132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SOMET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INDIG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6 Rectángulo"/>
          <p:cNvSpPr/>
          <p:nvPr/>
        </p:nvSpPr>
        <p:spPr>
          <a:xfrm>
            <a:off x="571680" y="3786120"/>
            <a:ext cx="2214360" cy="50004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AR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7 Rectángulo"/>
          <p:cNvSpPr/>
          <p:nvPr/>
        </p:nvSpPr>
        <p:spPr>
          <a:xfrm>
            <a:off x="6143760" y="3714840"/>
            <a:ext cx="2214360" cy="50004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RELI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8 Rectángulo"/>
          <p:cNvSpPr/>
          <p:nvPr/>
        </p:nvSpPr>
        <p:spPr>
          <a:xfrm>
            <a:off x="357120" y="4857840"/>
            <a:ext cx="2214720" cy="71424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CONQU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MAT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9 Rectángulo"/>
          <p:cNvSpPr/>
          <p:nvPr/>
        </p:nvSpPr>
        <p:spPr>
          <a:xfrm>
            <a:off x="6357960" y="4786200"/>
            <a:ext cx="2214720" cy="71460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CONQU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ESPIRI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0 Flecha derecha"/>
          <p:cNvSpPr/>
          <p:nvPr/>
        </p:nvSpPr>
        <p:spPr>
          <a:xfrm rot="5400000">
            <a:off x="3607560" y="1607400"/>
            <a:ext cx="1571760" cy="9288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b83d68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787a3"/>
                </a:solidFill>
                <a:latin typeface="Lucida Sans Unicode"/>
              </a:rPr>
              <a:t>CONQU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2 Conector recto"/>
          <p:cNvSpPr/>
          <p:nvPr/>
        </p:nvSpPr>
        <p:spPr>
          <a:xfrm>
            <a:off x="5500800" y="3214800"/>
            <a:ext cx="1643040" cy="14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14 Conector recto"/>
          <p:cNvSpPr/>
          <p:nvPr/>
        </p:nvSpPr>
        <p:spPr>
          <a:xfrm>
            <a:off x="1357200" y="3214800"/>
            <a:ext cx="1928880" cy="14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15 Conector recto"/>
          <p:cNvSpPr/>
          <p:nvPr/>
        </p:nvSpPr>
        <p:spPr>
          <a:xfrm>
            <a:off x="1357200" y="3214800"/>
            <a:ext cx="0" cy="57132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24 Conector recto"/>
          <p:cNvSpPr/>
          <p:nvPr/>
        </p:nvSpPr>
        <p:spPr>
          <a:xfrm flipH="1">
            <a:off x="7143840" y="3214800"/>
            <a:ext cx="1440" cy="50148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27 Conector recto"/>
          <p:cNvSpPr/>
          <p:nvPr/>
        </p:nvSpPr>
        <p:spPr>
          <a:xfrm flipH="1">
            <a:off x="1355760" y="4286160"/>
            <a:ext cx="1440" cy="57312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31 Conector recto"/>
          <p:cNvSpPr/>
          <p:nvPr/>
        </p:nvSpPr>
        <p:spPr>
          <a:xfrm flipH="1">
            <a:off x="7143840" y="4214880"/>
            <a:ext cx="1440" cy="57312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32 CuadroTexto"/>
          <p:cNvSpPr/>
          <p:nvPr/>
        </p:nvSpPr>
        <p:spPr>
          <a:xfrm>
            <a:off x="3286080" y="56437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COL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33 Conector recto"/>
          <p:cNvSpPr/>
          <p:nvPr/>
        </p:nvSpPr>
        <p:spPr>
          <a:xfrm>
            <a:off x="5929200" y="6000840"/>
            <a:ext cx="1214640" cy="14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34 Conector recto"/>
          <p:cNvSpPr/>
          <p:nvPr/>
        </p:nvSpPr>
        <p:spPr>
          <a:xfrm>
            <a:off x="1357200" y="6000840"/>
            <a:ext cx="1857600" cy="14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37 Conector recto"/>
          <p:cNvSpPr/>
          <p:nvPr/>
        </p:nvSpPr>
        <p:spPr>
          <a:xfrm>
            <a:off x="1357200" y="5572080"/>
            <a:ext cx="0" cy="42876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38 Conector recto"/>
          <p:cNvSpPr/>
          <p:nvPr/>
        </p:nvSpPr>
        <p:spPr>
          <a:xfrm flipH="1">
            <a:off x="7143840" y="5500800"/>
            <a:ext cx="1440" cy="5000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41 CuadroTexto"/>
          <p:cNvSpPr/>
          <p:nvPr/>
        </p:nvSpPr>
        <p:spPr>
          <a:xfrm>
            <a:off x="1000080" y="457200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llam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42 CuadroTexto"/>
          <p:cNvSpPr/>
          <p:nvPr/>
        </p:nvSpPr>
        <p:spPr>
          <a:xfrm>
            <a:off x="5643720" y="2928960"/>
            <a:ext cx="15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me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43 CuadroTexto"/>
          <p:cNvSpPr/>
          <p:nvPr/>
        </p:nvSpPr>
        <p:spPr>
          <a:xfrm>
            <a:off x="1643040" y="292896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me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44 CuadroTexto"/>
          <p:cNvSpPr/>
          <p:nvPr/>
        </p:nvSpPr>
        <p:spPr>
          <a:xfrm>
            <a:off x="6786720" y="4500720"/>
            <a:ext cx="15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llam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08 danza autoctona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1 Rectángulo"/>
          <p:cNvSpPr/>
          <p:nvPr/>
        </p:nvSpPr>
        <p:spPr>
          <a:xfrm>
            <a:off x="1643040" y="500040"/>
            <a:ext cx="2214720" cy="64296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REFOR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BORBÓN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2 Rectángulo"/>
          <p:cNvSpPr/>
          <p:nvPr/>
        </p:nvSpPr>
        <p:spPr>
          <a:xfrm>
            <a:off x="285840" y="1785960"/>
            <a:ext cx="2214360" cy="71424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ADMINIST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3 Rectángulo"/>
          <p:cNvSpPr/>
          <p:nvPr/>
        </p:nvSpPr>
        <p:spPr>
          <a:xfrm>
            <a:off x="2786040" y="1785960"/>
            <a:ext cx="2214720" cy="714240"/>
          </a:xfrm>
          <a:prstGeom prst="rect">
            <a:avLst/>
          </a:pr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5400000"/>
          </a:gradFill>
          <a:ln w="9360">
            <a:solidFill>
              <a:srgbClr val="cf6da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ECONÓ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4 Rectángulo"/>
          <p:cNvSpPr/>
          <p:nvPr/>
        </p:nvSpPr>
        <p:spPr>
          <a:xfrm>
            <a:off x="6286680" y="1785960"/>
            <a:ext cx="2214360" cy="71424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CRIOL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5 Rectángulo"/>
          <p:cNvSpPr/>
          <p:nvPr/>
        </p:nvSpPr>
        <p:spPr>
          <a:xfrm>
            <a:off x="2143080" y="3071880"/>
            <a:ext cx="2214720" cy="71424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REORGANIZ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6 Rectángulo"/>
          <p:cNvSpPr/>
          <p:nvPr/>
        </p:nvSpPr>
        <p:spPr>
          <a:xfrm>
            <a:off x="6215040" y="3071880"/>
            <a:ext cx="2214720" cy="71424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ORDEN VIRRE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7 Rectángulo"/>
          <p:cNvSpPr/>
          <p:nvPr/>
        </p:nvSpPr>
        <p:spPr>
          <a:xfrm>
            <a:off x="500040" y="4357800"/>
            <a:ext cx="2214720" cy="71424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POLI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8 Rectángulo"/>
          <p:cNvSpPr/>
          <p:nvPr/>
        </p:nvSpPr>
        <p:spPr>
          <a:xfrm>
            <a:off x="3643200" y="4429080"/>
            <a:ext cx="2214720" cy="71460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9 Rectángulo"/>
          <p:cNvSpPr/>
          <p:nvPr/>
        </p:nvSpPr>
        <p:spPr>
          <a:xfrm>
            <a:off x="2143080" y="5572080"/>
            <a:ext cx="2214720" cy="714600"/>
          </a:xfrm>
          <a:prstGeom prst="rect">
            <a:avLst/>
          </a:prstGeom>
          <a:gradFill rotWithShape="0">
            <a:gsLst>
              <a:gs pos="0">
                <a:srgbClr val="d9a7e6"/>
              </a:gs>
              <a:gs pos="100000">
                <a:srgbClr val="f5ddfc"/>
              </a:gs>
            </a:gsLst>
            <a:lin ang="16200000"/>
          </a:gradFill>
          <a:ln w="9360">
            <a:solidFill>
              <a:srgbClr val="ac66b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2e4e"/>
                </a:solidFill>
                <a:latin typeface="Baskerville Old Face"/>
              </a:rPr>
              <a:t>ECONO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11 Conector recto"/>
          <p:cNvSpPr/>
          <p:nvPr/>
        </p:nvSpPr>
        <p:spPr>
          <a:xfrm flipH="1">
            <a:off x="1391760" y="1143000"/>
            <a:ext cx="1357560" cy="64296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12 Conector recto"/>
          <p:cNvSpPr/>
          <p:nvPr/>
        </p:nvSpPr>
        <p:spPr>
          <a:xfrm>
            <a:off x="2748960" y="1143000"/>
            <a:ext cx="1251000" cy="64296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4 Conector recto"/>
          <p:cNvSpPr/>
          <p:nvPr/>
        </p:nvSpPr>
        <p:spPr>
          <a:xfrm>
            <a:off x="3857760" y="857160"/>
            <a:ext cx="3571920" cy="18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7 Conector recto"/>
          <p:cNvSpPr/>
          <p:nvPr/>
        </p:nvSpPr>
        <p:spPr>
          <a:xfrm flipH="1">
            <a:off x="7429680" y="857160"/>
            <a:ext cx="1440" cy="9288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31 Conector recto"/>
          <p:cNvSpPr/>
          <p:nvPr/>
        </p:nvSpPr>
        <p:spPr>
          <a:xfrm>
            <a:off x="3857760" y="820800"/>
            <a:ext cx="1857240" cy="1393920"/>
          </a:xfrm>
          <a:prstGeom prst="line">
            <a:avLst/>
          </a:prstGeom>
          <a:ln w="25560">
            <a:solidFill>
              <a:srgbClr val="b83d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34 Conector recto"/>
          <p:cNvSpPr/>
          <p:nvPr/>
        </p:nvSpPr>
        <p:spPr>
          <a:xfrm flipH="1">
            <a:off x="5715000" y="2214720"/>
            <a:ext cx="1440" cy="642960"/>
          </a:xfrm>
          <a:prstGeom prst="line">
            <a:avLst/>
          </a:prstGeom>
          <a:ln w="25560">
            <a:solidFill>
              <a:srgbClr val="b83d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36 Conector recto"/>
          <p:cNvSpPr/>
          <p:nvPr/>
        </p:nvSpPr>
        <p:spPr>
          <a:xfrm>
            <a:off x="3071880" y="2857680"/>
            <a:ext cx="4357800" cy="144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7 Conector recto"/>
          <p:cNvSpPr/>
          <p:nvPr/>
        </p:nvSpPr>
        <p:spPr>
          <a:xfrm flipH="1">
            <a:off x="3071880" y="2857680"/>
            <a:ext cx="1440" cy="21420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41 Conector recto"/>
          <p:cNvSpPr/>
          <p:nvPr/>
        </p:nvSpPr>
        <p:spPr>
          <a:xfrm flipH="1">
            <a:off x="7429680" y="2857680"/>
            <a:ext cx="1440" cy="21420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42 Conector recto"/>
          <p:cNvSpPr/>
          <p:nvPr/>
        </p:nvSpPr>
        <p:spPr>
          <a:xfrm>
            <a:off x="1500120" y="4071960"/>
            <a:ext cx="3143160" cy="144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43 Conector recto"/>
          <p:cNvSpPr/>
          <p:nvPr/>
        </p:nvSpPr>
        <p:spPr>
          <a:xfrm flipH="1">
            <a:off x="3142800" y="3786120"/>
            <a:ext cx="1800" cy="178596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45 Conector recto"/>
          <p:cNvSpPr/>
          <p:nvPr/>
        </p:nvSpPr>
        <p:spPr>
          <a:xfrm flipH="1">
            <a:off x="1498680" y="4073400"/>
            <a:ext cx="1440" cy="28584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46 Conector recto"/>
          <p:cNvSpPr/>
          <p:nvPr/>
        </p:nvSpPr>
        <p:spPr>
          <a:xfrm flipH="1">
            <a:off x="4642920" y="4073400"/>
            <a:ext cx="1800" cy="35568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60 CuadroTexto"/>
          <p:cNvSpPr/>
          <p:nvPr/>
        </p:nvSpPr>
        <p:spPr>
          <a:xfrm>
            <a:off x="2000160" y="135720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De t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61 CuadroTexto"/>
          <p:cNvSpPr/>
          <p:nvPr/>
        </p:nvSpPr>
        <p:spPr>
          <a:xfrm>
            <a:off x="4643280" y="571680"/>
            <a:ext cx="25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Que afectan a 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62 CuadroTexto"/>
          <p:cNvSpPr/>
          <p:nvPr/>
        </p:nvSpPr>
        <p:spPr>
          <a:xfrm>
            <a:off x="4286160" y="264312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Para ha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63 CuadroTexto"/>
          <p:cNvSpPr/>
          <p:nvPr/>
        </p:nvSpPr>
        <p:spPr>
          <a:xfrm>
            <a:off x="2000160" y="385776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De t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7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1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All Users\Documentos\Mis imágenes\historia de méxico\MÉXICO HISTORIA 1\ESPAÑOLES\FE.jpg"/>
          <p:cNvPicPr/>
          <p:nvPr/>
        </p:nvPicPr>
        <p:blipFill>
          <a:blip r:embed="rId2"/>
          <a:stretch/>
        </p:blipFill>
        <p:spPr>
          <a:xfrm>
            <a:off x="357120" y="1643040"/>
            <a:ext cx="3143160" cy="1928880"/>
          </a:xfrm>
          <a:prstGeom prst="rect">
            <a:avLst/>
          </a:prstGeom>
          <a:ln w="0">
            <a:noFill/>
          </a:ln>
        </p:spPr>
      </p:pic>
      <p:sp>
        <p:nvSpPr>
          <p:cNvPr id="424" name="4 CuadroTexto"/>
          <p:cNvSpPr/>
          <p:nvPr/>
        </p:nvSpPr>
        <p:spPr>
          <a:xfrm>
            <a:off x="3643200" y="164304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ristóbal Colón inició una largo viaje para encontrar una nueva ruta al Oriente. Convencido de que la tierra era redo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C:\Documents and Settings\All Users\Documentos\Mis imágenes\historia de méxico\MÉXICO HISTORIA 1\ESPAÑOLES\AS.jpg"/>
          <p:cNvPicPr/>
          <p:nvPr/>
        </p:nvPicPr>
        <p:blipFill>
          <a:blip r:embed="rId3"/>
          <a:stretch/>
        </p:blipFill>
        <p:spPr>
          <a:xfrm>
            <a:off x="4857840" y="4143240"/>
            <a:ext cx="3357360" cy="2071800"/>
          </a:xfrm>
          <a:prstGeom prst="rect">
            <a:avLst/>
          </a:prstGeom>
          <a:ln w="0">
            <a:noFill/>
          </a:ln>
        </p:spPr>
      </p:pic>
      <p:sp>
        <p:nvSpPr>
          <p:cNvPr id="426" name="7 CuadroTexto"/>
          <p:cNvSpPr/>
          <p:nvPr/>
        </p:nvSpPr>
        <p:spPr>
          <a:xfrm>
            <a:off x="285840" y="435780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El 12 de Octubre de 1492 llegó con sus tres embarcaciones, La Niña, La Pinta y la Santa María a Guanahaní, isla de las Antillas, llamándola ´San Salv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56760" y="1571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87a3"/>
                </a:solidFill>
                <a:latin typeface="Lucida Sans Unicode"/>
              </a:rPr>
              <a:t>Cristóbal Colón</a:t>
            </a:r>
            <a:endParaRPr b="0" lang="en-US" sz="2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87a3"/>
                </a:solidFill>
                <a:latin typeface="Lucida Sans Unicode"/>
              </a:rPr>
              <a:t>Francisco Hernández de Córdoba</a:t>
            </a:r>
            <a:endParaRPr b="0" lang="en-US" sz="2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87a3"/>
                </a:solidFill>
                <a:latin typeface="Lucida Sans Unicode"/>
              </a:rPr>
              <a:t>Juan de Grijalva</a:t>
            </a:r>
            <a:endParaRPr b="0" lang="en-US" sz="2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87a3"/>
                </a:solidFill>
                <a:latin typeface="Lucida Sans Unicode"/>
              </a:rPr>
              <a:t>Hernán Cortés</a:t>
            </a:r>
            <a:endParaRPr b="0" lang="en-US" sz="2800" spc="-1" strike="noStrike">
              <a:solidFill>
                <a:srgbClr val="d787a3"/>
              </a:solidFill>
              <a:latin typeface="Lucida Sans Unicod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787a3"/>
                </a:solidFill>
                <a:latin typeface="Lucida Sans Unicode"/>
              </a:rPr>
              <a:t>Juan de Grijalva</a:t>
            </a:r>
            <a:endParaRPr b="0" lang="en-US" sz="2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Obtuvo la autorización de Velázquez para retomar el proceso de búsqueda de nuevas tierras.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Fue recibido por una embajada mexica enviada por Moctezuma.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787a3"/>
                </a:solidFill>
                <a:latin typeface="Lucida Sans Unicode"/>
              </a:rPr>
              <a:t>Notificó a sus superiores de la existencia de metales preciosos.</a:t>
            </a: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87a3"/>
              </a:solidFill>
              <a:latin typeface="Lucida Sans Unicode"/>
            </a:endParaRPr>
          </a:p>
        </p:txBody>
      </p:sp>
      <p:pic>
        <p:nvPicPr>
          <p:cNvPr id="429" name="1 Título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57736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4 CuadroTexto"/>
          <p:cNvSpPr/>
          <p:nvPr/>
        </p:nvSpPr>
        <p:spPr>
          <a:xfrm>
            <a:off x="2428920" y="2214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5" descr="francisco hernandez de cordoba"/>
          <p:cNvPicPr/>
          <p:nvPr/>
        </p:nvPicPr>
        <p:blipFill>
          <a:blip r:embed="rId2"/>
          <a:stretch/>
        </p:blipFill>
        <p:spPr>
          <a:xfrm>
            <a:off x="571680" y="1357200"/>
            <a:ext cx="2357280" cy="1500480"/>
          </a:xfrm>
          <a:prstGeom prst="rect">
            <a:avLst/>
          </a:prstGeom>
          <a:ln w="0">
            <a:noFill/>
          </a:ln>
        </p:spPr>
      </p:pic>
      <p:sp>
        <p:nvSpPr>
          <p:cNvPr id="432" name="4 CuadroTexto"/>
          <p:cNvSpPr/>
          <p:nvPr/>
        </p:nvSpPr>
        <p:spPr>
          <a:xfrm>
            <a:off x="2428920" y="2214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6 CuadroTexto"/>
          <p:cNvSpPr/>
          <p:nvPr/>
        </p:nvSpPr>
        <p:spPr>
          <a:xfrm>
            <a:off x="285840" y="714240"/>
            <a:ext cx="29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FRANCISCO HERNÁNDEZ DE CÓRD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8 CuadroTexto"/>
          <p:cNvSpPr/>
          <p:nvPr/>
        </p:nvSpPr>
        <p:spPr>
          <a:xfrm>
            <a:off x="3857760" y="714240"/>
            <a:ext cx="20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JUAN DE GRIJA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9 CuadroTexto"/>
          <p:cNvSpPr/>
          <p:nvPr/>
        </p:nvSpPr>
        <p:spPr>
          <a:xfrm>
            <a:off x="6143760" y="71424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HERNÁN COR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11 Rectángulo"/>
          <p:cNvSpPr/>
          <p:nvPr/>
        </p:nvSpPr>
        <p:spPr>
          <a:xfrm>
            <a:off x="571680" y="1643040"/>
            <a:ext cx="228600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gency FB"/>
              </a:rPr>
              <a:t>Navegante y conquistador español, descubridor del Yucatán. Conocemos que fue poblador de Cuba con </a:t>
            </a:r>
            <a:r>
              <a:rPr b="0" lang="es-MX" sz="2000" spc="-1" strike="noStrike">
                <a:solidFill>
                  <a:srgbClr val="000000"/>
                </a:solidFill>
                <a:latin typeface="Agency FB"/>
              </a:rPr>
              <a:t>Diego Velázquez de Cuéllar y que gozaba de buena posición. Descubrieron la costa yucateca alcanzando el cabo Catoche, la bahía de Campeche y Tabasco. En la península de Yucatán contemplaron con asombro la monumental arquitectura maya en el cabo Cato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C:\Documents and Settings\All Users\Documentos\Mis imágenes\historia de méxico\MÉXICO HISTORIA 1\ESPAÑOLES\GRIJALVA.jpg"/>
          <p:cNvPicPr/>
          <p:nvPr/>
        </p:nvPicPr>
        <p:blipFill>
          <a:blip r:embed="rId3"/>
          <a:stretch/>
        </p:blipFill>
        <p:spPr>
          <a:xfrm>
            <a:off x="3929040" y="1285920"/>
            <a:ext cx="1643040" cy="1276200"/>
          </a:xfrm>
          <a:prstGeom prst="rect">
            <a:avLst/>
          </a:prstGeom>
          <a:ln w="0">
            <a:noFill/>
          </a:ln>
        </p:spPr>
      </p:pic>
      <p:sp>
        <p:nvSpPr>
          <p:cNvPr id="438" name="13 Rectángulo"/>
          <p:cNvSpPr/>
          <p:nvPr/>
        </p:nvSpPr>
        <p:spPr>
          <a:xfrm>
            <a:off x="3286080" y="2714760"/>
            <a:ext cx="2714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gency FB"/>
              </a:rPr>
              <a:t>Descubridor y conquistador español, capitán en la segunda expedición que exploró parte de los litorales del golfo de México. Nacido en Cuéllar (Segovia), llegó a Santo Domingo en 1508. Tres años después participó en la conquista de Cub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3" descr="C:\Documents and Settings\All Users\Documentos\Mis imágenes\historia de méxico\MÉXICO HISTORIA 1\ESPAÑOLES\CORTES.jpg"/>
          <p:cNvPicPr/>
          <p:nvPr/>
        </p:nvPicPr>
        <p:blipFill>
          <a:blip r:embed="rId4"/>
          <a:stretch/>
        </p:blipFill>
        <p:spPr>
          <a:xfrm>
            <a:off x="6572160" y="1285920"/>
            <a:ext cx="1571760" cy="1285920"/>
          </a:xfrm>
          <a:prstGeom prst="rect">
            <a:avLst/>
          </a:prstGeom>
          <a:ln w="0">
            <a:noFill/>
          </a:ln>
        </p:spPr>
      </p:pic>
      <p:sp>
        <p:nvSpPr>
          <p:cNvPr id="440" name="15 Rectángulo"/>
          <p:cNvSpPr/>
          <p:nvPr/>
        </p:nvSpPr>
        <p:spPr>
          <a:xfrm>
            <a:off x="6357960" y="2857680"/>
            <a:ext cx="2357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gency FB"/>
              </a:rPr>
              <a:t>Conquistador español de México. A los 19 años, se embarcó con rumbo a Santo Domingo, en donde actuó como escribano en la villa de Azua. Acompañó a Diego Velázquez de Cuéllar en 1511 en la conquista de Cu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4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8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024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3"/>
          <a:stretch/>
        </p:blipFill>
        <p:spPr>
          <a:xfrm>
            <a:off x="357120" y="1714680"/>
            <a:ext cx="3238560" cy="3743280"/>
          </a:xfrm>
          <a:prstGeom prst="rect">
            <a:avLst/>
          </a:prstGeom>
          <a:ln w="0">
            <a:noFill/>
          </a:ln>
        </p:spPr>
      </p:pic>
      <p:sp>
        <p:nvSpPr>
          <p:cNvPr id="443" name="14 CuadroTexto"/>
          <p:cNvSpPr/>
          <p:nvPr/>
        </p:nvSpPr>
        <p:spPr>
          <a:xfrm>
            <a:off x="4000680" y="16430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gency FB"/>
              </a:rPr>
              <a:t>¿Identificas las características ideológicas y materiales de los españoles y de los mexicas desde el momento en que se inicia el avance sobre Tenochtitlán hasta su derro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15 CuadroTexto"/>
          <p:cNvSpPr/>
          <p:nvPr/>
        </p:nvSpPr>
        <p:spPr>
          <a:xfrm>
            <a:off x="4214880" y="3143160"/>
            <a:ext cx="4143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Cortés tocó territorio de Cuitláhuac, señor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Ixtapalapa, quien obedeciendo las órden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Moctezuma albergó a los extranj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Tomó prisionero a Moctezuma pretextando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muerte de algunos españ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Moctezuma negoció la libertad de Cuitláhu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Fray Diego Durán  reseña su postura acer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  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del suceso de los españ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Pedro de Alvarado incursionaría por Tacu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Agency FB"/>
              </a:rPr>
              <a:t>Cortés muere es España a los 62 añ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4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10 Cinta hacia abajo"/>
          <p:cNvSpPr/>
          <p:nvPr/>
        </p:nvSpPr>
        <p:spPr>
          <a:xfrm>
            <a:off x="2071800" y="500040"/>
            <a:ext cx="4714920" cy="928800"/>
          </a:xfrm>
          <a:custGeom>
            <a:avLst/>
            <a:gdLst>
              <a:gd name="textAreaLeft" fmla="*/ 1178640 w 4714920"/>
              <a:gd name="textAreaRight" fmla="*/ 3536280 w 4714920"/>
              <a:gd name="textAreaTop" fmla="*/ 15480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f4a6cd"/>
              </a:gs>
              <a:gs pos="100000">
                <a:srgbClr val="ffdaed"/>
              </a:gs>
            </a:gsLst>
            <a:lin ang="16200000"/>
          </a:gradFill>
          <a:ln w="9360">
            <a:solidFill>
              <a:srgbClr val="5c1f34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1f4d"/>
                </a:solidFill>
                <a:latin typeface="Agency FB"/>
              </a:rPr>
              <a:t>CONQU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12 Conector recto de flecha"/>
          <p:cNvCxnSpPr>
            <a:stCxn id="445" idx="2"/>
          </p:cNvCxnSpPr>
          <p:nvPr/>
        </p:nvCxnSpPr>
        <p:spPr>
          <a:xfrm flipH="1">
            <a:off x="1571040" y="1428480"/>
            <a:ext cx="2858040" cy="1215000"/>
          </a:xfrm>
          <a:prstGeom prst="straightConnector1">
            <a:avLst/>
          </a:prstGeom>
          <a:ln w="5508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447" name="13 Conector recto de flecha"/>
          <p:cNvCxnSpPr/>
          <p:nvPr/>
        </p:nvCxnSpPr>
        <p:spPr>
          <a:xfrm>
            <a:off x="4500720" y="1428840"/>
            <a:ext cx="2428920" cy="1286640"/>
          </a:xfrm>
          <a:prstGeom prst="straightConnector1">
            <a:avLst/>
          </a:prstGeom>
          <a:ln w="5508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448" name="21 CuadroTexto"/>
          <p:cNvSpPr/>
          <p:nvPr/>
        </p:nvSpPr>
        <p:spPr>
          <a:xfrm>
            <a:off x="785880" y="28576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gency FB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22 CuadroTexto"/>
          <p:cNvSpPr/>
          <p:nvPr/>
        </p:nvSpPr>
        <p:spPr>
          <a:xfrm>
            <a:off x="6143760" y="28576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gency FB"/>
              </a:rPr>
              <a:t>ESPIR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C:\Documents and Settings\All Users\Documentos\Mis imágenes\historia de méxico\MÉXICO HISTORIA 1\ESPAÑOLES\JJ.jpg"/>
          <p:cNvPicPr/>
          <p:nvPr/>
        </p:nvPicPr>
        <p:blipFill>
          <a:blip r:embed="rId2"/>
          <a:stretch/>
        </p:blipFill>
        <p:spPr>
          <a:xfrm>
            <a:off x="6215040" y="364320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All Users\Documentos\Mis imágenes\historia de méxico\MÉXICO HISTORIA 1\ESPAÑOLES\JY.jpg"/>
          <p:cNvPicPr/>
          <p:nvPr/>
        </p:nvPicPr>
        <p:blipFill>
          <a:blip r:embed="rId3"/>
          <a:stretch/>
        </p:blipFill>
        <p:spPr>
          <a:xfrm>
            <a:off x="714240" y="3571920"/>
            <a:ext cx="192888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369 C -0.01406 -0.00832 -0.02899 -0.01202 -0.04392 -0.01202 C -0.11407 -0.01202 -0.16893 0.04138 -0.16893 0.10611 C -0.16893 0.17014 -0.11407 0.22261 -0.04392 0.22261 C -0.02899 0.22261 -0.01406 0.21984 5E-006 0.21498 C -0.04704 0.19811 -0.08004 0.15581 -0.08004 0.10611 C -0.08004 0.05548 -0.04704 0.01318 5E-006 -0.00369 Z">
                                      <p:cBhvr>
                                        <p:cTn id="438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4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6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2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4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6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4 Onda"/>
          <p:cNvSpPr/>
          <p:nvPr/>
        </p:nvSpPr>
        <p:spPr>
          <a:xfrm>
            <a:off x="2786040" y="285840"/>
            <a:ext cx="3429000" cy="857160"/>
          </a:xfrm>
          <a:custGeom>
            <a:avLst/>
            <a:gdLst>
              <a:gd name="textAreaLeft" fmla="*/ 372960 w 3429000"/>
              <a:gd name="textAreaRight" fmla="*/ 3056040 w 3429000"/>
              <a:gd name="textAreaTop" fmla="*/ 193320 h 857160"/>
              <a:gd name="textAreaBottom" fmla="*/ 66384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439"/>
                </a:moveTo>
                <a:cubicBezTo>
                  <a:pt x="6025" y="-6201"/>
                  <a:pt x="13225" y="11079"/>
                  <a:pt x="19250" y="2439"/>
                </a:cubicBezTo>
                <a:lnTo>
                  <a:pt x="21600" y="19161"/>
                </a:lnTo>
                <a:cubicBezTo>
                  <a:pt x="15575" y="27801"/>
                  <a:pt x="8375" y="10521"/>
                  <a:pt x="2350" y="19161"/>
                </a:cubicBezTo>
                <a:close/>
              </a:path>
            </a:pathLst>
          </a:custGeom>
          <a:solidFill>
            <a:srgbClr val="b83d68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3.2.3 LA COLO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5 CuadroTexto"/>
          <p:cNvSpPr/>
          <p:nvPr/>
        </p:nvSpPr>
        <p:spPr>
          <a:xfrm>
            <a:off x="3071880" y="1409760"/>
            <a:ext cx="442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d787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La conquista abrió paso a la colonización y ésta trajo consigo la necesidad de implantar instituciones y formas de vida propias de Españ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Ese patrón se impuso en las colonias ultramarinas, aunque la presencia indígena las modific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El imperio español creció bajo los reinados de Carlos V y su hijo Felipe II y el nuevo Estado Nación Español consolidaba la figura del r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Carlos V confirmó a Cortés los títulos de Capitán General y Justicia May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2" descr="quetzalcoatl"/>
          <p:cNvPicPr/>
          <p:nvPr/>
        </p:nvPicPr>
        <p:blipFill>
          <a:blip r:embed="rId2"/>
          <a:stretch/>
        </p:blipFill>
        <p:spPr>
          <a:xfrm>
            <a:off x="285840" y="1643040"/>
            <a:ext cx="2314440" cy="33526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Galería en Flash"/>
          <p:cNvPicPr/>
          <p:nvPr/>
        </p:nvPicPr>
        <p:blipFill>
          <a:blip r:embed="rId3"/>
          <a:stretch/>
        </p:blipFill>
        <p:spPr>
          <a:xfrm>
            <a:off x="7858080" y="5643720"/>
            <a:ext cx="924120" cy="76176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4"/>
          <p:cNvSpPr/>
          <p:nvPr/>
        </p:nvSpPr>
        <p:spPr>
          <a:xfrm>
            <a:off x="4451760" y="44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2:36:20Z</dcterms:created>
  <dc:creator>PC</dc:creator>
  <dc:description/>
  <dc:language>en-US</dc:language>
  <cp:lastModifiedBy>LULU</cp:lastModifiedBy>
  <dcterms:modified xsi:type="dcterms:W3CDTF">2008-07-01T17:11:14Z</dcterms:modified>
  <cp:revision>72</cp:revision>
  <dc:subject/>
  <dc:title> UNIDAD III</dc:title>
</cp:coreProperties>
</file>