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747-E682-4D7D-A7C2-C72657E2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13B-31F7-46C5-9837-C92CBFA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DA1-0F90-4490-980D-8E97E716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8D0-5B5C-4091-B6D3-E29575C1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4DE-432A-4852-842F-B4D110F4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611-3454-46A1-853B-8568C8C5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81A4-29BB-4314-9F27-9877FCA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BF4-6C6B-4608-94B7-F675027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C2F1-A0B4-4D52-9990-32FAB97E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87B-C02C-41BA-A24A-984D989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9E3-352F-4A54-86F6-FDBA243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E3A-B873-4DA0-9E3B-4E1615B2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008-3DBB-47ED-88DF-B8DC886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3010-CFEE-4DDD-9EA2-1A0740F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DDF-F4D3-47E0-8B49-A9F585F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5C5E-3B21-4D6D-A151-2AE02E77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B92-830D-445E-845A-4A76A00B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634F-8AF4-4255-8D90-252DA010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05C8-6C8F-4E9D-AB94-8368A08C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77A5-58E7-4F99-A17E-ADD8B729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7171-4E01-4D9C-8B8F-4FB049F0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E564-7131-454A-87E6-32E2756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F94-0872-474F-AB4C-31D60168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4E42-0190-4665-83F8-E6CC5DC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A32B-B409-44DA-921C-ECDB67D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A0DD-0D39-4742-9D71-ED75C9E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EDB8-A743-4C70-AFDE-3546EAB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EC0D-E1A8-44FE-8BDC-39CC0E9D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A010-1E7E-4F03-9FC0-9C0A299F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11A3-9456-4B7A-A77F-BB2536DF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481C-C761-409E-A0F6-F6018D27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7A7E-295E-40DA-A3EF-FE917767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C140-F7A1-4365-8B0D-6AABD629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443-BAC7-4D64-BBD6-3A8C17F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18CF-EEF8-4562-B82D-990040D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DA40-F9BC-4134-B2EE-EB72FE1F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327F-8453-4075-B95F-7FB87BEA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7E01-B593-4C39-80F0-9461896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57DA-4291-46C3-A8E8-63883E4D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06FC-A8B2-4A36-B245-02575C8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30F9-64D1-4679-B6FE-9600F962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2D50-A1FC-4097-A9CC-8338906C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3AA7-3925-48F8-8650-7DAFB36B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798A-538F-466A-99FF-5F20A2E0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AD7-5D00-443A-B106-59EFA041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964E-398F-41D2-87B1-05F8832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3625-2CF5-4448-B4BD-1325F6F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9BD40-273A-41F8-B059-63532D4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8ECE9-B79B-4B0E-B58A-0B9DECF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984F-1250-488B-9A40-EF2EFF3E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098D-790F-499C-BCCC-8E5DD8B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CEE7-7D79-4CD2-BFED-9A781DA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4DBB-4FEE-46A7-B9E3-87B8AEA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019E-C221-42AE-BB1E-D27FA78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401F-68DB-48E9-B72B-69DDC4BB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2FA-0EC1-4433-A6E6-3A7FC16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CB51-0DB0-4621-97F2-E3F3C199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0238-D406-469D-A872-D4CC20E5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E50D-7EFF-4B8E-A2D1-0233F20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1F74-F67D-4C3B-8084-38A668AA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E811-98CD-4EB6-84A1-914A0916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CDAA-3BC3-4E4E-AEA2-7114D8A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30FD-B98F-403D-A202-66964E4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D0AD8-6677-44EC-BBAD-9FFA838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E8C7-E3A2-4DCF-84B3-CA143F1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2E5DE-0426-4330-B036-3195B065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AE7-BFC9-4BFC-91FB-8AE0E898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5965A-E893-443D-9179-8998C5E5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7CC1-8681-4482-A9CC-B2E871C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B390-8DE8-49BE-A75D-5DE866F6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0FACA-11D6-4FC5-B87D-63F89F15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6967-8FA7-4B6B-AF47-7A02DFE2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2F22-9F53-4426-BB9E-F873E8D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30B51-262D-4FD3-B543-48EB6AEA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A694B-C9DA-47AC-A4BF-AF7D844E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F0D4-4B2B-4425-8437-CE2F78EA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ADA7-6D73-44C7-A330-87CE379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3BF-EB5A-4E78-B168-1B5F3F7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0AE3-18AF-45F5-BEC1-BDE5E08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D8D0-D392-481A-906D-4570202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3EF7-4A7D-4D49-8E8A-8EAE3B50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AE60-0611-4AF9-8F6D-3CF6F60E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FBB7-8255-4081-A42A-8F6E1731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1E5C-A4FD-411C-8B48-762222C5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22926-94E3-4FA6-9B50-2861D898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97A7-C682-4934-97C2-CC6D6AF6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2DC80-E1F8-4FD6-AE16-B7C56B2A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E881E-7DDD-4E01-98B8-3EA66B53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157-8FBE-478C-A924-D3A1E251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F248-BABE-4ABF-A3CD-BEF10DB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1513E-DF5D-4FEA-9DA0-92DB9F4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1D69-E5FC-4270-8A7C-A5BE5FA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A6F4-E8C6-4C42-A8C2-BEC70CD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E4D2-5EC6-490B-876C-E3A5C9B1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CD65-719C-4A87-9D0C-38CC5DAC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54FD-088F-4AE0-B16C-D8F42CA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2A55-687E-4C13-AF6B-D1B8C238A7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C10-6A46-4F91-AD35-C5B5F89B32A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649-28AA-4538-BED8-B51D98297B3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E015-33A0-4FCB-93EA-89D29338601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B72-6E8B-42DB-A4D2-6A7897E7E8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D6D-937A-4255-9BAE-36960EEC09F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AA8-68A1-42FE-BF15-9A6312EA4F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87a3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787a3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87a3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2CC-832C-42A0-9807-541B9879A5A1}" type="slidenum">
              <a:rPr b="0" lang="en-US" sz="1000" spc="-1" strike="noStrike">
                <a:solidFill>
                  <a:srgbClr val="d787a3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1420920"/>
            <a:ext cx="8188560" cy="1858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4240" y="3429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Lucida Sans Unicode"/>
              </a:rPr>
              <a:t>LA CONQUISTA Y LA COLON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UNIDAD II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8006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4 Rectángulo" descr=""/>
          <p:cNvPicPr/>
          <p:nvPr/>
        </p:nvPicPr>
        <p:blipFill>
          <a:blip r:embed="rId1"/>
          <a:stretch/>
        </p:blipFill>
        <p:spPr>
          <a:xfrm>
            <a:off x="993600" y="85680"/>
            <a:ext cx="718668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7 CuadroTexto"/>
          <p:cNvSpPr/>
          <p:nvPr/>
        </p:nvSpPr>
        <p:spPr>
          <a:xfrm>
            <a:off x="285840" y="1357200"/>
            <a:ext cx="392904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3.3.1 Organización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En cuanto a las instituciones establecidas en América, en dependencia del mismo proceso de conquista y colonización, fueron surgiendo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 Capitanía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 Real Aud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El Vi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os Gober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Alcaldías may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Correg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República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s Congre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8 CuadroTexto"/>
          <p:cNvSpPr/>
          <p:nvPr/>
        </p:nvSpPr>
        <p:spPr>
          <a:xfrm>
            <a:off x="4572000" y="1428840"/>
            <a:ext cx="3929040" cy="71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3.3.2 Organización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852f74"/>
                </a:solidFill>
                <a:latin typeface="Agency FB"/>
              </a:rPr>
              <a:t>EL SISTEMA TRIBUTARIO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:  En cargado a la autoridades agrupadas en torno a la Real Hacienda y responsables directos de la captación de pagos para el sostenimiento de las diversas instituciones ci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852f74"/>
                </a:solidFill>
                <a:latin typeface="Agency FB"/>
              </a:rPr>
              <a:t>LA PROPIEDAD DE LA TIERRA: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 real merced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surgió como forma legal de poseer la tierra. 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s labores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que eran unidades empleadas para los cultivos agrícolas.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s caballerías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extensión de tierra equivalente a 43 hectáreas, entre otras, la existencia de la propiedad comunal modalidad de tenencia de la tierra que diversos grupos indígenas habían logrado man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4 Rectángulo" descr=""/>
          <p:cNvPicPr/>
          <p:nvPr/>
        </p:nvPicPr>
        <p:blipFill>
          <a:blip r:embed="rId1"/>
          <a:stretch/>
        </p:blipFill>
        <p:spPr>
          <a:xfrm>
            <a:off x="993600" y="85680"/>
            <a:ext cx="6735960" cy="1152720"/>
          </a:xfrm>
          <a:prstGeom prst="rect">
            <a:avLst/>
          </a:prstGeom>
          <a:ln w="0">
            <a:noFill/>
          </a:ln>
        </p:spPr>
      </p:pic>
      <p:sp>
        <p:nvSpPr>
          <p:cNvPr id="461" name="7 CuadroTexto"/>
          <p:cNvSpPr/>
          <p:nvPr/>
        </p:nvSpPr>
        <p:spPr>
          <a:xfrm>
            <a:off x="357120" y="1409760"/>
            <a:ext cx="3714840" cy="84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a presencia de españoles, indígenas americanos, africanos esclavizados y las diversas mezclas de estas culturas y etnias dieron paso a un mosaico social que se diferenció de forma muy mar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os esclavos africanos fueron arrancados de sus tierras y obligados a realizar los trabajos más pesados en las minas y plantaciones novohispa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as castas eran un grupo de mezclas entre españoles, indígenas y afric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Una de las consecuencias más importantes de la Colonia fue el mestiz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Documents and Settings\All Users\Documentos\Mis imágenes\historia de méxico\4.tif"/>
          <p:cNvPicPr/>
          <p:nvPr/>
        </p:nvPicPr>
        <p:blipFill>
          <a:blip r:embed="rId6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C:\Documents and Settings\All Users\Documentos\Mis imágenes\CAPITAL.bmp"/>
          <p:cNvPicPr/>
          <p:nvPr/>
        </p:nvPicPr>
        <p:blipFill>
          <a:blip r:embed="rId7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Documents and Settings\All Users\Documentos\Mis imágenes\Ilustracion 2.jpg"/>
          <p:cNvPicPr/>
          <p:nvPr/>
        </p:nvPicPr>
        <p:blipFill>
          <a:blip r:embed="rId8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C:\Documents and Settings\All Users\Documentos\Mis imágenes\MARGINACIÒN1.jpg"/>
          <p:cNvPicPr/>
          <p:nvPr/>
        </p:nvPicPr>
        <p:blipFill>
          <a:blip r:embed="rId9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C:\Documents and Settings\All Users\Documentos\Mis imágenes\historia de méxico\19.tif"/>
          <p:cNvPicPr/>
          <p:nvPr/>
        </p:nvPicPr>
        <p:blipFill>
          <a:blip r:embed="rId10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7 CuadroTexto"/>
          <p:cNvSpPr/>
          <p:nvPr/>
        </p:nvSpPr>
        <p:spPr>
          <a:xfrm>
            <a:off x="357120" y="107172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doni MT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doni MT"/>
              </a:rPr>
              <a:t>socio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8 Abrir llave"/>
          <p:cNvSpPr/>
          <p:nvPr/>
        </p:nvSpPr>
        <p:spPr>
          <a:xfrm>
            <a:off x="2071800" y="714240"/>
            <a:ext cx="357120" cy="135756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357560"/>
              <a:gd name="textAreaBottom" fmla="*/ 13485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326"/>
                </a:lnTo>
                <a:cubicBezTo>
                  <a:pt x="10800" y="10563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4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9 CuadroTexto"/>
          <p:cNvSpPr/>
          <p:nvPr/>
        </p:nvSpPr>
        <p:spPr>
          <a:xfrm>
            <a:off x="2428920" y="57168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Sector 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0 CuadroTexto"/>
          <p:cNvSpPr/>
          <p:nvPr/>
        </p:nvSpPr>
        <p:spPr>
          <a:xfrm>
            <a:off x="2428920" y="185724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Sector r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1 CuadroTexto"/>
          <p:cNvSpPr/>
          <p:nvPr/>
        </p:nvSpPr>
        <p:spPr>
          <a:xfrm>
            <a:off x="4286160" y="50004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Burócratas, militares, eclesiásticos, comerciantes, propietarios y min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2 Abrir llave"/>
          <p:cNvSpPr/>
          <p:nvPr/>
        </p:nvSpPr>
        <p:spPr>
          <a:xfrm>
            <a:off x="3857760" y="428760"/>
            <a:ext cx="285480" cy="785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85520"/>
              <a:gd name="textAreaBottom" fmla="*/ 7783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3 Abrir llave"/>
          <p:cNvSpPr/>
          <p:nvPr/>
        </p:nvSpPr>
        <p:spPr>
          <a:xfrm>
            <a:off x="3857760" y="1571760"/>
            <a:ext cx="214200" cy="8571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4 CuadroTexto"/>
          <p:cNvSpPr/>
          <p:nvPr/>
        </p:nvSpPr>
        <p:spPr>
          <a:xfrm>
            <a:off x="4214880" y="1714680"/>
            <a:ext cx="49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Hacendados, empresarios de minas, órdenes religiosas, agricultores y trabajadores de m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5 CuadroTexto"/>
          <p:cNvSpPr/>
          <p:nvPr/>
        </p:nvSpPr>
        <p:spPr>
          <a:xfrm>
            <a:off x="0" y="414324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Esquema de posicion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6 Abrir llave"/>
          <p:cNvSpPr/>
          <p:nvPr/>
        </p:nvSpPr>
        <p:spPr>
          <a:xfrm>
            <a:off x="1714680" y="3643200"/>
            <a:ext cx="285480" cy="20718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2071800"/>
              <a:gd name="textAreaBottom" fmla="*/ 20646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7 CuadroTexto"/>
          <p:cNvSpPr/>
          <p:nvPr/>
        </p:nvSpPr>
        <p:spPr>
          <a:xfrm>
            <a:off x="2071800" y="3714840"/>
            <a:ext cx="192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doni MT"/>
              </a:rPr>
              <a:t>Criterio etnocentrista acorde con la mentalidad europea y española en particular. Los españoles, “señores de la tierra”, aunque muy pocos eran nobles de or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8 CuadroTexto"/>
          <p:cNvSpPr/>
          <p:nvPr/>
        </p:nvSpPr>
        <p:spPr>
          <a:xfrm>
            <a:off x="4357800" y="4071960"/>
            <a:ext cx="192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División jerárquica pasada una generación después de la Conqu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9 Abrir llave"/>
          <p:cNvSpPr/>
          <p:nvPr/>
        </p:nvSpPr>
        <p:spPr>
          <a:xfrm>
            <a:off x="4143240" y="3643200"/>
            <a:ext cx="285840" cy="2071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071800"/>
              <a:gd name="textAreaBottom" fmla="*/ 20646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0 Abrir llave"/>
          <p:cNvSpPr/>
          <p:nvPr/>
        </p:nvSpPr>
        <p:spPr>
          <a:xfrm>
            <a:off x="6215040" y="3143160"/>
            <a:ext cx="357120" cy="3214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214800"/>
              <a:gd name="textAreaBottom" fmla="*/ 3205800 h 32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21 CuadroTexto"/>
          <p:cNvSpPr/>
          <p:nvPr/>
        </p:nvSpPr>
        <p:spPr>
          <a:xfrm>
            <a:off x="6572160" y="2857680"/>
            <a:ext cx="1928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Distinción entre peninsulares y crio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Mestizos en el tercer ni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En el cuarto nivel los “indios” o “gente menuda” antiguos habitantes de Mesoamérica. Los pobladores de las regiones del norte eran considerados como “indios bárbar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a iglesia nació subordinada a la autoridad de los monarcas aunque, con el tiempo, llegó a constituirse un Estado frente al poder civil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Francisca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Dominic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Agust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Jesuita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carmelita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mercedari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hipólit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Juan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Anton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</p:txBody>
      </p:sp>
      <p:pic>
        <p:nvPicPr>
          <p:cNvPr id="483" name="3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All Users\Documentos\Mis imágenes\historia de méxico\61.tif"/>
          <p:cNvPicPr/>
          <p:nvPr/>
        </p:nvPicPr>
        <p:blipFill>
          <a:blip r:embed="rId3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mhtml:file://C:\Documents%20and%20Settings\All%20Users\Documentos\Mis%20imágenes\historia%20de%20méxico\MÉXICO%20HISTORIA%201\LAS%20REFORMAS%20BORBÓNICAS.mht!http://personales.ya.com/fororeal/salontrono.jpg"/>
          <p:cNvPicPr/>
          <p:nvPr/>
        </p:nvPicPr>
        <p:blipFill>
          <a:blip r:embed="rId4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"/>
          <p:cNvPicPr/>
          <p:nvPr/>
        </p:nvPicPr>
        <p:blipFill>
          <a:blip r:embed="rId5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3 CuadroTexto"/>
          <p:cNvSpPr/>
          <p:nvPr/>
        </p:nvSpPr>
        <p:spPr>
          <a:xfrm>
            <a:off x="3214800" y="428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4 Abrir llave"/>
          <p:cNvSpPr/>
          <p:nvPr/>
        </p:nvSpPr>
        <p:spPr>
          <a:xfrm rot="5400000">
            <a:off x="4393080" y="-1821600"/>
            <a:ext cx="571320" cy="60721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6072120"/>
              <a:gd name="textAreaBottom" fmla="*/ 605736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5 CuadroTexto"/>
          <p:cNvSpPr/>
          <p:nvPr/>
        </p:nvSpPr>
        <p:spPr>
          <a:xfrm>
            <a:off x="857160" y="14288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6 CuadroTexto"/>
          <p:cNvSpPr/>
          <p:nvPr/>
        </p:nvSpPr>
        <p:spPr>
          <a:xfrm>
            <a:off x="6786720" y="15001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7 Abrir llave"/>
          <p:cNvSpPr/>
          <p:nvPr/>
        </p:nvSpPr>
        <p:spPr>
          <a:xfrm rot="16200000">
            <a:off x="4357440" y="-785520"/>
            <a:ext cx="642960" cy="607212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6072120"/>
              <a:gd name="textAreaBottom" fmla="*/ 607248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66"/>
                </a:lnTo>
                <a:cubicBezTo>
                  <a:pt x="10800" y="10866"/>
                  <a:pt x="5400" y="10866"/>
                  <a:pt x="0" y="10866"/>
                </a:cubicBezTo>
                <a:cubicBezTo>
                  <a:pt x="5400" y="10866"/>
                  <a:pt x="10800" y="10866"/>
                  <a:pt x="10800" y="1086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18 CuadroTexto"/>
          <p:cNvSpPr/>
          <p:nvPr/>
        </p:nvSpPr>
        <p:spPr>
          <a:xfrm>
            <a:off x="714240" y="2571840"/>
            <a:ext cx="78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 sólo era poderoso por su riqueza sino también por su número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0 Abrir llave"/>
          <p:cNvSpPr/>
          <p:nvPr/>
        </p:nvSpPr>
        <p:spPr>
          <a:xfrm rot="5400000">
            <a:off x="4286160" y="-857160"/>
            <a:ext cx="571320" cy="8001000"/>
          </a:xfrm>
          <a:custGeom>
            <a:avLst/>
            <a:gdLst>
              <a:gd name="textAreaLeft" fmla="*/ 365040 w 571320"/>
              <a:gd name="textAreaRight" fmla="*/ 571680 w 571320"/>
              <a:gd name="textAreaTop" fmla="*/ 0 h 8001000"/>
              <a:gd name="textAreaBottom" fmla="*/ 8001360 h 800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1 CuadroTexto"/>
          <p:cNvSpPr/>
          <p:nvPr/>
        </p:nvSpPr>
        <p:spPr>
          <a:xfrm>
            <a:off x="285840" y="3429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ras p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22 CuadroTexto"/>
          <p:cNvSpPr/>
          <p:nvPr/>
        </p:nvSpPr>
        <p:spPr>
          <a:xfrm>
            <a:off x="6215040" y="3429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zgados de capellan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23 Abrir llave"/>
          <p:cNvSpPr/>
          <p:nvPr/>
        </p:nvSpPr>
        <p:spPr>
          <a:xfrm rot="16200000">
            <a:off x="4357440" y="1143000"/>
            <a:ext cx="642960" cy="607212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6072120"/>
              <a:gd name="textAreaBottom" fmla="*/ 607248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66"/>
                </a:lnTo>
                <a:cubicBezTo>
                  <a:pt x="10800" y="10866"/>
                  <a:pt x="5400" y="10866"/>
                  <a:pt x="0" y="10866"/>
                </a:cubicBezTo>
                <a:cubicBezTo>
                  <a:pt x="5400" y="10866"/>
                  <a:pt x="10800" y="10866"/>
                  <a:pt x="10800" y="1086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24 CuadroTexto"/>
          <p:cNvSpPr/>
          <p:nvPr/>
        </p:nvSpPr>
        <p:spPr>
          <a:xfrm>
            <a:off x="785880" y="442908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a riqueza y poder del clero originó numerosos y frecuentes conflictos que produjeron un estado de agitación e intranqu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27 Flecha abajo"/>
          <p:cNvSpPr/>
          <p:nvPr/>
        </p:nvSpPr>
        <p:spPr>
          <a:xfrm>
            <a:off x="4500720" y="507204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28 CuadroTexto"/>
          <p:cNvSpPr/>
          <p:nvPr/>
        </p:nvSpPr>
        <p:spPr>
          <a:xfrm>
            <a:off x="1285920" y="557208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os dos cleros se produjeron luchas constantes que terminaron en el siglo 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8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8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8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4571"/>
                </a:solidFill>
                <a:latin typeface="Bodoni MT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La reforma económic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La reforma política administrati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xpulsión de los jesui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A mediados del siglo XVIII, la dinastía borbona decidió modificar el estilo de gobierno que había establecido la Casa de los Habsburg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A la llegada de los borbones al poder, la economía española estaba en una situación de inferioridad, sobre todo con Inglaterr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Con sus reformas afectaron al grupo de los criollos novohispan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7 Rectángulo" descr=""/>
          <p:cNvPicPr/>
          <p:nvPr/>
        </p:nvPicPr>
        <p:blipFill>
          <a:blip r:embed="rId2"/>
          <a:stretch/>
        </p:blipFill>
        <p:spPr>
          <a:xfrm>
            <a:off x="49320" y="438120"/>
            <a:ext cx="885024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36 L -0.04 0.22236 L 0 0 Z">
                                      <p:cBhvr>
                                        <p:cTn id="92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8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3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9 Diagrama" descr=""/>
          <p:cNvPicPr/>
          <p:nvPr/>
        </p:nvPicPr>
        <p:blipFill>
          <a:blip r:embed="rId2"/>
          <a:stretch/>
        </p:blipFill>
        <p:spPr>
          <a:xfrm>
            <a:off x="573120" y="895320"/>
            <a:ext cx="7491240" cy="5140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7667640" y="638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en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3 Rectángulo"/>
          <p:cNvSpPr/>
          <p:nvPr/>
        </p:nvSpPr>
        <p:spPr>
          <a:xfrm>
            <a:off x="2214720" y="357120"/>
            <a:ext cx="4572000" cy="71460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2e4e"/>
                </a:solidFill>
                <a:latin typeface="Baskerville Old Face"/>
              </a:rPr>
              <a:t>DESCUBRIMIENTO   DE   AM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5 Rectángulo"/>
          <p:cNvSpPr/>
          <p:nvPr/>
        </p:nvSpPr>
        <p:spPr>
          <a:xfrm>
            <a:off x="3286080" y="2928960"/>
            <a:ext cx="2214720" cy="57132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SOMET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INDIG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6 Rectángulo"/>
          <p:cNvSpPr/>
          <p:nvPr/>
        </p:nvSpPr>
        <p:spPr>
          <a:xfrm>
            <a:off x="571680" y="3786120"/>
            <a:ext cx="2214360" cy="5000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A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7 Rectángulo"/>
          <p:cNvSpPr/>
          <p:nvPr/>
        </p:nvSpPr>
        <p:spPr>
          <a:xfrm>
            <a:off x="6143760" y="3714840"/>
            <a:ext cx="2214360" cy="5000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LI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8 Rectángulo"/>
          <p:cNvSpPr/>
          <p:nvPr/>
        </p:nvSpPr>
        <p:spPr>
          <a:xfrm>
            <a:off x="357120" y="4857840"/>
            <a:ext cx="221472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9 Rectángulo"/>
          <p:cNvSpPr/>
          <p:nvPr/>
        </p:nvSpPr>
        <p:spPr>
          <a:xfrm>
            <a:off x="6357960" y="4786200"/>
            <a:ext cx="2214720" cy="71460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SPIRI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0 Flecha derecha"/>
          <p:cNvSpPr/>
          <p:nvPr/>
        </p:nvSpPr>
        <p:spPr>
          <a:xfrm rot="5400000">
            <a:off x="3607560" y="1607400"/>
            <a:ext cx="1571760" cy="9288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787a3"/>
                </a:solidFill>
                <a:latin typeface="Lucida Sans Unicod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2 Conector recto"/>
          <p:cNvSpPr/>
          <p:nvPr/>
        </p:nvSpPr>
        <p:spPr>
          <a:xfrm>
            <a:off x="5500800" y="3214800"/>
            <a:ext cx="164304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4 Conector recto"/>
          <p:cNvSpPr/>
          <p:nvPr/>
        </p:nvSpPr>
        <p:spPr>
          <a:xfrm>
            <a:off x="1357200" y="3214800"/>
            <a:ext cx="192888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15 Conector recto"/>
          <p:cNvSpPr/>
          <p:nvPr/>
        </p:nvSpPr>
        <p:spPr>
          <a:xfrm>
            <a:off x="1357200" y="3214800"/>
            <a:ext cx="0" cy="5713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4 Conector recto"/>
          <p:cNvSpPr/>
          <p:nvPr/>
        </p:nvSpPr>
        <p:spPr>
          <a:xfrm flipH="1">
            <a:off x="7143840" y="3214800"/>
            <a:ext cx="1440" cy="5014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27 Conector recto"/>
          <p:cNvSpPr/>
          <p:nvPr/>
        </p:nvSpPr>
        <p:spPr>
          <a:xfrm flipH="1">
            <a:off x="1355760" y="4286160"/>
            <a:ext cx="1440" cy="573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1 Conector recto"/>
          <p:cNvSpPr/>
          <p:nvPr/>
        </p:nvSpPr>
        <p:spPr>
          <a:xfrm flipH="1">
            <a:off x="7143840" y="4214880"/>
            <a:ext cx="1440" cy="573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32 CuadroTexto"/>
          <p:cNvSpPr/>
          <p:nvPr/>
        </p:nvSpPr>
        <p:spPr>
          <a:xfrm>
            <a:off x="3286080" y="564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COL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3 Conector recto"/>
          <p:cNvSpPr/>
          <p:nvPr/>
        </p:nvSpPr>
        <p:spPr>
          <a:xfrm>
            <a:off x="5929200" y="6000840"/>
            <a:ext cx="121464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34 Conector recto"/>
          <p:cNvSpPr/>
          <p:nvPr/>
        </p:nvSpPr>
        <p:spPr>
          <a:xfrm>
            <a:off x="1357200" y="6000840"/>
            <a:ext cx="185760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7 Conector recto"/>
          <p:cNvSpPr/>
          <p:nvPr/>
        </p:nvSpPr>
        <p:spPr>
          <a:xfrm>
            <a:off x="1357200" y="5572080"/>
            <a:ext cx="0" cy="4287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8 Conector recto"/>
          <p:cNvSpPr/>
          <p:nvPr/>
        </p:nvSpPr>
        <p:spPr>
          <a:xfrm flipH="1">
            <a:off x="7143840" y="5500800"/>
            <a:ext cx="144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1 CuadroTexto"/>
          <p:cNvSpPr/>
          <p:nvPr/>
        </p:nvSpPr>
        <p:spPr>
          <a:xfrm>
            <a:off x="1000080" y="45720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42 CuadroTexto"/>
          <p:cNvSpPr/>
          <p:nvPr/>
        </p:nvSpPr>
        <p:spPr>
          <a:xfrm>
            <a:off x="5643720" y="292896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3 CuadroTexto"/>
          <p:cNvSpPr/>
          <p:nvPr/>
        </p:nvSpPr>
        <p:spPr>
          <a:xfrm>
            <a:off x="1643040" y="29289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4 CuadroTexto"/>
          <p:cNvSpPr/>
          <p:nvPr/>
        </p:nvSpPr>
        <p:spPr>
          <a:xfrm>
            <a:off x="6786720" y="450072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08 danza autocton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Rectángulo"/>
          <p:cNvSpPr/>
          <p:nvPr/>
        </p:nvSpPr>
        <p:spPr>
          <a:xfrm>
            <a:off x="1643040" y="500040"/>
            <a:ext cx="2214720" cy="64296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FO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BORB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2 Rectángulo"/>
          <p:cNvSpPr/>
          <p:nvPr/>
        </p:nvSpPr>
        <p:spPr>
          <a:xfrm>
            <a:off x="285840" y="1785960"/>
            <a:ext cx="221436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3 Rectángulo"/>
          <p:cNvSpPr/>
          <p:nvPr/>
        </p:nvSpPr>
        <p:spPr>
          <a:xfrm>
            <a:off x="2786040" y="1785960"/>
            <a:ext cx="221472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Rectángulo"/>
          <p:cNvSpPr/>
          <p:nvPr/>
        </p:nvSpPr>
        <p:spPr>
          <a:xfrm>
            <a:off x="6286680" y="1785960"/>
            <a:ext cx="221436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RIO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Rectángulo"/>
          <p:cNvSpPr/>
          <p:nvPr/>
        </p:nvSpPr>
        <p:spPr>
          <a:xfrm>
            <a:off x="2143080" y="307188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ORGANIZ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6 Rectángulo"/>
          <p:cNvSpPr/>
          <p:nvPr/>
        </p:nvSpPr>
        <p:spPr>
          <a:xfrm>
            <a:off x="6215040" y="307188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ORDEN VIRRE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7 Rectángulo"/>
          <p:cNvSpPr/>
          <p:nvPr/>
        </p:nvSpPr>
        <p:spPr>
          <a:xfrm>
            <a:off x="500040" y="435780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POLI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8 Rectángulo"/>
          <p:cNvSpPr/>
          <p:nvPr/>
        </p:nvSpPr>
        <p:spPr>
          <a:xfrm>
            <a:off x="3643200" y="4429080"/>
            <a:ext cx="2214720" cy="71460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9 Rectángulo"/>
          <p:cNvSpPr/>
          <p:nvPr/>
        </p:nvSpPr>
        <p:spPr>
          <a:xfrm>
            <a:off x="2143080" y="5572080"/>
            <a:ext cx="2214720" cy="71460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CONO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1 Conector recto"/>
          <p:cNvSpPr/>
          <p:nvPr/>
        </p:nvSpPr>
        <p:spPr>
          <a:xfrm flipH="1">
            <a:off x="1391760" y="1143000"/>
            <a:ext cx="1357560" cy="6429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2 Conector recto"/>
          <p:cNvSpPr/>
          <p:nvPr/>
        </p:nvSpPr>
        <p:spPr>
          <a:xfrm>
            <a:off x="2748960" y="1143000"/>
            <a:ext cx="1251000" cy="6429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4 Conector recto"/>
          <p:cNvSpPr/>
          <p:nvPr/>
        </p:nvSpPr>
        <p:spPr>
          <a:xfrm>
            <a:off x="3857760" y="857160"/>
            <a:ext cx="3571920" cy="1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Conector recto"/>
          <p:cNvSpPr/>
          <p:nvPr/>
        </p:nvSpPr>
        <p:spPr>
          <a:xfrm flipH="1">
            <a:off x="7429680" y="857160"/>
            <a:ext cx="1440" cy="928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31 Conector recto"/>
          <p:cNvSpPr/>
          <p:nvPr/>
        </p:nvSpPr>
        <p:spPr>
          <a:xfrm>
            <a:off x="3857760" y="820800"/>
            <a:ext cx="1857240" cy="1393920"/>
          </a:xfrm>
          <a:prstGeom prst="line">
            <a:avLst/>
          </a:prstGeom>
          <a:ln w="2556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4 Conector recto"/>
          <p:cNvSpPr/>
          <p:nvPr/>
        </p:nvSpPr>
        <p:spPr>
          <a:xfrm flipH="1">
            <a:off x="5715000" y="2214720"/>
            <a:ext cx="1440" cy="642960"/>
          </a:xfrm>
          <a:prstGeom prst="line">
            <a:avLst/>
          </a:prstGeom>
          <a:ln w="2556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6 Conector recto"/>
          <p:cNvSpPr/>
          <p:nvPr/>
        </p:nvSpPr>
        <p:spPr>
          <a:xfrm>
            <a:off x="3071880" y="2857680"/>
            <a:ext cx="4357800" cy="14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7 Conector recto"/>
          <p:cNvSpPr/>
          <p:nvPr/>
        </p:nvSpPr>
        <p:spPr>
          <a:xfrm flipH="1">
            <a:off x="3071880" y="2857680"/>
            <a:ext cx="1440" cy="2142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1 Conector recto"/>
          <p:cNvSpPr/>
          <p:nvPr/>
        </p:nvSpPr>
        <p:spPr>
          <a:xfrm flipH="1">
            <a:off x="7429680" y="2857680"/>
            <a:ext cx="1440" cy="2142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42 Conector recto"/>
          <p:cNvSpPr/>
          <p:nvPr/>
        </p:nvSpPr>
        <p:spPr>
          <a:xfrm>
            <a:off x="1500120" y="4071960"/>
            <a:ext cx="3143160" cy="14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43 Conector recto"/>
          <p:cNvSpPr/>
          <p:nvPr/>
        </p:nvSpPr>
        <p:spPr>
          <a:xfrm flipH="1">
            <a:off x="3142800" y="3786120"/>
            <a:ext cx="1800" cy="178596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45 Conector recto"/>
          <p:cNvSpPr/>
          <p:nvPr/>
        </p:nvSpPr>
        <p:spPr>
          <a:xfrm flipH="1">
            <a:off x="1498680" y="4073400"/>
            <a:ext cx="1440" cy="2858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6 Conector recto"/>
          <p:cNvSpPr/>
          <p:nvPr/>
        </p:nvSpPr>
        <p:spPr>
          <a:xfrm flipH="1">
            <a:off x="4642920" y="4073400"/>
            <a:ext cx="1800" cy="35568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60 CuadroTexto"/>
          <p:cNvSpPr/>
          <p:nvPr/>
        </p:nvSpPr>
        <p:spPr>
          <a:xfrm>
            <a:off x="2000160" y="13572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De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61 CuadroTexto"/>
          <p:cNvSpPr/>
          <p:nvPr/>
        </p:nvSpPr>
        <p:spPr>
          <a:xfrm>
            <a:off x="4643280" y="57168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Que afectan 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2 CuadroTexto"/>
          <p:cNvSpPr/>
          <p:nvPr/>
        </p:nvSpPr>
        <p:spPr>
          <a:xfrm>
            <a:off x="4286160" y="264312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Para 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63 CuadroTexto"/>
          <p:cNvSpPr/>
          <p:nvPr/>
        </p:nvSpPr>
        <p:spPr>
          <a:xfrm>
            <a:off x="2000160" y="38577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De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ll Users\Documentos\Mis imágenes\historia de méxico\MÉXICO HISTORIA 1\ESPAÑOLES\FE.jpg"/>
          <p:cNvPicPr/>
          <p:nvPr/>
        </p:nvPicPr>
        <p:blipFill>
          <a:blip r:embed="rId2"/>
          <a:stretch/>
        </p:blipFill>
        <p:spPr>
          <a:xfrm>
            <a:off x="357120" y="1643040"/>
            <a:ext cx="3143160" cy="1928880"/>
          </a:xfrm>
          <a:prstGeom prst="rect">
            <a:avLst/>
          </a:prstGeom>
          <a:ln w="0">
            <a:noFill/>
          </a:ln>
        </p:spPr>
      </p:pic>
      <p:sp>
        <p:nvSpPr>
          <p:cNvPr id="424" name="4 CuadroTexto"/>
          <p:cNvSpPr/>
          <p:nvPr/>
        </p:nvSpPr>
        <p:spPr>
          <a:xfrm>
            <a:off x="3643200" y="16430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ristóbal Colón inició una largo viaje para encontrar una nueva ruta al Oriente. Convencido de que la tierra era red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C:\Documents and Settings\All Users\Documentos\Mis imágenes\historia de méxico\MÉXICO HISTORIA 1\ESPAÑOLES\AS.jpg"/>
          <p:cNvPicPr/>
          <p:nvPr/>
        </p:nvPicPr>
        <p:blipFill>
          <a:blip r:embed="rId3"/>
          <a:stretch/>
        </p:blipFill>
        <p:spPr>
          <a:xfrm>
            <a:off x="4857840" y="4143240"/>
            <a:ext cx="3357360" cy="2071800"/>
          </a:xfrm>
          <a:prstGeom prst="rect">
            <a:avLst/>
          </a:prstGeom>
          <a:ln w="0">
            <a:noFill/>
          </a:ln>
        </p:spPr>
      </p:pic>
      <p:sp>
        <p:nvSpPr>
          <p:cNvPr id="426" name="7 CuadroTexto"/>
          <p:cNvSpPr/>
          <p:nvPr/>
        </p:nvSpPr>
        <p:spPr>
          <a:xfrm>
            <a:off x="285840" y="43578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El 12 de Octubre de 1492 llegó con sus tres embarcaciones, La Niña, La Pinta y la Santa María a Guanahaní, isla de las Antillas, llamándola ´San Salv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5676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Cristóbal Colón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Francisco Hernández de Córdob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Juan de Grijalv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Hernán Cortés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787a3"/>
                </a:solidFill>
                <a:latin typeface="Lucida Sans Unicode"/>
              </a:rPr>
              <a:t>Juan de Grijalv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Obtuvo la autorización de Velázquez para retomar el proceso de búsqueda de nuevas tierras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Fue recibido por una embajada mexica enviada por Moctezuma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Notificó a sus superiores de la existencia de metales preciosos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</p:txBody>
      </p:sp>
      <p:pic>
        <p:nvPicPr>
          <p:cNvPr id="429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4 CuadroTexto"/>
          <p:cNvSpPr/>
          <p:nvPr/>
        </p:nvSpPr>
        <p:spPr>
          <a:xfrm>
            <a:off x="24289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francisco hernandez de cordoba"/>
          <p:cNvPicPr/>
          <p:nvPr/>
        </p:nvPicPr>
        <p:blipFill>
          <a:blip r:embed="rId2"/>
          <a:stretch/>
        </p:blipFill>
        <p:spPr>
          <a:xfrm>
            <a:off x="571680" y="1357200"/>
            <a:ext cx="2357280" cy="1500480"/>
          </a:xfrm>
          <a:prstGeom prst="rect">
            <a:avLst/>
          </a:prstGeom>
          <a:ln w="0">
            <a:noFill/>
          </a:ln>
        </p:spPr>
      </p:pic>
      <p:sp>
        <p:nvSpPr>
          <p:cNvPr id="432" name="4 CuadroTexto"/>
          <p:cNvSpPr/>
          <p:nvPr/>
        </p:nvSpPr>
        <p:spPr>
          <a:xfrm>
            <a:off x="24289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6 CuadroTexto"/>
          <p:cNvSpPr/>
          <p:nvPr/>
        </p:nvSpPr>
        <p:spPr>
          <a:xfrm>
            <a:off x="28584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FRANCISCO HERNÁNDEZ DE CÓR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8 CuadroTexto"/>
          <p:cNvSpPr/>
          <p:nvPr/>
        </p:nvSpPr>
        <p:spPr>
          <a:xfrm>
            <a:off x="3857760" y="71424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JUAN DE GRIJ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9 CuadroTexto"/>
          <p:cNvSpPr/>
          <p:nvPr/>
        </p:nvSpPr>
        <p:spPr>
          <a:xfrm>
            <a:off x="6143760" y="7142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HERNÁN C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1 Rectángulo"/>
          <p:cNvSpPr/>
          <p:nvPr/>
        </p:nvSpPr>
        <p:spPr>
          <a:xfrm>
            <a:off x="571680" y="1643040"/>
            <a:ext cx="22860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Navegante y conquistador español, descubridor del Yucatán. Conocemos que fue poblador de Cuba con </a:t>
            </a: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Diego Velázquez de Cuéllar y que gozaba de buena posición. Descubrieron la costa yucateca alcanzando el cabo Catoche, la bahía de Campeche y Tabasco. En la península de Yucatán contemplaron con asombro la monumental arquitectura maya en el cabo Cat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C:\Documents and Settings\All Users\Documentos\Mis imágenes\historia de méxico\MÉXICO HISTORIA 1\ESPAÑOLES\GRIJALVA.jpg"/>
          <p:cNvPicPr/>
          <p:nvPr/>
        </p:nvPicPr>
        <p:blipFill>
          <a:blip r:embed="rId3"/>
          <a:stretch/>
        </p:blipFill>
        <p:spPr>
          <a:xfrm>
            <a:off x="3929040" y="1285920"/>
            <a:ext cx="1643040" cy="1276200"/>
          </a:xfrm>
          <a:prstGeom prst="rect">
            <a:avLst/>
          </a:prstGeom>
          <a:ln w="0">
            <a:noFill/>
          </a:ln>
        </p:spPr>
      </p:pic>
      <p:sp>
        <p:nvSpPr>
          <p:cNvPr id="438" name="13 Rectángulo"/>
          <p:cNvSpPr/>
          <p:nvPr/>
        </p:nvSpPr>
        <p:spPr>
          <a:xfrm>
            <a:off x="3286080" y="2714760"/>
            <a:ext cx="2714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Descubridor y conquistador español, capitán en la segunda expedición que exploró parte de los litorales del golfo de México. Nacido en Cuéllar (Segovia), llegó a Santo Domingo en 1508. Tres años después participó en la conquista de Cu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" descr="C:\Documents and Settings\All Users\Documentos\Mis imágenes\historia de méxico\MÉXICO HISTORIA 1\ESPAÑOLES\CORTES.jpg"/>
          <p:cNvPicPr/>
          <p:nvPr/>
        </p:nvPicPr>
        <p:blipFill>
          <a:blip r:embed="rId4"/>
          <a:stretch/>
        </p:blipFill>
        <p:spPr>
          <a:xfrm>
            <a:off x="6572160" y="1285920"/>
            <a:ext cx="1571760" cy="1285920"/>
          </a:xfrm>
          <a:prstGeom prst="rect">
            <a:avLst/>
          </a:prstGeom>
          <a:ln w="0">
            <a:noFill/>
          </a:ln>
        </p:spPr>
      </p:pic>
      <p:sp>
        <p:nvSpPr>
          <p:cNvPr id="440" name="15 Rectángulo"/>
          <p:cNvSpPr/>
          <p:nvPr/>
        </p:nvSpPr>
        <p:spPr>
          <a:xfrm>
            <a:off x="6357960" y="2857680"/>
            <a:ext cx="235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Conquistador español de México. A los 19 años, se embarcó con rumbo a Santo Domingo, en donde actuó como escribano en la villa de Azua. Acompañó a Diego Velázquez de Cuéllar en 1511 en la conquista de Cu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8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24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3238560" cy="3743280"/>
          </a:xfrm>
          <a:prstGeom prst="rect">
            <a:avLst/>
          </a:prstGeom>
          <a:ln w="0">
            <a:noFill/>
          </a:ln>
        </p:spPr>
      </p:pic>
      <p:sp>
        <p:nvSpPr>
          <p:cNvPr id="443" name="14 CuadroTexto"/>
          <p:cNvSpPr/>
          <p:nvPr/>
        </p:nvSpPr>
        <p:spPr>
          <a:xfrm>
            <a:off x="4000680" y="16430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¿Identificas las características ideológicas y materiales de los españoles y de los mexicas desde el momento en que se inicia el avance sobre Tenochtitlán hasta su derro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5 CuadroTexto"/>
          <p:cNvSpPr/>
          <p:nvPr/>
        </p:nvSpPr>
        <p:spPr>
          <a:xfrm>
            <a:off x="4214880" y="3143160"/>
            <a:ext cx="414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Cortés tocó territorio de Cuitláhuac, señor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Ixtapalapa, quien obedeciendo las órde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octezuma albergó a los extranj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Tomó prisionero a Moctezuma pretextando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uerte de algunos españ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octezuma negoció la libertad de Cuitláhu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Fray Diego Durán  reseña su postura ace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del suceso de los españ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Pedro de Alvarado incursionaría por Tacu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Cortés muere es España a los 62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0 Cinta hacia abajo"/>
          <p:cNvSpPr/>
          <p:nvPr/>
        </p:nvSpPr>
        <p:spPr>
          <a:xfrm>
            <a:off x="2071800" y="500040"/>
            <a:ext cx="4714920" cy="928800"/>
          </a:xfrm>
          <a:custGeom>
            <a:avLst/>
            <a:gdLst>
              <a:gd name="textAreaLeft" fmla="*/ 1178640 w 4714920"/>
              <a:gd name="textAreaRight" fmla="*/ 3536280 w 4714920"/>
              <a:gd name="textAreaTop" fmla="*/ 15480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16200000"/>
          </a:gradFill>
          <a:ln w="9360">
            <a:solidFill>
              <a:srgbClr val="5c1f3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1f4d"/>
                </a:solidFill>
                <a:latin typeface="Agency FB"/>
              </a:rPr>
              <a:t>CONQU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12 Conector recto de flecha"/>
          <p:cNvCxnSpPr>
            <a:stCxn id="445" idx="2"/>
          </p:cNvCxnSpPr>
          <p:nvPr/>
        </p:nvCxnSpPr>
        <p:spPr>
          <a:xfrm flipH="1">
            <a:off x="1571040" y="1428480"/>
            <a:ext cx="2858040" cy="1215000"/>
          </a:xfrm>
          <a:prstGeom prst="straightConnector1">
            <a:avLst/>
          </a:prstGeom>
          <a:ln w="550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447" name="13 Conector recto de flecha"/>
          <p:cNvCxnSpPr/>
          <p:nvPr/>
        </p:nvCxnSpPr>
        <p:spPr>
          <a:xfrm>
            <a:off x="4500720" y="1428840"/>
            <a:ext cx="2428920" cy="1286640"/>
          </a:xfrm>
          <a:prstGeom prst="straightConnector1">
            <a:avLst/>
          </a:prstGeom>
          <a:ln w="5508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48" name="21 CuadroTexto"/>
          <p:cNvSpPr/>
          <p:nvPr/>
        </p:nvSpPr>
        <p:spPr>
          <a:xfrm>
            <a:off x="785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gency FB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22 CuadroTexto"/>
          <p:cNvSpPr/>
          <p:nvPr/>
        </p:nvSpPr>
        <p:spPr>
          <a:xfrm>
            <a:off x="6143760" y="2857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gency FB"/>
              </a:rPr>
              <a:t>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C:\Documents and Settings\All Users\Documentos\Mis imágenes\historia de méxico\MÉXICO HISTORIA 1\ESPAÑOLES\JJ.jpg"/>
          <p:cNvPicPr/>
          <p:nvPr/>
        </p:nvPicPr>
        <p:blipFill>
          <a:blip r:embed="rId2"/>
          <a:stretch/>
        </p:blipFill>
        <p:spPr>
          <a:xfrm>
            <a:off x="6215040" y="364320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All Users\Documentos\Mis imágenes\historia de méxico\MÉXICO HISTORIA 1\ESPAÑOLES\JY.jpg"/>
          <p:cNvPicPr/>
          <p:nvPr/>
        </p:nvPicPr>
        <p:blipFill>
          <a:blip r:embed="rId3"/>
          <a:stretch/>
        </p:blipFill>
        <p:spPr>
          <a:xfrm>
            <a:off x="714240" y="3571920"/>
            <a:ext cx="19288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369 C -0.01406 -0.00832 -0.02899 -0.01202 -0.04392 -0.01202 C -0.11407 -0.01202 -0.16893 0.04138 -0.16893 0.10611 C -0.16893 0.17014 -0.11407 0.22261 -0.04392 0.22261 C -0.02899 0.22261 -0.01406 0.21984 5E-006 0.21498 C -0.04704 0.19811 -0.08004 0.15581 -0.08004 0.10611 C -0.08004 0.05548 -0.04704 0.01318 5E-006 -0.00369 Z">
                                      <p:cBhvr>
                                        <p:cTn id="438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4 Onda"/>
          <p:cNvSpPr/>
          <p:nvPr/>
        </p:nvSpPr>
        <p:spPr>
          <a:xfrm>
            <a:off x="2786040" y="285840"/>
            <a:ext cx="3429000" cy="857160"/>
          </a:xfrm>
          <a:custGeom>
            <a:avLst/>
            <a:gdLst>
              <a:gd name="textAreaLeft" fmla="*/ 372960 w 3429000"/>
              <a:gd name="textAreaRight" fmla="*/ 3056040 w 3429000"/>
              <a:gd name="textAreaTop" fmla="*/ 193320 h 857160"/>
              <a:gd name="textAreaBottom" fmla="*/ 66384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439"/>
                </a:moveTo>
                <a:cubicBezTo>
                  <a:pt x="6025" y="-6201"/>
                  <a:pt x="13225" y="11079"/>
                  <a:pt x="19250" y="2439"/>
                </a:cubicBezTo>
                <a:lnTo>
                  <a:pt x="21600" y="19161"/>
                </a:lnTo>
                <a:cubicBezTo>
                  <a:pt x="15575" y="27801"/>
                  <a:pt x="8375" y="10521"/>
                  <a:pt x="2350" y="19161"/>
                </a:cubicBezTo>
                <a:close/>
              </a:path>
            </a:pathLst>
          </a:cu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3.2.3 LA COL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5 CuadroTexto"/>
          <p:cNvSpPr/>
          <p:nvPr/>
        </p:nvSpPr>
        <p:spPr>
          <a:xfrm>
            <a:off x="3071880" y="1409760"/>
            <a:ext cx="442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787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La conquista abrió paso a la colonización y ésta trajo consigo la necesidad de implantar instituciones y formas de vida propias de Es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Ese patrón se impuso en las colonias ultramarinas, aunque la presencia indígena las modifi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El imperio español creció bajo los reinados de Carlos V y su hijo Felipe II y el nuevo Estado Nación Español consolidaba la figura del 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Carlos V confirmó a Cortés los títulos de Capitán General y Justicia May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quetzalcoatl"/>
          <p:cNvPicPr/>
          <p:nvPr/>
        </p:nvPicPr>
        <p:blipFill>
          <a:blip r:embed="rId2"/>
          <a:stretch/>
        </p:blipFill>
        <p:spPr>
          <a:xfrm>
            <a:off x="285840" y="1643040"/>
            <a:ext cx="2314440" cy="3352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Galería en Flash"/>
          <p:cNvPicPr/>
          <p:nvPr/>
        </p:nvPicPr>
        <p:blipFill>
          <a:blip r:embed="rId3"/>
          <a:stretch/>
        </p:blipFill>
        <p:spPr>
          <a:xfrm>
            <a:off x="7858080" y="5643720"/>
            <a:ext cx="924120" cy="7617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4"/>
          <p:cNvSpPr/>
          <p:nvPr/>
        </p:nvSpPr>
        <p:spPr>
          <a:xfrm>
            <a:off x="4451760" y="44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2:36:20Z</dcterms:created>
  <dc:creator>PC</dc:creator>
  <dc:description/>
  <dc:language>en-US</dc:language>
  <cp:lastModifiedBy>LULU</cp:lastModifiedBy>
  <dcterms:modified xsi:type="dcterms:W3CDTF">2008-07-01T17:11:14Z</dcterms:modified>
  <cp:revision>72</cp:revision>
  <dc:subject/>
  <dc:title> UNIDAD III</dc:title>
</cp:coreProperties>
</file>