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687D2F3-47E9-447B-867F-879AB99CA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89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B9DDCAE-5FD6-4656-B7CB-74694B31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430344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392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068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660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8068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660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237600"/>
            <a:ext cx="67816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392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304920" y="0"/>
            <a:ext cx="1143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237960"/>
            <a:ext cx="9144000" cy="1189080"/>
          </a:xfrm>
          <a:prstGeom prst="rect">
            <a:avLst/>
          </a:prstGeom>
          <a:solidFill>
            <a:srgbClr val="d600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"/>
          <p:cNvPicPr/>
          <p:nvPr/>
        </p:nvPicPr>
        <p:blipFill>
          <a:blip r:embed="rId2"/>
          <a:stretch/>
        </p:blipFill>
        <p:spPr>
          <a:xfrm>
            <a:off x="304920" y="237960"/>
            <a:ext cx="1152360" cy="15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18.png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1"/>
          <p:cNvSpPr/>
          <p:nvPr/>
        </p:nvSpPr>
        <p:spPr>
          <a:xfrm>
            <a:off x="2438280" y="4876920"/>
            <a:ext cx="609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uofclogo"/>
          <p:cNvPicPr/>
          <p:nvPr/>
        </p:nvPicPr>
        <p:blipFill>
          <a:blip r:embed="rId1"/>
          <a:stretch/>
        </p:blipFill>
        <p:spPr>
          <a:xfrm>
            <a:off x="7162920" y="334800"/>
            <a:ext cx="1904760" cy="92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" name="Rectangle 9"/>
          <p:cNvSpPr/>
          <p:nvPr/>
        </p:nvSpPr>
        <p:spPr>
          <a:xfrm>
            <a:off x="1371600" y="228600"/>
            <a:ext cx="624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BRE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entre for Bioengineering Research &amp;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057400" y="62769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2b2b2"/>
                </a:solidFill>
                <a:latin typeface="Arial"/>
              </a:rPr>
              <a:t>Engineering Health and Wellness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2b2b2"/>
                </a:solidFill>
                <a:uFillTx/>
                <a:latin typeface="Arial"/>
              </a:rPr>
              <a:t>www.schulich.ucalgary.ca/biomed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596960" y="1547640"/>
            <a:ext cx="3005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edical Imaging &amp; Optical Instr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ra-operative MRI, 9.4 T MRI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olecular imaging &amp; nano-particle ta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eural, cardiovascular &amp; musculoskeletal im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ardware &amp; softwar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858000" y="2895480"/>
            <a:ext cx="28954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ioSensors &amp; Diagnostic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ystems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ireless, low powe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ean room manufacturing 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ard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Century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ctivity and health status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266880" y="4572000"/>
            <a:ext cx="28396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iomechanics &amp; Orthopaed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one imaging, modeling &amp; 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jury, joint, and trauma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steoarthritis &amp;  injury diagnosis &amp; trea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tal joint  &amp; limb prosth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ell &amp;  tissue characterization &amp;  bio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obility evaluations and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ports engineering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269040" y="1547640"/>
            <a:ext cx="26384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obotics and Interventional Medi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rgical Neuro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aptic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mage guided &amp; computer assisted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rgical interventional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187800" y="4908600"/>
            <a:ext cx="2743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ell &amp; Tissue Re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m cel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vascular systems tissue models &amp; new therapeutics eval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enerative medicine strategies for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iofilms for medical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96240" y="3657600"/>
            <a:ext cx="3137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linical Cardiac Electrophys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agnostic &amp; treatment sen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isk assessment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rial fibrillation &amp; defibrillation models &amp;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blation &amp; drug evaluation models &amp;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rdiac conduction impairment eval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187800" y="2652840"/>
            <a:ext cx="290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ioinformatics &amp; Neur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hysiom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eural signal detection &amp; regulation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ell &amp; molecular sensors &amp; monitoring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iobank 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380880" y="2133720"/>
            <a:ext cx="1143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Engine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Kines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Veterinary                   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Nur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University Technologies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Calgary Health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N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54"/>
          <p:cNvGrpSpPr/>
          <p:nvPr/>
        </p:nvGrpSpPr>
        <p:grpSpPr>
          <a:xfrm>
            <a:off x="5562360" y="4572000"/>
            <a:ext cx="609480" cy="533160"/>
            <a:chOff x="5562360" y="4572000"/>
            <a:chExt cx="609480" cy="533160"/>
          </a:xfrm>
        </p:grpSpPr>
        <p:pic>
          <p:nvPicPr>
            <p:cNvPr id="62" name="Picture 34" descr="VM"/>
            <p:cNvPicPr/>
            <p:nvPr/>
          </p:nvPicPr>
          <p:blipFill>
            <a:blip r:embed="rId2"/>
            <a:srcRect l="13634" t="21230" r="16299" b="11574"/>
            <a:stretch/>
          </p:blipFill>
          <p:spPr>
            <a:xfrm>
              <a:off x="5680080" y="4572000"/>
              <a:ext cx="491760" cy="36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5" descr="RP_Aim2Prototype"/>
            <p:cNvPicPr/>
            <p:nvPr/>
          </p:nvPicPr>
          <p:blipFill>
            <a:blip r:embed="rId3"/>
            <a:srcRect l="50889" t="0" r="0" b="0"/>
            <a:stretch/>
          </p:blipFill>
          <p:spPr>
            <a:xfrm flipH="1">
              <a:off x="5562360" y="4854960"/>
              <a:ext cx="228600" cy="25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36" descr="TBSEG"/>
            <p:cNvPicPr/>
            <p:nvPr/>
          </p:nvPicPr>
          <p:blipFill>
            <a:blip r:embed="rId4"/>
            <a:stretch/>
          </p:blipFill>
          <p:spPr>
            <a:xfrm flipH="1">
              <a:off x="5797440" y="4854960"/>
              <a:ext cx="242280" cy="25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37" descr="Pg6_combo"/>
          <p:cNvPicPr/>
          <p:nvPr/>
        </p:nvPicPr>
        <p:blipFill>
          <a:blip r:embed="rId5"/>
          <a:stretch/>
        </p:blipFill>
        <p:spPr>
          <a:xfrm>
            <a:off x="6019920" y="3429000"/>
            <a:ext cx="8301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9" descr="stroke2"/>
          <p:cNvPicPr/>
          <p:nvPr/>
        </p:nvPicPr>
        <p:blipFill>
          <a:blip r:embed="rId6"/>
          <a:stretch/>
        </p:blipFill>
        <p:spPr>
          <a:xfrm>
            <a:off x="1600200" y="2666880"/>
            <a:ext cx="1600200" cy="8636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3"/>
          <p:cNvGrpSpPr/>
          <p:nvPr/>
        </p:nvGrpSpPr>
        <p:grpSpPr>
          <a:xfrm>
            <a:off x="4800600" y="3581280"/>
            <a:ext cx="1066680" cy="838080"/>
            <a:chOff x="4800600" y="3581280"/>
            <a:chExt cx="1066680" cy="838080"/>
          </a:xfrm>
        </p:grpSpPr>
        <p:sp>
          <p:nvSpPr>
            <p:cNvPr id="68" name="Rectangle 52"/>
            <p:cNvSpPr/>
            <p:nvPr/>
          </p:nvSpPr>
          <p:spPr>
            <a:xfrm>
              <a:off x="4800600" y="3581280"/>
              <a:ext cx="106668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51"/>
            <p:cNvGrpSpPr/>
            <p:nvPr/>
          </p:nvGrpSpPr>
          <p:grpSpPr>
            <a:xfrm>
              <a:off x="4876560" y="3657600"/>
              <a:ext cx="913680" cy="693720"/>
              <a:chOff x="4876560" y="3657600"/>
              <a:chExt cx="913680" cy="693720"/>
            </a:xfrm>
          </p:grpSpPr>
          <p:pic>
            <p:nvPicPr>
              <p:cNvPr id="70" name="Picture 41" descr=""/>
              <p:cNvPicPr/>
              <p:nvPr/>
            </p:nvPicPr>
            <p:blipFill>
              <a:blip r:embed="rId7"/>
              <a:stretch/>
            </p:blipFill>
            <p:spPr>
              <a:xfrm>
                <a:off x="5333400" y="4008240"/>
                <a:ext cx="456840" cy="3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42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560" y="4008240"/>
                <a:ext cx="456840" cy="3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5006520" y="3657600"/>
                <a:ext cx="402840" cy="350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3" name="Picture 46" descr="Departmental Photos 2002 Troy 023"/>
          <p:cNvPicPr/>
          <p:nvPr/>
        </p:nvPicPr>
        <p:blipFill>
          <a:blip r:embed="rId10"/>
          <a:stretch/>
        </p:blipFill>
        <p:spPr>
          <a:xfrm>
            <a:off x="1600200" y="4952880"/>
            <a:ext cx="49680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Confocal Kidney Cells.jpg"/>
          <p:cNvPicPr/>
          <p:nvPr/>
        </p:nvPicPr>
        <p:blipFill>
          <a:blip r:embed="rId11"/>
          <a:stretch/>
        </p:blipFill>
        <p:spPr>
          <a:xfrm>
            <a:off x="2057400" y="5688000"/>
            <a:ext cx="685800" cy="4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5" descr="15"/>
          <p:cNvPicPr/>
          <p:nvPr/>
        </p:nvPicPr>
        <p:blipFill>
          <a:blip r:embed="rId12"/>
          <a:stretch/>
        </p:blipFill>
        <p:spPr>
          <a:xfrm>
            <a:off x="4343400" y="1523880"/>
            <a:ext cx="838080" cy="64476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8"/>
          <p:cNvGrpSpPr/>
          <p:nvPr/>
        </p:nvGrpSpPr>
        <p:grpSpPr>
          <a:xfrm>
            <a:off x="5105520" y="1981080"/>
            <a:ext cx="914400" cy="685440"/>
            <a:chOff x="5105520" y="1981080"/>
            <a:chExt cx="914400" cy="685440"/>
          </a:xfrm>
        </p:grpSpPr>
        <p:pic>
          <p:nvPicPr>
            <p:cNvPr id="77" name="Picture 49" descr="Praxim_CAS"/>
            <p:cNvPicPr/>
            <p:nvPr/>
          </p:nvPicPr>
          <p:blipFill>
            <a:blip r:embed="rId13"/>
            <a:stretch/>
          </p:blipFill>
          <p:spPr>
            <a:xfrm>
              <a:off x="5105520" y="1981080"/>
              <a:ext cx="914400" cy="65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50"/>
            <p:cNvSpPr/>
            <p:nvPr/>
          </p:nvSpPr>
          <p:spPr>
            <a:xfrm>
              <a:off x="5591520" y="2576520"/>
              <a:ext cx="34272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56" descr="LabEng_blue"/>
          <p:cNvPicPr/>
          <p:nvPr/>
        </p:nvPicPr>
        <p:blipFill>
          <a:blip r:embed="rId14">
            <a:lum contrast="48000"/>
          </a:blip>
          <a:stretch/>
        </p:blipFill>
        <p:spPr>
          <a:xfrm>
            <a:off x="8523360" y="4343400"/>
            <a:ext cx="5443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7" descr=""/>
          <p:cNvPicPr/>
          <p:nvPr/>
        </p:nvPicPr>
        <p:blipFill>
          <a:blip r:embed="rId15"/>
          <a:srcRect l="15152" t="18384" r="23817" b="27594"/>
          <a:stretch/>
        </p:blipFill>
        <p:spPr>
          <a:xfrm>
            <a:off x="5715000" y="5181480"/>
            <a:ext cx="41292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8" descr="Stephanie bandaid"/>
          <p:cNvPicPr/>
          <p:nvPr/>
        </p:nvPicPr>
        <p:blipFill>
          <a:blip r:embed="rId16"/>
          <a:stretch/>
        </p:blipFill>
        <p:spPr>
          <a:xfrm>
            <a:off x="5791320" y="2666880"/>
            <a:ext cx="1062000" cy="5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59"/>
          <p:cNvGraphicFramePr/>
          <p:nvPr/>
        </p:nvGraphicFramePr>
        <p:xfrm>
          <a:off x="2514600" y="4876920"/>
          <a:ext cx="37152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" name="Object 5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14600" y="4876920"/>
                    <a:ext cx="371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60"/>
          <p:cNvGraphicFramePr/>
          <p:nvPr/>
        </p:nvGraphicFramePr>
        <p:xfrm>
          <a:off x="2286000" y="5334120"/>
          <a:ext cx="838080" cy="29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" name="Object 6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0" y="5334120"/>
                    <a:ext cx="83808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42:45Z</dcterms:created>
  <dc:creator>University of Calgary</dc:creator>
  <dc:description/>
  <dc:language>en-US</dc:language>
  <cp:lastModifiedBy>Desktop Technology Program</cp:lastModifiedBy>
  <dcterms:modified xsi:type="dcterms:W3CDTF">2008-04-25T20:11:56Z</dcterms:modified>
  <cp:revision>58</cp:revision>
  <dc:subject/>
  <dc:title>PowerPoint Presentation</dc:title>
</cp:coreProperties>
</file>