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237600"/>
            <a:ext cx="6781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4760" y="1676520"/>
            <a:ext cx="6730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4760" y="4303440"/>
            <a:ext cx="6730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237600"/>
            <a:ext cx="6781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676520"/>
            <a:ext cx="3284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3920" y="1676520"/>
            <a:ext cx="3284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4760" y="4303440"/>
            <a:ext cx="3284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3920" y="4303440"/>
            <a:ext cx="3284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237600"/>
            <a:ext cx="6781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4760" y="1676520"/>
            <a:ext cx="216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80680" y="1676520"/>
            <a:ext cx="216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6600" y="1676520"/>
            <a:ext cx="216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4760" y="4303440"/>
            <a:ext cx="216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80680" y="4303440"/>
            <a:ext cx="216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6600" y="4303440"/>
            <a:ext cx="216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237600"/>
            <a:ext cx="6781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4760" y="1676520"/>
            <a:ext cx="6730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237600"/>
            <a:ext cx="6781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4760" y="1676520"/>
            <a:ext cx="6730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237600"/>
            <a:ext cx="6781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1676520"/>
            <a:ext cx="3284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3920" y="1676520"/>
            <a:ext cx="3284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237600"/>
            <a:ext cx="6781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5120" y="237600"/>
            <a:ext cx="67816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237600"/>
            <a:ext cx="6781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4760" y="1676520"/>
            <a:ext cx="3284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3920" y="1676520"/>
            <a:ext cx="3284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4760" y="4303440"/>
            <a:ext cx="3284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237600"/>
            <a:ext cx="6781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4760" y="1676520"/>
            <a:ext cx="3284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3920" y="1676520"/>
            <a:ext cx="3284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3920" y="4303440"/>
            <a:ext cx="3284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237600"/>
            <a:ext cx="6781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4760" y="1676520"/>
            <a:ext cx="3284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3920" y="1676520"/>
            <a:ext cx="3284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4760" y="4303440"/>
            <a:ext cx="6730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304920" y="0"/>
            <a:ext cx="1143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4"/>
          <p:cNvSpPr/>
          <p:nvPr/>
        </p:nvSpPr>
        <p:spPr>
          <a:xfrm>
            <a:off x="0" y="237960"/>
            <a:ext cx="9144000" cy="1189080"/>
          </a:xfrm>
          <a:prstGeom prst="rect">
            <a:avLst/>
          </a:prstGeom>
          <a:solidFill>
            <a:srgbClr val="d600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05120" y="237600"/>
            <a:ext cx="6781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904760" y="1676520"/>
            <a:ext cx="6730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7" descr=""/>
          <p:cNvPicPr/>
          <p:nvPr/>
        </p:nvPicPr>
        <p:blipFill>
          <a:blip r:embed="rId2"/>
          <a:stretch/>
        </p:blipFill>
        <p:spPr>
          <a:xfrm>
            <a:off x="304920" y="237960"/>
            <a:ext cx="1152360" cy="15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33520" y="6324480"/>
            <a:ext cx="86104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uofclogo"/>
          <p:cNvPicPr/>
          <p:nvPr/>
        </p:nvPicPr>
        <p:blipFill>
          <a:blip r:embed="rId1"/>
          <a:stretch/>
        </p:blipFill>
        <p:spPr>
          <a:xfrm>
            <a:off x="7162920" y="334800"/>
            <a:ext cx="1904760" cy="922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3" name="Rectangle 4"/>
          <p:cNvSpPr/>
          <p:nvPr/>
        </p:nvSpPr>
        <p:spPr>
          <a:xfrm>
            <a:off x="1371600" y="228600"/>
            <a:ext cx="6248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BRE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entre for Bioengineering Research &amp;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2057400" y="627696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b2b2b2"/>
                </a:solidFill>
                <a:latin typeface="Arial"/>
              </a:rPr>
              <a:t>Engineering Health and Wellness 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b2b2b2"/>
                </a:solidFill>
                <a:uFillTx/>
                <a:latin typeface="Arial"/>
              </a:rPr>
              <a:t>www.schulich.ucalgary.ca/biomed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4"/>
          <p:cNvSpPr/>
          <p:nvPr/>
        </p:nvSpPr>
        <p:spPr>
          <a:xfrm>
            <a:off x="380880" y="2057400"/>
            <a:ext cx="114300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PARTN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Engine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Kinesi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Veterinary                   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Nur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University Technologies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Calgary Health 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N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28"/>
          <p:cNvGrpSpPr/>
          <p:nvPr/>
        </p:nvGrpSpPr>
        <p:grpSpPr>
          <a:xfrm>
            <a:off x="1523880" y="1523880"/>
            <a:ext cx="3438360" cy="2838240"/>
            <a:chOff x="1523880" y="1523880"/>
            <a:chExt cx="3438360" cy="2838240"/>
          </a:xfrm>
        </p:grpSpPr>
        <p:sp>
          <p:nvSpPr>
            <p:cNvPr id="47" name="Oval 16"/>
            <p:cNvSpPr/>
            <p:nvPr/>
          </p:nvSpPr>
          <p:spPr>
            <a:xfrm>
              <a:off x="2895480" y="1523880"/>
              <a:ext cx="2066760" cy="1876320"/>
            </a:xfrm>
            <a:prstGeom prst="ellipse">
              <a:avLst/>
            </a:prstGeom>
            <a:solidFill>
              <a:srgbClr val="d62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Text Box 17"/>
            <p:cNvSpPr/>
            <p:nvPr/>
          </p:nvSpPr>
          <p:spPr>
            <a:xfrm>
              <a:off x="3352680" y="1599840"/>
              <a:ext cx="1222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ME Undergr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Group 18"/>
            <p:cNvGrpSpPr/>
            <p:nvPr/>
          </p:nvGrpSpPr>
          <p:grpSpPr>
            <a:xfrm>
              <a:off x="1523880" y="1668240"/>
              <a:ext cx="1612800" cy="1490760"/>
              <a:chOff x="1523880" y="1668240"/>
              <a:chExt cx="1612800" cy="1490760"/>
            </a:xfrm>
          </p:grpSpPr>
          <p:sp>
            <p:nvSpPr>
              <p:cNvPr id="50" name="Oval 19"/>
              <p:cNvSpPr/>
              <p:nvPr/>
            </p:nvSpPr>
            <p:spPr>
              <a:xfrm>
                <a:off x="1523880" y="1668240"/>
                <a:ext cx="1612800" cy="1490760"/>
              </a:xfrm>
              <a:prstGeom prst="ellipse">
                <a:avLst/>
              </a:prstGeom>
              <a:solidFill>
                <a:srgbClr val="d62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Text Box 20"/>
              <p:cNvSpPr/>
              <p:nvPr/>
            </p:nvSpPr>
            <p:spPr>
              <a:xfrm>
                <a:off x="1675080" y="1859400"/>
                <a:ext cx="1310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ME Gra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21"/>
            <p:cNvGrpSpPr/>
            <p:nvPr/>
          </p:nvGrpSpPr>
          <p:grpSpPr>
            <a:xfrm>
              <a:off x="2209680" y="2774880"/>
              <a:ext cx="1770120" cy="1587240"/>
              <a:chOff x="2209680" y="2774880"/>
              <a:chExt cx="1770120" cy="1587240"/>
            </a:xfrm>
          </p:grpSpPr>
          <p:sp>
            <p:nvSpPr>
              <p:cNvPr id="53" name="Oval 22"/>
              <p:cNvSpPr/>
              <p:nvPr/>
            </p:nvSpPr>
            <p:spPr>
              <a:xfrm>
                <a:off x="2209680" y="2774880"/>
                <a:ext cx="1770120" cy="1587240"/>
              </a:xfrm>
              <a:prstGeom prst="ellipse">
                <a:avLst/>
              </a:prstGeom>
              <a:solidFill>
                <a:srgbClr val="d62900">
                  <a:alpha val="9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Text Box 23"/>
              <p:cNvSpPr/>
              <p:nvPr/>
            </p:nvSpPr>
            <p:spPr>
              <a:xfrm>
                <a:off x="2429640" y="3023640"/>
                <a:ext cx="1517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esearc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Text Box 24"/>
            <p:cNvSpPr/>
            <p:nvPr/>
          </p:nvSpPr>
          <p:spPr>
            <a:xfrm>
              <a:off x="3289320" y="2068200"/>
              <a:ext cx="1405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8 new facul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5 students / y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ork practic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1" lang="en-US" sz="1200" spc="-1" strike="noStrike" baseline="30000">
                  <a:solidFill>
                    <a:srgbClr val="ffffff"/>
                  </a:solidFill>
                  <a:latin typeface="Arial"/>
                </a:rPr>
                <a:t>th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yr resear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25"/>
            <p:cNvSpPr/>
            <p:nvPr/>
          </p:nvSpPr>
          <p:spPr>
            <a:xfrm>
              <a:off x="1574640" y="2149200"/>
              <a:ext cx="1663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ter-facul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B Graduate confer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Sc, Ph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26"/>
            <p:cNvSpPr/>
            <p:nvPr/>
          </p:nvSpPr>
          <p:spPr>
            <a:xfrm>
              <a:off x="2294640" y="3200040"/>
              <a:ext cx="166644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linical the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ollabor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CIT infrastruct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edical dev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Text Box 29"/>
          <p:cNvSpPr/>
          <p:nvPr/>
        </p:nvSpPr>
        <p:spPr>
          <a:xfrm>
            <a:off x="1752480" y="4724280"/>
            <a:ext cx="266724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gt; 70 faculty me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gt; 10 Research Ch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~ 150 undergraduate stu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~ 90 graduate stu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gineering Internship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que research and device prototype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0"/>
          <p:cNvSpPr/>
          <p:nvPr/>
        </p:nvSpPr>
        <p:spPr>
          <a:xfrm>
            <a:off x="5181480" y="1523880"/>
            <a:ext cx="3962520" cy="21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BRE 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Narrow"/>
              </a:rPr>
              <a:t>To be a focal point for innovative bioengineering research, education and industry in Calgary, Alberta, Canada and globally, fostering a collaborative atmosphere whic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 Narrow"/>
              </a:rPr>
              <a:t>encourages innovative and leading-edge transdisciplinary research and educatio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 Narrow"/>
              </a:rPr>
              <a:t>trains highly capable forward-thinking bioengineers that work and communicate well with other individuals from engineering, science, medicine and kinesiology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 Narrow"/>
              </a:rPr>
              <a:t>serves as a catalyst for translating research and research products to the clinical or industrial set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Group 45"/>
          <p:cNvGrpSpPr/>
          <p:nvPr/>
        </p:nvGrpSpPr>
        <p:grpSpPr>
          <a:xfrm>
            <a:off x="7010280" y="4567320"/>
            <a:ext cx="2057040" cy="1612440"/>
            <a:chOff x="7010280" y="4567320"/>
            <a:chExt cx="2057040" cy="1612440"/>
          </a:xfrm>
        </p:grpSpPr>
        <p:grpSp>
          <p:nvGrpSpPr>
            <p:cNvPr id="61" name="Group 40"/>
            <p:cNvGrpSpPr/>
            <p:nvPr/>
          </p:nvGrpSpPr>
          <p:grpSpPr>
            <a:xfrm>
              <a:off x="7328880" y="4575240"/>
              <a:ext cx="1666080" cy="1199880"/>
              <a:chOff x="7328880" y="4575240"/>
              <a:chExt cx="1666080" cy="1199880"/>
            </a:xfrm>
          </p:grpSpPr>
          <p:sp>
            <p:nvSpPr>
              <p:cNvPr id="62" name="_s1028"/>
              <p:cNvSpPr/>
              <p:nvPr/>
            </p:nvSpPr>
            <p:spPr>
              <a:xfrm>
                <a:off x="7589520" y="4641480"/>
                <a:ext cx="1144800" cy="724320"/>
              </a:xfrm>
              <a:prstGeom prst="pi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_s1029"/>
              <p:cNvSpPr/>
              <p:nvPr/>
            </p:nvSpPr>
            <p:spPr>
              <a:xfrm rot="7200000">
                <a:off x="7956360" y="4602600"/>
                <a:ext cx="723960" cy="1144080"/>
              </a:xfrm>
              <a:prstGeom prst="pi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_s1030"/>
              <p:cNvSpPr/>
              <p:nvPr/>
            </p:nvSpPr>
            <p:spPr>
              <a:xfrm rot="14400000">
                <a:off x="7643160" y="4602600"/>
                <a:ext cx="724320" cy="1144800"/>
              </a:xfrm>
              <a:prstGeom prst="pi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_s1031"/>
            <p:cNvSpPr/>
            <p:nvPr/>
          </p:nvSpPr>
          <p:spPr>
            <a:xfrm>
              <a:off x="8138880" y="4567320"/>
              <a:ext cx="9284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  <a:ea typeface="Arial"/>
                </a:rPr>
                <a:t>Trans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_s1032"/>
            <p:cNvSpPr/>
            <p:nvPr/>
          </p:nvSpPr>
          <p:spPr>
            <a:xfrm>
              <a:off x="7715520" y="5341680"/>
              <a:ext cx="9284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  <a:ea typeface="Arial"/>
                </a:rPr>
                <a:t>Produ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_s1033"/>
            <p:cNvSpPr/>
            <p:nvPr/>
          </p:nvSpPr>
          <p:spPr>
            <a:xfrm>
              <a:off x="7010280" y="4578120"/>
              <a:ext cx="9284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  <a:ea typeface="Arial"/>
                </a:rPr>
                <a:t>Knowle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  <a:ea typeface="Arial"/>
                </a:rPr>
                <a:t>Gene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46"/>
          <p:cNvSpPr/>
          <p:nvPr/>
        </p:nvSpPr>
        <p:spPr>
          <a:xfrm>
            <a:off x="5251680" y="3894120"/>
            <a:ext cx="299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ustrial Partners Program (IP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7"/>
          <p:cNvSpPr/>
          <p:nvPr/>
        </p:nvSpPr>
        <p:spPr>
          <a:xfrm>
            <a:off x="5105520" y="4275000"/>
            <a:ext cx="2133360" cy="21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y partner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internships &amp; employment plac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ee recruitment &amp; train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 and product development, testing &amp; commerci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collabo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20:42:45Z</dcterms:created>
  <dc:creator>University of Calgary</dc:creator>
  <dc:description/>
  <dc:language>en-US</dc:language>
  <cp:lastModifiedBy>Desktop Technology Program</cp:lastModifiedBy>
  <dcterms:modified xsi:type="dcterms:W3CDTF">2008-04-25T20:11:15Z</dcterms:modified>
  <cp:revision>52</cp:revision>
  <dc:subject/>
  <dc:title>PowerPoint Presentation</dc:title>
</cp:coreProperties>
</file>