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571-1F6B-446F-80B8-C3936D5E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DA2-A980-497E-A224-EBC7E317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F7F-BC3F-4F4E-8F3E-0EB154EE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ABE-40A9-4DD9-8553-65396903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912-87F1-46C7-A7CC-EEC9872D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229-29F6-4F6F-94CC-28F39BCE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CB5-837A-4B74-B49D-893370B8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C1F-C6BA-407E-AD5C-2EB82234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DC4-4776-4151-AFA2-F5A0F0FB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B3E-AAE3-4DEE-B189-3DCE91C7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F55-DE16-4F06-997D-64CCABE5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9D9-6375-4BF2-8479-E857B97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45F-F37E-457A-95D9-0EED0E63A102}" type="slidenum">
              <a:rPr b="0" lang="es-E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" name="evaluacion%20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roceso de evaluación objetivo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teni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constru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la convergencia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manifiest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significado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alidez de retroacción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prendizajes de los alumnos: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Relaciones interpersonales.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omprensión global del tema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Capacidad de condensar y sintetizar.  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Habilidad para la creación de conceptos propios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articipación activa en la construcción colectiva.</a:t>
            </a:r>
            <a:r>
              <a:rPr b="0" lang="es-CO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6" name="construyendo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2404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5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TEMS DE LA RUBRIC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PRECIACIONES PERSONALES SOBRE LOS CONCEPTOS TRATAD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ANTIDAD DE TRABAJ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NTENID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MÁGENE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ESTIL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GANIZA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ORIGINALIDAD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ARTICIPACIÓN EN LOS FOR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UNTO DE VISTA, CONCIENCIA DE LA AUDIENCI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DACCIÓN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LACIÓN CON LOS CONCEPTOS CENTRALES A TRATAR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REQUISITOS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DE LA HERRAMIENTA WEB 2.0 SELECCIONADA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SO GENERAL DEL BLOG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Alcances del proyecto piloto: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Pertinencia del proyecto pedagógic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Uso potencial de las herramientas TICs para promover el arte latinoamericano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El costo-efectividad del proyecto  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Grado de satisfacción de los beneficiarios del proyecto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99"/>
                </a:solidFill>
                <a:latin typeface="Verdana"/>
              </a:rPr>
              <a:t>Viabilidad y sostenibilida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" name="evalucion%203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99"/>
                </a:solidFill>
                <a:latin typeface="Verdana"/>
              </a:rPr>
              <a:t>Evaluación del proyect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Verdana"/>
              </a:rPr>
              <a:t>Métricas a implementa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icacia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indicadores de Technoratti para el Blog, cantidad y calidad de WQ, proyectos colaborativos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Efectividad</a:t>
            </a:r>
            <a:r>
              <a:rPr b="0" lang="es-AR" sz="1800" spc="-1" strike="noStrike">
                <a:solidFill>
                  <a:srgbClr val="000099"/>
                </a:solidFill>
                <a:latin typeface="Verdana"/>
              </a:rPr>
              <a:t>: cantidad de accesos desde la web, encuestas en el blog, enlaces a otros sitios educativo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Verdana"/>
              </a:rPr>
              <a:t>Eficiencia</a:t>
            </a:r>
            <a:r>
              <a:rPr b="0" lang="es-ES" sz="1800" spc="-1" strike="noStrike">
                <a:solidFill>
                  <a:srgbClr val="000099"/>
                </a:solidFill>
                <a:latin typeface="Verdana"/>
              </a:rPr>
              <a:t>: medición de costos y detección de externalidad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evaluacion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sa</cp:lastModifiedBy>
  <dcterms:modified xsi:type="dcterms:W3CDTF">2008-04-04T10:42:06Z</dcterms:modified>
  <cp:revision>42</cp:revision>
  <dc:subject/>
  <dc:title>PowerPoint Presentation</dc:title>
</cp:coreProperties>
</file>