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49E-A9A4-4386-B528-20B05A7F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D11-BE08-4306-9BBD-1C2F0DE7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A5B-72F1-463C-807E-D27D4A21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693-0937-489F-8C4A-C07DE7F3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551-F53F-404C-AA1D-B4653A1E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73A-045B-41DC-AC83-E9B4CD98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69D-BDFB-4079-A4AC-2F12684D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325-C144-4518-B526-2D26CD95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527-CDB1-4A87-A6B9-C96740EB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BB0-0DEE-4B61-A482-8B819AFD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018-86BB-4768-93EC-903633B1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245-7BAA-461F-B66E-82B4DBD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4D18-49CB-4089-8D5B-58317EB9D66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76360" y="476280"/>
          <a:ext cx="6121440" cy="59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76280"/>
                    <a:ext cx="6121440" cy="59752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85960" y="5842080"/>
            <a:ext cx="1918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Luis Ezqu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46920" cy="56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3600" spc="-1" strike="noStrike">
                <a:solidFill>
                  <a:srgbClr val="3333cc"/>
                </a:solidFill>
                <a:latin typeface="Times New Roman"/>
              </a:rPr>
              <a:t>Se pueden incorporar algunas útiles TIC mediante formas fáciles bien planeadas (…) Sugiero utilizar tecnologías ampliamente disponibles combinadas con planteamientos más familiares de enseñanza y aprendizaj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Times New Roman"/>
              </a:rPr>
              <a:t>Pincas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4129200"/>
            <a:ext cx="3809880" cy="2539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4160" y="764640"/>
            <a:ext cx="7918200" cy="51879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a Web 2.0. dinamiza la participación del estudiante medi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La publicación de materi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De consumidor a </a:t>
            </a: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prosumidor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El desarrollo del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3333cc"/>
                </a:solidFill>
                <a:latin typeface="Times New Roman"/>
              </a:rPr>
              <a:t>Colaborativo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la misma comun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sco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Entre regiones dis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geográfica y cultur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Coope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Abi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En permanente constr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965320"/>
            <a:ext cx="3888000" cy="2597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3840" cy="42512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Bartolomé (1997) señala cambios que tienen lugar gracias a los intercambios de infor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l modo en que ésta es codifi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cantidad y calidad de la información a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que acced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En la forma 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accedemos a ella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54560" y="3429000"/>
            <a:ext cx="43210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473040"/>
            <a:ext cx="7918200" cy="583560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Marchesi,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et alli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(2003), seña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Conexión con otras competencias que son necesarias para desenvolverse exitosamente en el siglo XX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Interactiv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ormación, en modelos figurativos, de nociones abstrac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Transferencia de los aprendizajes entre contextos diferentes.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mpl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las relaciones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alumnos y profes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de difer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proced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School children sign"/>
          <p:cNvPicPr/>
          <p:nvPr/>
        </p:nvPicPr>
        <p:blipFill>
          <a:blip r:embed="rId1"/>
          <a:stretch/>
        </p:blipFill>
        <p:spPr>
          <a:xfrm>
            <a:off x="4290840" y="3573360"/>
            <a:ext cx="3810240" cy="2849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474840"/>
            <a:ext cx="8280360" cy="59068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osotros, además, considera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Los programas </a:t>
            </a:r>
            <a:r>
              <a:rPr b="0" i="1" lang="es-CO" sz="2800" spc="-1" strike="noStrike">
                <a:solidFill>
                  <a:srgbClr val="3333cc"/>
                </a:solidFill>
                <a:latin typeface="Times New Roman"/>
              </a:rPr>
              <a:t>libres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y gratuitos favorec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Que el proyecto pueda ser reproducido allá donde haya conexión a Interne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66760">
              <a:spcBef>
                <a:spcPts val="624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3333cc"/>
                </a:solidFill>
                <a:latin typeface="Times New Roman"/>
              </a:rPr>
              <a:t>Mínimos conocimientos técnicos previ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3070080"/>
            <a:ext cx="5180040" cy="345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15640"/>
            <a:ext cx="4319280" cy="6381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Posibilidad de recreación del proceso educa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Generación 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Nueva conciencia glob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3333cc"/>
                </a:solidFill>
                <a:latin typeface="Times New Roman"/>
              </a:rPr>
              <a:t>Reafirmación de la propia identidad en la dif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360" y="546120"/>
            <a:ext cx="3890880" cy="5835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000" y="3571920"/>
            <a:ext cx="770076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Abogamos no sólo por objetivos cognoscitivos, sino también de práctica social, como proceso no lineal de interacción entre el alumno y el docen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98480" y="773280"/>
            <a:ext cx="2030760" cy="7034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Times New Roman"/>
              </a:rPr>
              <a:t>Por ta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02000" y="21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is Ezquerro</cp:lastModifiedBy>
  <dcterms:modified xsi:type="dcterms:W3CDTF">2000-01-01T05:11:54Z</dcterms:modified>
  <cp:revision>28</cp:revision>
  <dc:subject/>
  <dc:title>PowerPoint Presentation</dc:title>
</cp:coreProperties>
</file>