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B88-C4B2-461E-8A95-910DB9C6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10B-A31A-46CB-90EC-8AF6257B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669-DCA0-457F-8731-1D8CE693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0D2-64A6-4BB0-BF6B-B81DAD48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BF5-8D2F-44A3-8F71-90F40DE8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84B-9759-4FB6-AC85-EF2A56C2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805-94BB-4B11-8F16-0E707901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78D-A812-44B6-BFB4-FB814CD4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34E-D7DF-4E73-B438-7F9FE07E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C7B-7B3B-45EA-A0FC-E2BD90D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0EA-3B92-4C9A-83FD-9EB53C7F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9B1-C87F-45CB-A355-F187621C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6083-2DC2-427E-B872-8C1E0331D5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76360" y="476280"/>
          <a:ext cx="6121440" cy="59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76280"/>
                    <a:ext cx="6121440" cy="59752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85960" y="5842080"/>
            <a:ext cx="1918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Luis Ezqu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46920" cy="56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3600" spc="-1" strike="noStrike">
                <a:solidFill>
                  <a:srgbClr val="3333cc"/>
                </a:solidFill>
                <a:latin typeface="Times New Roman"/>
              </a:rPr>
              <a:t>Se pueden incorporar algunas útiles TIC mediante formas fáciles bien planeadas (…) Sugiero utilizar tecnologías ampliamente disponibles combinadas con planteamientos más familiares de enseñanza y aprendizaj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Times New Roman"/>
              </a:rPr>
              <a:t>Pincas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4129200"/>
            <a:ext cx="3809880" cy="2539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4160" y="764640"/>
            <a:ext cx="7918200" cy="51879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a Web 2.0. dinamiza la participación del estudiante medi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La publicación de materi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De consumidor a </a:t>
            </a: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prosumidor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El desarrollo del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Colaborativo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la misma comun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sco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regiones dis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geográfica y cultur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Coope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Abi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En permanente constr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965320"/>
            <a:ext cx="3888000" cy="2597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3840" cy="425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Bartolomé (1997) señala cambios que tienen lugar gracias a los intercambios de infor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l modo en que ésta es codifi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cantidad y calidad de la información a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que acced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forma 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accedemos a ella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54560" y="3429000"/>
            <a:ext cx="43210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473040"/>
            <a:ext cx="7918200" cy="583560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Marchesi,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et alli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(2003), seña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Conexión con otras competencias que son necesarias para desenvolverse exitosamente en el siglo XX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Interactiv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ormación, en modelos figurativos, de nociones abstrac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erencia de los aprendizajes entre contextos diferentes.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mpl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las relaciones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lumnos y profes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difer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proced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School children sign"/>
          <p:cNvPicPr/>
          <p:nvPr/>
        </p:nvPicPr>
        <p:blipFill>
          <a:blip r:embed="rId1"/>
          <a:stretch/>
        </p:blipFill>
        <p:spPr>
          <a:xfrm>
            <a:off x="4290840" y="3573360"/>
            <a:ext cx="3810240" cy="2849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474840"/>
            <a:ext cx="8280360" cy="59068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osotros, además, considera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os programas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libres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y gratuitos favorec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Que el proyecto pueda ser reproducido allá donde haya conexión a Interne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Mínimos conocimientos técnicos previ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3070080"/>
            <a:ext cx="5180040" cy="345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15640"/>
            <a:ext cx="4319280" cy="6381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Posibilidad de recreación del proceso educa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Generación 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ueva conciencia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Reafirmación de la propia identidad en la dif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360" y="546120"/>
            <a:ext cx="3890880" cy="5835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000" y="3571920"/>
            <a:ext cx="770076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Abogamos no sólo por objetivos cognoscitivos, sino también de práctica social, como proceso no lineal de interacción entre el alumno y el doc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98480" y="773280"/>
            <a:ext cx="2030760" cy="7034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Times New Roman"/>
              </a:rPr>
              <a:t>Por ta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02000" y="21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5:11:54Z</dcterms:modified>
  <cp:revision>28</cp:revision>
  <dc:subject/>
  <dc:title>PowerPoint Presentation</dc:title>
</cp:coreProperties>
</file>