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5F3-300C-4E3B-965B-81322417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574-6DA6-49B3-B8E0-BBFC662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471-061B-494F-B21B-A8C9679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214-9678-4D96-9F97-D6C803F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552-7593-43FA-88E0-BA50EA6E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68C-AB65-40F3-B3F3-28EAF79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36B-5E2A-4446-A879-CF420EE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43D-7503-4E2E-9063-88C5415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19D-F0D1-4054-B102-93C40582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B08-7C96-44C6-9F12-A5370B7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18A-855E-4D90-BAB3-DD336F4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8F4-2A33-4EDC-9FF0-CE3C7B3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35D-BE8D-4F4C-90F1-8FA4558D95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jpeg"/><Relationship Id="rId3" Type="http://schemas.openxmlformats.org/officeDocument/2006/relationships/image" Target="../media/image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vidad Lúdica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presentación: G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se_multipart1395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43" name="google-docs-logo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1676160" cy="88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657600" y="472428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trato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e su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scuela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 el contexto de la misma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documentos colaborativos a manera de W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o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565280" cy="54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6" name="logo" descr=""/>
          <p:cNvPicPr/>
          <p:nvPr/>
        </p:nvPicPr>
        <p:blipFill>
          <a:blip r:embed="rId4"/>
          <a:stretch/>
        </p:blipFill>
        <p:spPr>
          <a:xfrm>
            <a:off x="3886200" y="2971800"/>
            <a:ext cx="1981080" cy="549360"/>
          </a:xfrm>
          <a:prstGeom prst="rect">
            <a:avLst/>
          </a:prstGeom>
          <a:ln w="0">
            <a:noFill/>
          </a:ln>
        </p:spPr>
      </p:pic>
      <p:pic>
        <p:nvPicPr>
          <p:cNvPr id="47" name="foto%20jóvenes%20011" descr=""/>
          <p:cNvPicPr/>
          <p:nvPr/>
        </p:nvPicPr>
        <p:blipFill>
          <a:blip r:embed="rId5"/>
          <a:stretch/>
        </p:blipFill>
        <p:spPr>
          <a:xfrm>
            <a:off x="7621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logo050907" descr=""/>
          <p:cNvPicPr/>
          <p:nvPr/>
        </p:nvPicPr>
        <p:blipFill>
          <a:blip r:embed="rId6"/>
          <a:stretch/>
        </p:blipFill>
        <p:spPr>
          <a:xfrm>
            <a:off x="6172200" y="3048120"/>
            <a:ext cx="2465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520"/>
            <a:ext cx="73915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 de productos colabora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racterísticas particulares y distintivas de las manifestaciones que conforman el campo de las artes visuales latinoamericanas en el siglo XX. Función expresiva y de comunicación de la ima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lñi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36232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slide_logo_sm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1905120" cy="704880"/>
          </a:xfrm>
          <a:prstGeom prst="rect">
            <a:avLst/>
          </a:prstGeom>
          <a:ln w="0">
            <a:noFill/>
          </a:ln>
        </p:spPr>
      </p:pic>
      <p:pic>
        <p:nvPicPr>
          <p:cNvPr id="102" name="bu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2903400" cy="77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762120"/>
            <a:ext cx="7467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esencia del patrimonio visual latinoamericano en mi país y en Internet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s manifestaciones artísticas al aire libre en el siglo XX: relieves y muralismo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lideshow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• 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iempo y espacio en la imagen en movimiento. Cine Latinoamericano y Televisión. Trabajado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Youtu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5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752480" cy="4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yout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21932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slide_logo_sm" descr=""/>
          <p:cNvPicPr/>
          <p:nvPr/>
        </p:nvPicPr>
        <p:blipFill>
          <a:blip r:embed="rId3"/>
          <a:stretch/>
        </p:blipFill>
        <p:spPr>
          <a:xfrm>
            <a:off x="2819520" y="3429000"/>
            <a:ext cx="160020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yout" descr=""/>
          <p:cNvPicPr/>
          <p:nvPr/>
        </p:nvPicPr>
        <p:blipFill>
          <a:blip r:embed="rId4"/>
          <a:stretch/>
        </p:blipFill>
        <p:spPr>
          <a:xfrm>
            <a:off x="2362320" y="5334120"/>
            <a:ext cx="1218960" cy="57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ebQuest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paradas po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docentes de cada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webq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334120" cy="1019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066680"/>
            <a:ext cx="7619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Ultima actividad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desarrollarán un trabajo colaborativo con el auxilio del chat para el intercambio y de las herramientas de la web 2.0 para producir, de este modo, un último material integrador de su experiencia que dé cuenta de la identidad latinoamericana de nuestra cultura.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msn-chat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244476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amsncc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165320" cy="789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msn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13492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lñi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361960" cy="77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0" name="bu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903760" cy="77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slide_logo_sm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190476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foto%20jóvenes%20001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foto%20jóvenes%20004" descr=""/>
          <p:cNvPicPr/>
          <p:nvPr/>
        </p:nvPicPr>
        <p:blipFill>
          <a:blip r:embed="rId5"/>
          <a:stretch/>
        </p:blipFill>
        <p:spPr>
          <a:xfrm>
            <a:off x="6477120" y="3809880"/>
            <a:ext cx="2361960" cy="1771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228600"/>
            <a:ext cx="3978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Álbum de f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724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mezcladas con las imágenes del colegio se incluirán, así mismo, fotos de los alumnos 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5486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en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uri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035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2362320" cy="888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tool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743200" cy="165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4120" y="1752480"/>
            <a:ext cx="25905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ketchr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adrillos_1x2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1551240" cy="139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124080"/>
            <a:ext cx="15242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raffit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36232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 existen dibujos y/o caricaturas podrán ser digitalizadas e incluid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0292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mpo acordado para la finalización de esta actividad es de un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eral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un b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  Decidiendo formato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ti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colores , color de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rte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73364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8" name="blo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4176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wwp" descr=""/>
          <p:cNvPicPr/>
          <p:nvPr/>
        </p:nvPicPr>
        <p:blipFill>
          <a:blip r:embed="rId3"/>
          <a:stretch/>
        </p:blipFill>
        <p:spPr>
          <a:xfrm>
            <a:off x="7467480" y="3429000"/>
            <a:ext cx="114624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5720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 composición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Grupal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rte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2752920" cy="157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791320" y="205740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 investigarán recursos para incluir en 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lo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ej: contador de visitantes, encuestas, reloj, pronóstico del tiempo, lector de voz para las entradas, traductor de la página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iempo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523880" cy="552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4" name="reloj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1104840" cy="136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5" name="esc" descr=""/>
          <p:cNvPicPr/>
          <p:nvPr/>
        </p:nvPicPr>
        <p:blipFill>
          <a:blip r:embed="rId4"/>
          <a:stretch/>
        </p:blipFill>
        <p:spPr>
          <a:xfrm>
            <a:off x="3962520" y="4038480"/>
            <a:ext cx="1171440" cy="106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escu" descr=""/>
          <p:cNvPicPr/>
          <p:nvPr/>
        </p:nvPicPr>
        <p:blipFill>
          <a:blip r:embed="rId5"/>
          <a:stretch/>
        </p:blipFill>
        <p:spPr>
          <a:xfrm>
            <a:off x="533520" y="5181480"/>
            <a:ext cx="3047760" cy="322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603576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tiempo acordado será de una seman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46748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diferentes docentes deberán asociar el desarrollo de un determinado tema con la utilización de uno, o más recursos, de manera que los alumnos se ejercitarán en su utilización durante los módulos, tanto introductor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y com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0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762120"/>
            <a:ext cx="7086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contenidos de arte latinoamericano con las TIC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2096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 mapa de muse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una galería de artes plásticas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earth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539720" cy="153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logomsn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1714320" cy="1374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505320" y="57913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Generar archivos K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5520" y="4495680"/>
            <a:ext cx="838440" cy="1295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2193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ción de archivos (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dcast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 temas musicales que hablen de problemáticas regionales.   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p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000160" cy="72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8" name="odeo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400040" cy="495360"/>
          </a:xfrm>
          <a:prstGeom prst="rect">
            <a:avLst/>
          </a:prstGeom>
          <a:ln w="0">
            <a:noFill/>
          </a:ln>
        </p:spPr>
      </p:pic>
      <p:pic>
        <p:nvPicPr>
          <p:cNvPr id="89" name="easy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1666800" cy="60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0" name="freesound" descr=""/>
          <p:cNvPicPr/>
          <p:nvPr/>
        </p:nvPicPr>
        <p:blipFill>
          <a:blip r:embed="rId4"/>
          <a:stretch/>
        </p:blipFill>
        <p:spPr>
          <a:xfrm>
            <a:off x="4038480" y="4191120"/>
            <a:ext cx="2629080" cy="60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1" name="scion-logo" descr=""/>
          <p:cNvPicPr/>
          <p:nvPr/>
        </p:nvPicPr>
        <p:blipFill>
          <a:blip r:embed="rId5"/>
          <a:stretch/>
        </p:blipFill>
        <p:spPr>
          <a:xfrm>
            <a:off x="1676520" y="3886200"/>
            <a:ext cx="9903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762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úsqueda de expresiones de danz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yout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209680" cy="103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4" name="logote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297160" cy="960480"/>
          </a:xfrm>
          <a:prstGeom prst="rect">
            <a:avLst/>
          </a:prstGeom>
          <a:ln w="0">
            <a:noFill/>
          </a:ln>
        </p:spPr>
      </p:pic>
      <p:pic>
        <p:nvPicPr>
          <p:cNvPr id="95" name="vi0" descr=""/>
          <p:cNvPicPr/>
          <p:nvPr/>
        </p:nvPicPr>
        <p:blipFill>
          <a:blip r:embed="rId3"/>
          <a:stretch/>
        </p:blipFill>
        <p:spPr>
          <a:xfrm>
            <a:off x="5791320" y="1752480"/>
            <a:ext cx="1981080" cy="9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logo++" descr=""/>
          <p:cNvPicPr/>
          <p:nvPr/>
        </p:nvPicPr>
        <p:blipFill>
          <a:blip r:embed="rId4"/>
          <a:stretch/>
        </p:blipFill>
        <p:spPr>
          <a:xfrm>
            <a:off x="5791320" y="3429000"/>
            <a:ext cx="2286000" cy="57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01:35:58Z</dcterms:modified>
  <cp:revision>29</cp:revision>
  <dc:subject/>
  <dc:title>PowerPoint Presentation</dc:title>
</cp:coreProperties>
</file>