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C438-989B-4676-8519-340D1EA96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9FFB-2B89-49B0-8FF2-B6B016BC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33E0-3658-481E-8A38-714426FD1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DECE-C74F-4247-A603-F994148A1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9553-68ED-40DA-A4F0-830E6079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BBD5-85FD-4D2D-8E13-D0429797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8E16-2294-4FF5-9BF3-B2530DE8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4F46-B5DC-48FE-8841-007269B1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46F6-8BD0-4935-860E-BCC05B27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93C0-9CE3-4348-9DED-4E4CFC58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4234-184F-46E8-A6DA-66E0C7CD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E794-56C1-4EF4-9317-18801420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AD4E-FBEB-47FD-BC20-602D9EC7F82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7846920" cy="569124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3600" spc="-1" strike="noStrike">
                <a:solidFill>
                  <a:srgbClr val="3333cc"/>
                </a:solidFill>
                <a:latin typeface="Times New Roman"/>
              </a:rPr>
              <a:t>Se pueden incorporar algunas útiles TIC mediante formas fáciles bien planeadas (…) Sugiero utilizar tecnologías ampliamente disponibles combinadas con planteamientos más familiares de enseñanza y aprendizaj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3333cc"/>
                </a:solidFill>
                <a:latin typeface="Times New Roman"/>
              </a:rPr>
              <a:t>Pincas (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627280" y="4129200"/>
            <a:ext cx="3809880" cy="25398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14160" y="764640"/>
            <a:ext cx="7918200" cy="518796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La Web 2.0. dinamiza la participación del estudiante media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La publicación de materia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De consumidor a </a:t>
            </a:r>
            <a:r>
              <a:rPr b="0" i="1" lang="es-CO" sz="2000" spc="-1" strike="noStrike">
                <a:solidFill>
                  <a:srgbClr val="3333cc"/>
                </a:solidFill>
                <a:latin typeface="Times New Roman"/>
              </a:rPr>
              <a:t>prosumidor</a:t>
            </a: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El desarrollo del aprendizaj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000" spc="-1" strike="noStrike">
                <a:solidFill>
                  <a:srgbClr val="3333cc"/>
                </a:solidFill>
                <a:latin typeface="Times New Roman"/>
              </a:rPr>
              <a:t>Colaborativo</a:t>
            </a: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3333cc"/>
                </a:solidFill>
                <a:latin typeface="Times New Roman"/>
              </a:rPr>
              <a:t>Entre la misma comunid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1800" spc="-1" strike="noStrike">
                <a:solidFill>
                  <a:srgbClr val="3333cc"/>
                </a:solidFill>
                <a:latin typeface="Times New Roman"/>
              </a:rPr>
              <a:t>escol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3333cc"/>
                </a:solidFill>
                <a:latin typeface="Times New Roman"/>
              </a:rPr>
              <a:t>Entre regiones dist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1800" spc="-1" strike="noStrike">
                <a:solidFill>
                  <a:srgbClr val="3333cc"/>
                </a:solidFill>
                <a:latin typeface="Times New Roman"/>
              </a:rPr>
              <a:t>geográfica y cultural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Cooperat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Abier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En permanente constru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076720" y="2965320"/>
            <a:ext cx="3888000" cy="25974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836280"/>
            <a:ext cx="7773840" cy="425124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3333cc"/>
                </a:solidFill>
                <a:latin typeface="Times New Roman"/>
              </a:rPr>
              <a:t>Bartolomé (1997) señala cambios que tienen lugar gracias a los intercambios de inform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El modo en que ésta es codific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En la cantidad y calidad de la información a 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que acced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En la forma en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accedemos a ella.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54560" y="3429000"/>
            <a:ext cx="4321080" cy="28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10920" y="473040"/>
            <a:ext cx="7918200" cy="583560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Marchesi, </a:t>
            </a:r>
            <a:r>
              <a:rPr b="0" i="1" lang="es-CO" sz="2800" spc="-1" strike="noStrike">
                <a:solidFill>
                  <a:srgbClr val="3333cc"/>
                </a:solidFill>
                <a:latin typeface="Times New Roman"/>
              </a:rPr>
              <a:t>et alli </a:t>
            </a: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(2003), señal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Conexión con otras competencias que son necesarias para desenvolverse exitosamente en el siglo XX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Interactivi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Transformación, en modelos figurativos, de nociones abstrac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Transferencia de los aprendizajes entre contextos diferentes.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Ampli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de las relaciones ent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alumnos y profeso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de difer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proced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School children sign"/>
          <p:cNvPicPr/>
          <p:nvPr/>
        </p:nvPicPr>
        <p:blipFill>
          <a:blip r:embed="rId1"/>
          <a:stretch/>
        </p:blipFill>
        <p:spPr>
          <a:xfrm>
            <a:off x="4290840" y="3573360"/>
            <a:ext cx="3810240" cy="284976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4920" y="474840"/>
            <a:ext cx="8280360" cy="590688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3333cc"/>
                </a:solidFill>
                <a:latin typeface="Times New Roman"/>
              </a:rPr>
              <a:t>Nosotros, además, consideram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spcBef>
                <a:spcPts val="7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Los programas </a:t>
            </a:r>
            <a:r>
              <a:rPr b="0" i="1" lang="es-CO" sz="2800" spc="-1" strike="noStrike">
                <a:solidFill>
                  <a:srgbClr val="3333cc"/>
                </a:solidFill>
                <a:latin typeface="Times New Roman"/>
              </a:rPr>
              <a:t>libres </a:t>
            </a: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y gratuitos favorec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66760">
              <a:spcBef>
                <a:spcPts val="624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500" spc="-1" strike="noStrike">
                <a:solidFill>
                  <a:srgbClr val="3333cc"/>
                </a:solidFill>
                <a:latin typeface="Times New Roman"/>
              </a:rPr>
              <a:t>Que el proyecto pueda ser reproducido allá donde haya conexión a Internet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66760">
              <a:spcBef>
                <a:spcPts val="624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500" spc="-1" strike="noStrike">
                <a:solidFill>
                  <a:srgbClr val="3333cc"/>
                </a:solidFill>
                <a:latin typeface="Times New Roman"/>
              </a:rPr>
              <a:t>Mínimos conocimientos técnicos previo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79640" y="3070080"/>
            <a:ext cx="5180040" cy="345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215640"/>
            <a:ext cx="4319280" cy="638172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spcBef>
                <a:spcPts val="9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3333cc"/>
                </a:solidFill>
                <a:latin typeface="Times New Roman"/>
              </a:rPr>
              <a:t>Posibilidad de recreación del proceso educativ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9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CO" sz="3600" spc="-1" strike="noStrike">
                <a:solidFill>
                  <a:srgbClr val="3333cc"/>
                </a:solidFill>
                <a:latin typeface="Times New Roman"/>
              </a:rPr>
              <a:t>Generación d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3333cc"/>
                </a:solidFill>
                <a:latin typeface="Times New Roman"/>
              </a:rPr>
              <a:t>Nueva conciencia glob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3333cc"/>
                </a:solidFill>
                <a:latin typeface="Times New Roman"/>
              </a:rPr>
              <a:t>Reafirmación de la propia identidad en la difere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932360" y="546120"/>
            <a:ext cx="3890880" cy="58356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4000" y="3571920"/>
            <a:ext cx="7700760" cy="295272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3333cc"/>
                </a:solidFill>
                <a:latin typeface="Times New Roman"/>
              </a:rPr>
              <a:t>Abogamos no sólo por objetivos cognoscitivos, sino también de práctica social, como proceso no lineal de interacción entre el alumno y el docen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98480" y="773280"/>
            <a:ext cx="2030760" cy="70344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cc"/>
                </a:solidFill>
                <a:latin typeface="Times New Roman"/>
              </a:rPr>
              <a:t>Por ta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02000" y="213372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uis Ezquerro</cp:lastModifiedBy>
  <dcterms:modified xsi:type="dcterms:W3CDTF">2000-01-01T05:26:53Z</dcterms:modified>
  <cp:revision>27</cp:revision>
  <dc:subject/>
  <dc:title>PowerPoint Presentation</dc:title>
</cp:coreProperties>
</file>