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7F0-4E14-4873-8073-B90BF46E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D98-723B-456D-94E8-4C6A668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9D2-9760-472A-89AB-82BE961D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54C-1679-47A8-A688-DD43497A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0F0-FCD4-463B-8310-CBDA50F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394-8657-4E6E-8179-8D5B6279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073-D3EF-4A1D-B9A4-F7738FA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5CD-9DA9-41BB-AC86-71FBEEA5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7E2-7D57-4115-9BF3-9E530D4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E0C-53E6-43CC-9BBA-ADD41D9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56E-3EE3-424B-8D21-632C469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D77-8EE1-4AAE-B028-39AE068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E7FF-C1B9-4451-8E9F-9C0974D66F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26:53Z</dcterms:modified>
  <cp:revision>27</cp:revision>
  <dc:subject/>
  <dc:title>PowerPoint Presentation</dc:title>
</cp:coreProperties>
</file>