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0E5-CD89-4144-AFF8-8185B6D7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310-2100-4BA4-A39F-36CF1E79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4CE4-584F-4643-A8FE-91A441BD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B387-2971-4B77-B3F7-059D1104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3BBE-74EA-4EC9-86D2-BFB8485F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879A-4693-4B04-A7CF-E263C2A9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2C1-504E-46EC-9BEF-8B3B73C1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562-79DB-4FAE-A4CE-E2F0A3C3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271-B086-44EF-A30F-4079D00A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3E8-6471-4C19-BF0C-DCC30734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4FF-40F6-4803-9EC3-8BFCB11B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6FD-84D6-4B43-8441-7B5EDE8F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77FF-E0D4-4369-B707-A9BCDB39B6A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7846920" cy="56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3600" spc="-1" strike="noStrike">
                <a:solidFill>
                  <a:srgbClr val="3333cc"/>
                </a:solidFill>
                <a:latin typeface="Times New Roman"/>
              </a:rPr>
              <a:t>Se pueden incorporar algunas útiles TIC mediante formas fáciles bien planeadas (…) Sugiero utilizar tecnologías ampliamente disponibles combinadas con planteamientos más familiares de enseñanza y aprendizaj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3333cc"/>
                </a:solidFill>
                <a:latin typeface="Times New Roman"/>
              </a:rPr>
              <a:t>Pincas (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27280" y="4129200"/>
            <a:ext cx="3809880" cy="2539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14160" y="764640"/>
            <a:ext cx="7918200" cy="518796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La Web 2.0. dinamiza la participación del estudiante media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La publicación de materi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De consumidor a </a:t>
            </a:r>
            <a:r>
              <a:rPr b="0" i="1" lang="es-CO" sz="2000" spc="-1" strike="noStrike">
                <a:solidFill>
                  <a:srgbClr val="3333cc"/>
                </a:solidFill>
                <a:latin typeface="Times New Roman"/>
              </a:rPr>
              <a:t>prosumidor</a:t>
            </a: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El desarrollo del aprendiza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3333cc"/>
                </a:solidFill>
                <a:latin typeface="Times New Roman"/>
              </a:rPr>
              <a:t>Colaborativo</a:t>
            </a: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ntre la misma comun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sco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ntre regiones dist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geográfica y cultur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Coopera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Abier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En permanente constr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76720" y="2965320"/>
            <a:ext cx="3888000" cy="25974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3840" cy="42512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Bartolomé (1997) señala cambios que tienen lugar gracias a los intercambios de inform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l modo en que ésta es codific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n la cantidad y calidad de la información a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que acced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n la forma en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accedemos a ella.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54560" y="3429000"/>
            <a:ext cx="432108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10920" y="473040"/>
            <a:ext cx="7918200" cy="583560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Marchesi, </a:t>
            </a:r>
            <a:r>
              <a:rPr b="0" i="1" lang="es-CO" sz="2800" spc="-1" strike="noStrike">
                <a:solidFill>
                  <a:srgbClr val="3333cc"/>
                </a:solidFill>
                <a:latin typeface="Times New Roman"/>
              </a:rPr>
              <a:t>et alli 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(2003), señal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Conexión con otras competencias que son necesarias para desenvolverse exitosamente en el siglo XX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Interactiv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Transformación, en modelos figurativos, de nociones abstrac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Transferencia de los aprendizajes entre contextos diferentes.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Ampli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de las relaciones ent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alumnos y profes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de difer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proced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School children sign"/>
          <p:cNvPicPr/>
          <p:nvPr/>
        </p:nvPicPr>
        <p:blipFill>
          <a:blip r:embed="rId1"/>
          <a:stretch/>
        </p:blipFill>
        <p:spPr>
          <a:xfrm>
            <a:off x="4290840" y="3573360"/>
            <a:ext cx="3810240" cy="28497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4920" y="474840"/>
            <a:ext cx="8280360" cy="590688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Nosotros, además, consideram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Los programas </a:t>
            </a:r>
            <a:r>
              <a:rPr b="0" i="1" lang="es-CO" sz="2800" spc="-1" strike="noStrike">
                <a:solidFill>
                  <a:srgbClr val="3333cc"/>
                </a:solidFill>
                <a:latin typeface="Times New Roman"/>
              </a:rPr>
              <a:t>libres 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y gratuitos favorec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66760">
              <a:spcBef>
                <a:spcPts val="624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3333cc"/>
                </a:solidFill>
                <a:latin typeface="Times New Roman"/>
              </a:rPr>
              <a:t>Que el proyecto pueda ser reproducido allá donde haya conexión a Internet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66760">
              <a:spcBef>
                <a:spcPts val="624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3333cc"/>
                </a:solidFill>
                <a:latin typeface="Times New Roman"/>
              </a:rPr>
              <a:t>Mínimos conocimientos técnicos previ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79640" y="3070080"/>
            <a:ext cx="5180040" cy="345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215640"/>
            <a:ext cx="4319280" cy="6381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spcBef>
                <a:spcPts val="9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Posibilidad de recreación del proceso educativ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9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Generación 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Nueva conciencia glob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Reafirmación de la propia identidad en la difer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32360" y="546120"/>
            <a:ext cx="3890880" cy="58356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4000" y="3571920"/>
            <a:ext cx="7700760" cy="2952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3333cc"/>
                </a:solidFill>
                <a:latin typeface="Times New Roman"/>
              </a:rPr>
              <a:t>Abogamos no sólo por objetivos cognoscitivos, sino también de práctica social, como proceso no lineal de interacción entre el alumno y el docen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98480" y="773280"/>
            <a:ext cx="2030760" cy="7034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Times New Roman"/>
              </a:rPr>
              <a:t>Por ta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02000" y="21337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is Ezquerro</cp:lastModifiedBy>
  <dcterms:modified xsi:type="dcterms:W3CDTF">2000-01-01T05:26:53Z</dcterms:modified>
  <cp:revision>27</cp:revision>
  <dc:subject/>
  <dc:title>PowerPoint Presentation</dc:title>
</cp:coreProperties>
</file>