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D61-9A86-4205-9011-0A14A2B4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566-FA8C-4794-9E38-E46C0BB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FEA-1BFB-4E92-AEB0-B8D594A4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DA5-9820-47C1-A4B0-DC8B27A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423-417E-4FF1-BCA3-E999A4B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437-2ABF-49A3-A38E-9DBFF3F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31E-98B6-4976-843A-CF8C859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895-4BB3-480C-808E-FA7AEF1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73E-1FF6-4620-9FEC-F0B63E4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CB4-CB8A-4E62-AC24-C6F9643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681-9368-465D-9E5A-5454309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284-3064-4B3A-B2C3-C037DF3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CE9-ABEF-43E2-BAB3-FE660C0006B3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mundo</cp:lastModifiedBy>
  <dcterms:modified xsi:type="dcterms:W3CDTF">2008-04-02T02:57:47Z</dcterms:modified>
  <cp:revision>40</cp:revision>
  <dc:subject/>
  <dc:title>PowerPoint Presentation</dc:title>
</cp:coreProperties>
</file>