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51F-B1A7-4EDB-A8FB-AD4CE4D0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1FD-5D05-4FA0-9645-228BF591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D87-4718-4588-BC93-C44E41BD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96E-9D8D-47C2-91F8-A55120E7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FB1-3A38-4EE7-870D-B86FC3E2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085-CE23-4955-A7EF-1A4B694C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B7E-BD90-4694-92F9-E2FAEC0C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4EC-6A6F-45E4-9E00-38BACB04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F24-CE3E-4DED-99F9-D6CCA86A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E2F-4EA5-473A-A4D2-776E9D3A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613-7896-4493-8EB5-D5A864F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82F-FA2E-4E4A-B289-AB84C55A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8A88-E9DA-4B7C-95EE-6B8A0C3007A6}" type="slidenum"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" name="evaluacion%20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roceso de evaluación objetivo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teni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stru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la convergencia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manifiest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significa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retroa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prendizajes de los alumnos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Relaciones interpersonale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omprensión global del tem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apacidad de condensar y sintetizar.  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Habilidad para la creación de conceptos propio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articipación activa en la construcción colectiva.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6" name="construyendo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2404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5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TEMS DE LA RUBRIC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PRECIACIONES PERSONALES SOBRE LOS CONCEPTOS TRATAD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ANTIDAD DE TRABAJ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NTENID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MÁGENE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ESTIL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GANIZA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IGINALIDAD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ARTICIPACIÓN EN LOS FOR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UNTO DE VISTA, CONCIENCIA DE LA AUDIENCI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DAC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LACIÓN CON LOS CONCEPTOS CENTRALES A TRATA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QUISIT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DE LA HERRAMIENTA WEB 2.0 SELECCIONAD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GENERAL DEL BLOG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lcances del proyecto piloto: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ertinencia del proyecto pedagógic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Uso potencial de las herramientas TICs para promover el arte latinoamericano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El costo-efectividad del proyecto 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Grado de satisfacción de los beneficiarios del proyect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iabilidad y sostenibilid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" name="evalucion%203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Verdana"/>
              </a:rPr>
              <a:t>Métricas a implementa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icacia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indicadores de Technoratti para el Blog, cantidad y calidad de WQ, proyectos colaborativos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ectividad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cantidad de accesos desde la web, encuestas en el blog, enlaces a otros sitios educativo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Verdana"/>
              </a:rPr>
              <a:t>Eficiencia</a:t>
            </a:r>
            <a:r>
              <a:rPr b="0" lang="es-ES" sz="1800" spc="-1" strike="noStrike">
                <a:solidFill>
                  <a:srgbClr val="000099"/>
                </a:solidFill>
                <a:latin typeface="Verdana"/>
              </a:rPr>
              <a:t>: medición de costos y detección de externalidad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evaluacion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mundo</cp:lastModifiedBy>
  <dcterms:modified xsi:type="dcterms:W3CDTF">2008-04-02T02:57:47Z</dcterms:modified>
  <cp:revision>40</cp:revision>
  <dc:subject/>
  <dc:title>PowerPoint Presentation</dc:title>
</cp:coreProperties>
</file>