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66B-9667-4973-A3CE-7CB705D3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E79-AC9B-40C9-BF6E-BA1C949E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2C5-01A7-4312-B41D-03B57FB8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42-3CC5-4FD1-B9E0-6F4EF98F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9C8-F20D-49FC-BD0D-0EA9BFFE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F07-D325-4464-9CB6-61954C3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AD9-5C4D-4E9B-B8FB-A564D0E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637-F0FC-4DBC-967C-D2D1A4D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CC6-F8FC-40C3-8044-8580115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817-B16C-4757-90CF-B281AC3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C9B-F49A-4C2A-9BCD-C5CFCA3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E12-B602-4038-A888-01CC368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95D-9F8F-4D75-9CED-C5FE4015FF11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mundo</cp:lastModifiedBy>
  <dcterms:modified xsi:type="dcterms:W3CDTF">2008-04-02T02:57:47Z</dcterms:modified>
  <cp:revision>40</cp:revision>
  <dc:subject/>
  <dc:title>PowerPoint Presentation</dc:title>
</cp:coreProperties>
</file>