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FFF6-CB64-4816-A7F0-D7C20CFA1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A9E1-3036-41F5-87C7-A0107F2B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C8C3-74B1-4191-AA5A-3D3437DAE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C255-2A58-4AE8-AF0B-211534665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24F9-90CF-4BD1-BCF6-3839E839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FC57-7621-4E8A-8F3D-AB0AC0FA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706E-5050-4391-A8F7-56E669DE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4AC8-EE37-4F5E-A2A6-FE6E0733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AC3E-B024-43B2-92E2-94F24D85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5D83-FEF8-4335-9BA5-A362D7BA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0B5E-1358-49E2-A4F8-315E5174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710C-AB33-4761-955A-79057446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B82A-A531-491B-B2F0-52AC90D263B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slide" Target="slide13.xml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640"/>
            <a:ext cx="7772400" cy="1470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Arte latinoamericano del siglo XX: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Imágenes y contex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560" y="3789360"/>
            <a:ext cx="6584760" cy="220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iplomatura en Educación y Nuevas Tecnolog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LACSO – Argen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royecto presentado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NGLÁS, Al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DE, Marisa El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ZQUERRO, Luis Ja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ZTERENLICHT, Edmundo Gabri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545760"/>
            <a:ext cx="7773840" cy="56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Times New Roman"/>
              </a:rPr>
              <a:t>Entendemos el aprendizaje como una práctica que puede tener no sólo objetivos cognoscitivos, sino también de práctica social, como un proceso no lineal de interacción entre el alumno y el docent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or ello y siguiendo a Echevarría (2000), debemos tener en cuenta los siguientes entornos para la educ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ara el estud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ara la doc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ara la interre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ara el juego y el entreten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758880" y="1412640"/>
            <a:ext cx="7773840" cy="38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Times New Roman"/>
              </a:rPr>
              <a:t>Existen cuatro criterios para Brennan a la hora de decidir qué recursos debemos utiliz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Condiciones de la form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Recursos disponib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Características de los destinat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Características del contenido de la formación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773840" cy="5403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Ventajas del uso de TICs (Marchesi et alii, 2003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Creación de nuevos contextos de aprendizaje, información y comunic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Interactividad. 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Transformación de nociones abstractas en modelos figurativos. 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Aproximar el entorno escolar a otros entornos del alumno. 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Ampliar las relaciones de los alumnos y de los profesores con otros maestros o aprendic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3840" cy="5619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Recursos humanos: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Grupo compuesto por cuatro person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Interés personal, de cada uno de los integrantes del grupo, sobre el tema propuest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Grupo multidisciplinar que abarca diversos temas: educación, economía, ciencias políticas, arte e historia, nuevas tecnologías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Experiencia pedagógica.   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Recursos técnicos: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Conexión de Internet disponi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Herramientas de oficina: impresora, escáner, cámara digital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Conocimiento de las posibilidades que nos ofrece la denominada Web 2.0 para la elaboración de nuestro proyecto.   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Recursos estratégicos: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Conocimiento y análisis del entorno educativo y de los programas de educación propuestos por los respectivos Ministerios de Educación de tres países de Sur América: Argentina, Perú y Colombi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Creatividad en constante desarroll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Facilidad de reacción y de actuación ante los diferentes problemas que puedan suscitarse durante el desarrollo del proyecto.  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tros: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Interés por un tema novedoso entre la comunida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Posibilidad de conjugar diversas opciones en un mismo proyect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Acercamiento de los jóvenes a realidades regionales y suprarregionales a través de las nuevas tecnologí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Posibilidad de recrear el proyecto según las propias necesidades de cada grupo de estudi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El proyecto pretende incentivar no sólo el proceso de aprendizaje de los alumnos y profesores, sino también su capacidad de razonamiento crítico y de interrelación de las diferentes temáticas propuest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Este proyecto promueve las relaciones entre alumnos de toda la región y sus respectivos centros escolares, lo cual puede conducir a alianzas de diferentes tipos, v.gr. intercambios tanto de personas como de materiales educativ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La interacción en el mismo proyecto entre estudiantes de distintas regiones del mismo país pero que se mueven en diferentes contextos  y la de otros adolescentes que viven en otros países pero que pueden compartir una misma identidad latinoamericana.  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618840"/>
            <a:ext cx="7773840" cy="5546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Times New Roman"/>
              </a:rPr>
              <a:t>Recursos humanos:</a:t>
            </a: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Disponibilidad para las reuniones virtual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Diferencia horaria entre Argentina y Perú/Colombia de dos hor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Reticencia por parte de los docentes en aceptar una propuesta novedosa pero que implica mayor esfuerzo pedagógico por su parte.  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s-CO" sz="2000" spc="-1" strike="noStrike">
                <a:solidFill>
                  <a:srgbClr val="000000"/>
                </a:solidFill>
                <a:latin typeface="Times New Roman"/>
              </a:rPr>
              <a:t>ecursos técnic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Disponibilidad de acceso a las nuevas tecnologías de la inform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La enorme oferta que se puede encontrar para la elaboración de la propues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s-CO" sz="2000" spc="-1" strike="noStrike">
                <a:solidFill>
                  <a:srgbClr val="000000"/>
                </a:solidFill>
                <a:latin typeface="Times New Roman"/>
              </a:rPr>
              <a:t>ecursos estratégic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La extensión y variedad del territorio latinoamerican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La extensión de la temática a tratar requiere una selección subjetiva de los temas objeto de estud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Al existir una múltiple variedad de programas educativos deben detectarse los puntos en común que puedan interesar a todos ellos de manera individu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Posibilidad de financiación de un proyecto de esta índo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La consecución de un proyecto que sea sostenible en sí mismo partiendo de unas bases dad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Lograr una articulación en el proceso de evaluación según criterios y estándares realmente unificad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618840"/>
            <a:ext cx="7773840" cy="5546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Dur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n año académico compe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tap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Planificación y organiz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Conformación del equipo coordinad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Elaboración del plan de trabaj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Difusión del programa en los países elegidos para el mism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Firma de acuerdos con una instancia local de cada uno de los Ministerios de Educa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Selección y capacitación de escuelas piloto por paí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Selección de la escuel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Selección de los participant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Preparación de la plataforma de capacitación para maestr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Capacitación de los docentes (nivelación en el uso de las TICs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djudicación de tar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Times New Roman"/>
              </a:rPr>
              <a:t>Preparación de la plataforma de intercambio con los maestros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Creación y búsqueda de material básico por parte de los docent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Revisión de fuentes, tanto bibliográficas como </a:t>
            </a:r>
            <a:r>
              <a:rPr b="0" i="1" lang="es-CO" sz="1800" spc="-1" strike="noStrike">
                <a:solidFill>
                  <a:srgbClr val="000000"/>
                </a:solidFill>
                <a:latin typeface="Times New Roman"/>
              </a:rPr>
              <a:t>on line</a:t>
            </a: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Recopilación de todas las fuentes que serán utilizadas en un solo documento, por país, disponible para todos los integrantes de esta etap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Revisión final, en paralelo, de los recursos con los que se cuen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Validación del material didáctico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Edición y publicación en versión </a:t>
            </a:r>
            <a:r>
              <a:rPr b="0" i="1" lang="es-CO" sz="1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Times New Roman"/>
              </a:rPr>
              <a:t>Implementación de la propuesta pedagógica, tanto nacional como internacionalmen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Generación de comunidades de intercambio, dependiendo de las características particulares de cada institución, con un mínimo de coordinación entre los diferentes centros participa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Desarrollo de contenidos de arte latinoamericano con las T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Elaboración de productos colaborativ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Seguimiento y monitore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Evaluación de logros del aprendizaje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Evaluación del proyect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440" y="476280"/>
            <a:ext cx="7846920" cy="5905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Human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Dos maestros por paí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Veinte a treinta alumnos por paí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Un coordinador de escue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Un equipo coordinador (un representante por país).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Tecnológic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Equipos de comput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Quince computadores, un escáner, quince webcam, quince micrófonos, otr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Conexiones disponibles a Internet..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Bibliotecas, archivos, museos, etc.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Equipos: una cámara digital y una grabadora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Accesibilidad de los recursos: número de usuarios por equipo, horarios de utilización, disponibilidad fuera del centro educativo.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nfraestructur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na sala de cómpu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na biblioteca.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Materiales básic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Útiles de escritorio, tales como resmas de papel, tinta para impresión, et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Medios magnéticos para computadora: dos Cds, una USB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Etc.      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1699920"/>
            <a:ext cx="7772400" cy="3319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Times New Roman"/>
              </a:rPr>
              <a:t>Presupuesto (en USD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Personal: $10800 dól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Técnicos: $9640 dól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Materiales de oficina: $1565 dól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Varios: $1000 dól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Gran total: $23.005 dól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Ministerios de Educación y Cult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UNESCO –United Nations Educational, Scientific, and Cultural Organization–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Organizaciones no gubernamentales u ONG.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Fundaciones privadas –Almacenes Éxito de Colombia, Coca Cola Foundation, etc.–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Paul Getty Foundation, Smithonian Institution y otras entidades museísticas y artísticas del mu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9280" y="545760"/>
            <a:ext cx="3886200" cy="576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1" action="ppaction://hlinksldjump"/>
              </a:rPr>
              <a:t>Present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2" action="ppaction://hlinksldjump"/>
              </a:rPr>
              <a:t>Categoriz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3" action="ppaction://hlinksldjump"/>
              </a:rPr>
              <a:t>Justific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4" action="ppaction://hlinksldjump"/>
              </a:rPr>
              <a:t>Objetiv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5" action="ppaction://hlinksldjump"/>
              </a:rPr>
              <a:t>Población objetiv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6" action="ppaction://hlinksldjump"/>
              </a:rPr>
              <a:t>Fundamentación pedagógic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7" action="ppaction://hlinksldjump"/>
              </a:rPr>
              <a:t>Utilización de </a:t>
            </a: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8" action="ppaction://hlinksldjump"/>
              </a:rPr>
              <a:t>TIC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9" action="ppaction://hlinksldjump"/>
              </a:rPr>
              <a:t>Fortalez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bil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perativ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cur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resupu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inanci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lu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7240" y="1765440"/>
            <a:ext cx="7772400" cy="3319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Para que el proceso de evaluación sea los más objetivo posible, tendremos en cuen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Validez de conteni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Validez de construc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Validez de la convergen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Validez manifies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Validez de significa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Validez de retroac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4360" y="549360"/>
            <a:ext cx="7772400" cy="5689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Criterios de evaluación: 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A nivel de aprendizajes de los alumn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Manejo de las relaciones interpersonal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Comprensión global de tema objeto de estudi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Capacidad de condensar y sintetizar.  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Habilidad para el raciocinio y, por tanto, para la creación de conceptos propi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Participación activa en la construcción colectiv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A nivel de alcances del proyecto piloto en su conjun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Times New Roman"/>
              </a:rPr>
              <a:t>La pertinencia del proyecto pedagógico propuesto para abordar la temática del proyecto a través del uso de las TICs. 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El uso potencial de las herramientas TICs para promover el arte latinoamericano entre los estudiantes.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El costo-efectividad del proyecto vinculado al nivel de aprendizajes logrados por los alumnos y el impacto en desarrollo socio-cultural  e integración de los países involucrados.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Grado de satisfacción de los beneficiarios directos del proyecto piloto (alumnos, maestros, representantes de las escuelas, equipo coordinador) así como  representantes del Ministerio de Educación, Instituto Nacional de Cultura, etc.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Viabilidad y sostenibilidad del proyecto para ser replicada posteriormente.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Otr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Hipervíncu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55640" y="692280"/>
            <a:ext cx="7631280" cy="5403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s artes plásticas son una de las muestras de la producción intelectual del ser humano a lo largo de la histor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 conocimiento es importante dentro del proceso educativo de los jóvenes educandos y de su acercamiento a otras realidad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acilitar dicho conocimiento mediante las denominada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Tecnologías de Información y Comunicació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aúna a lo anterior las nuevas posibilidades técnicas, su implementación, manejo y expans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2531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0000"/>
                </a:solidFill>
                <a:latin typeface="Times New Roman"/>
              </a:rPr>
              <a:t>Proyecto colaborativo de intercambio educativo o profes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11280" y="1989000"/>
            <a:ext cx="7772400" cy="288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unque el arte está presente en los diferentes currículos académicos pretendemos estudiarlo de manera trasversal y con ayuda de las nuevas tecnologías para, así, lograr un mayor aprovechamiento del t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414160"/>
            <a:ext cx="7772400" cy="3535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Integrar a adolescentes y jóvenes estudiantes de los niveles de bachillerato o secundaria, de Latinoamérica, en un proyecto piloto que sirva para alcanzar un incremento sustancial en la calidad educativa necesaria en la sociedad del conocimiento en que nos hallamos inmersos. Todo esto mediante el acercamiento a las distintas realidades políticas, económicas y sociales de la región, vistas todas ellas a través del arte del siglo XX y por medio del trabajo en colaboración y del intercambio, apoyados estos en las denominadas TICs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Objetivos especí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Promover, tanto entre sus integrantes como entre sus respectivas comunidades, valores y comportamientos que sirvan para mejorar la calidad de vida de todos ellos. Podemos señalar, principalmente, tres: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Valores estétic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Responsabilidad. 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Respeto a la diversida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700" spc="-1" strike="noStrike">
                <a:solidFill>
                  <a:srgbClr val="000000"/>
                </a:solidFill>
                <a:latin typeface="Times New Roman"/>
              </a:rPr>
              <a:t>Revisar la situación del arte en Latinoamérica durante el siglo XX.  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700" spc="-1" strike="noStrike">
                <a:solidFill>
                  <a:srgbClr val="000000"/>
                </a:solidFill>
                <a:latin typeface="Times New Roman"/>
              </a:rPr>
              <a:t>Situar geográficamente y diferenciar las distintas tendencias, corrientes y autores que lo constituyen.  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700" spc="-1" strike="noStrike">
                <a:solidFill>
                  <a:srgbClr val="000000"/>
                </a:solidFill>
                <a:latin typeface="Times New Roman"/>
              </a:rPr>
              <a:t>Situar en el contexto global de la creación artística el arte latinoamericano del siglo XX.  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700" spc="-1" strike="noStrike">
                <a:solidFill>
                  <a:srgbClr val="000000"/>
                </a:solidFill>
                <a:latin typeface="Times New Roman"/>
              </a:rPr>
              <a:t>Reflexionar a partir del acercamiento a otras realidades de la zona, como son en los países las políticas, sociales o económicas,  entre otras. 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700" spc="-1" strike="noStrike">
                <a:solidFill>
                  <a:srgbClr val="000000"/>
                </a:solidFill>
                <a:latin typeface="Times New Roman"/>
              </a:rPr>
              <a:t>Elaborar productos colaborativos dentro de un marco de respeto y valoración por la opinión del otro y que sirvan para condensar y sintetizar las diversas manifestaciones artísticas regionales, nacionales y locales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2270160"/>
            <a:ext cx="7772400" cy="2311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Times New Roman"/>
              </a:rPr>
              <a:t>Estudiantes de uno de los últimos cursos de bachillerato o educación media de tres instituciones de Argentina, Perú y Colombia.  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uis Ezquerro</cp:lastModifiedBy>
  <dcterms:modified xsi:type="dcterms:W3CDTF">2000-01-01T06:43:29Z</dcterms:modified>
  <cp:revision>35</cp:revision>
  <dc:subject/>
  <dc:title>PowerPoint Presentation</dc:title>
</cp:coreProperties>
</file>