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437-B3AD-4A48-8B99-63B6C14C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C3A-7129-449B-B460-1FBF8912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472-255F-4D92-A5F7-E375C633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3C9-0572-4BAF-B8FD-E82683EB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25B-6521-4143-A8E1-1B4E00BE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F01-A9A1-4FE4-8961-E79C3F1F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60A-567C-4961-B00C-D011865B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78A-38DA-493D-BC5C-F9E1E0D0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D9D-135F-42B9-9763-123BE806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F62-AA2C-4E0C-A184-6F0D8BF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D7E-6EB2-4DD7-8B3A-7BA7FF35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C1E-E0BD-4542-92B1-1201EB68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47FC-B1A8-4670-BCCF-2F0E2EB0D3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rte latinoamericano del siglo XX: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Imágenes y contex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3789360"/>
            <a:ext cx="6584760" cy="220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plomatura en Educación y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ACSO –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yecto present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GLÁS, A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, Marisa E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ZQUERRO, Luis Ja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ZTERENLICHT, Edmundo Gab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73840" cy="56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ntendemos el aprendizaje como una práctica que puede tener no sólo objetivos cognoscitivos, sino también de práctica social, como un proceso no lineal de interacción entre el alumno y el doc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r ello y siguiendo a Echevarría (2000), debemos tener en cuenta los siguientes entornos para la edu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doc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la interre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el juego y el entreten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8880" y="1412640"/>
            <a:ext cx="7773840" cy="38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xisten cuatro criterios para Brennan a la hora de decidir qué recursos debemos utiliz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ondiciones de la 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Recursos dispon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 los destina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aracterísticas del contenido de la formación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384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entajas del uso de TICs (Marchesi et alii, 2003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Creación de nuevos contextos de aprendizaje, información y comun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Interactividad. 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ransformación de nociones abstractas en modelos figurativos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proximar el entorno escolar a otros entornos del alumno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Ampliar las relaciones de los alumnos y de los profesores con otros maestros o aprend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3840" cy="56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compuesto por cuatro person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ersonal, de cada uno de los integrantes del grupo, sobre el tema propues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upo multidisciplinar que abarca diversos temas: educación, economía, ciencias políticas, arte e historia, nuevas tecnologías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xperiencia pedagógica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técn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exión de Internet dispon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Herramientas de oficina: impresora, escáner, cámara digital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de las posibilidades que nos ofrece la denominada Web 2.0 para la elaboración de nuestro proyecto.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cursos estratégic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onocimiento y análisis del entorno educativo y de los programas de educación propuestos por los respectivos Ministerios de Educación de tres países de Sur América: Argentina, Perú y Colomb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reatividad en constante desarroll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Facilidad de reacción y de actuación ante los diferentes problemas que puedan suscitarse durante el desarrollo del proyecto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tros: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Interés por un tema novedoso entre la comunida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conjugar diversas opciones en un mismo proyec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cercamiento de los jóvenes a realidades regionales y suprarregionales a través de las nuevas tecnologí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Posibilidad de recrear el proyecto según las propias necesidades de cada grupo de estud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l proyecto pretende incentivar no sólo el proceso de aprendizaje de los alumnos y profesores, sino también su capacidad de razonamiento crítico y de interrelación de las diferentes temáticas propues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Este proyecto promueve las relaciones entre alumnos de toda la región y sus respectivos centros escolares, lo cual puede conducir a alianzas de diferentes tipos, v.gr. intercambios tanto de personas como de materiales educati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La interacción en el mismo proyecto entre estudiantes de distintas regiones del mismo país pero que se mueven en diferentes contextos  y la de otros adolescentes que viven en otros países pero que pueden compartir una misma identidad latinoamericana.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Recursos humanos: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para las reuniones virtu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ferencia horaria entre Argentina y Perú/Colombia de dos ho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ticencia por parte de los docentes en aceptar una propuesta novedosa pero que implica mayor esfuerzo pedagógico por su parte.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técn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isponibilidad de acceso a las nuevas tecnologías de la infor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norme oferta que se puede encontrar para la elaboración de la pro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CO" sz="2000" spc="-1" strike="noStrike">
                <a:solidFill>
                  <a:srgbClr val="000000"/>
                </a:solidFill>
                <a:latin typeface="Times New Roman"/>
              </a:rPr>
              <a:t>ecursos estratég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y variedad del territorio latinoamerica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extensión de la temática a tratar requiere una selección subjetiva de los temas objeto de estu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l existir una múltiple variedad de programas educativos deben detectarse los puntos en común que puedan interesar a todos ellos de manera individu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Posibilidad de financiación de un proyecto de esta índo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a consecución de un proyecto que sea sostenible en sí mismo partiendo de unas bases d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Lograr una articulación en el proceso de evaluación según criterios y estándares realmente unific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18840"/>
            <a:ext cx="7773840" cy="554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u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año académico comp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lanificación y organ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nformación del equipo coordin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laboración del plan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Difusión del programa en los países elegidos para el mi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Firma de acuerdos con una instancia local de cada uno de los Ministerios de Educ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elección y capacitación de escuelas piloto por paí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a escue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Selección de los particip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Preparación de la plataforma de capacitación para maes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apacitación de los docentes (nivelación en el uso de las TIC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djudicación de ta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Preparación de la plataforma de intercambio con los maestro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Creación y búsqueda de material básico por parte de los doc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de fuentes, tanto bibliográficas como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on line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copilación de todas las fuentes que serán utilizadas en un solo documento, por país, disponible para todos los integrantes de esta etap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visión final, en paralelo, de los recursos con los que se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alidación del material didáctic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dición y publicación en versión </a:t>
            </a:r>
            <a:r>
              <a:rPr b="0" i="1" lang="es-CO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Times New Roman"/>
              </a:rPr>
              <a:t>Implementación de la propuesta pedagógica, tanto nacional como internacional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eneración de comunidades de intercambio, dependiendo de las características particulares de cada institución, con un mínimo de coordinación entre los diferentes centros particip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esarrollo de contenidos de arte latinoamericano con las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aboración de productos colaborativ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Seguimiento y monitor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valuación de logros del aprendizaje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valuación del proyec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476280"/>
            <a:ext cx="7846920" cy="590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Dos maestr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einte a treinta alumnos por paí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coordinador de escue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Un equipo coordinador (un representante por país)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Tecnológ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 de comp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Quince computadores, un escáner, quince webcam, quince micrófonos,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nexiones disponibles a Internet.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Bibliotecas, archivos, museos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quipos: una cámara digital y una grabadora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Accesibilidad de los recursos: número de usuarios por equipo, horarios de utilización, disponibilidad fuera del centro educativo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fraestructu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sala de cómp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biblioteca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Materiales básic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Útiles de escritorio, tales como resmas de papel, tinta para impresión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Medios magnéticos para computadora: dos Cds, una US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tc.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resupuesto (en US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ersonal: $108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Técnicos: $964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ateriales de oficina: $1565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Varios: $1000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Gran total: $23.005 dó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Ministerios de Educación y Cul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UNESCO –United Nations Educational, Scientific, and Cultural Organization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Organizaciones no gubernamentales u ONG.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Fundaciones privadas –Almacenes Éxito de Colombia, Coca Cola Foundation, etc.–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ul Getty Foundation, Smithonian Institution y otras entidades museísticas y artísticas d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5760"/>
            <a:ext cx="3886200" cy="57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Pres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Categoriz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3" action="ppaction://hlinksldjump"/>
              </a:rPr>
              <a:t>Justific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4" action="ppaction://hlinksldjump"/>
              </a:rPr>
              <a:t>Obje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5" action="ppaction://hlinksldjump"/>
              </a:rPr>
              <a:t>Población objetiv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6" action="ppaction://hlinksldjump"/>
              </a:rPr>
              <a:t>Fundamentación pedagógi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7" action="ppaction://hlinksldjump"/>
              </a:rPr>
              <a:t>Utilización de </a:t>
            </a: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8" action="ppaction://hlinksldjump"/>
              </a:rPr>
              <a:t>TIC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800000"/>
                </a:solidFill>
                <a:uFillTx/>
                <a:latin typeface="Times New Roman"/>
                <a:hlinkClick r:id="rId9" action="ppaction://hlinksldjump"/>
              </a:rPr>
              <a:t>Fortalez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i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erativ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7240" y="1765440"/>
            <a:ext cx="7772400" cy="331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Para que el proceso de evaluación sea los más objetivo posible, tendremos en cu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ten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constru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la converg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manifi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sign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Validez de retroa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8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riterios de evaluación: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prendizajes de los alumn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Manejo de las relaciones interpersona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omprensión global de tema objeto de estud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apacidad de condensar y sintetizar.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Habilidad para el raciocinio y, por tanto, para la creación de conceptos prop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Participación activa en la construcción colectiv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 nivel de alcances del proyecto piloto en su conjun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300" spc="-1" strike="noStrike">
                <a:solidFill>
                  <a:srgbClr val="000000"/>
                </a:solidFill>
                <a:latin typeface="Times New Roman"/>
              </a:rPr>
              <a:t>La pertinencia del proyecto pedagógico propuesto para abordar la temática del proyecto a través del uso de las TICs. 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uso potencial de las herramientas TICs para promover el arte latinoamericano entre los estudiant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El costo-efectividad del proyecto vinculado al nivel de aprendizajes logrados por los alumnos y el impacto en desarrollo socio-cultural  e integración de los países involucrado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Grado de satisfacción de los beneficiarios directos del proyecto piloto (alumnos, maestros, representantes de las escuelas, equipo coordinador) así como  representantes del Ministerio de Educación, Instituto Nacional de Cultura, etc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Viabilidad y sostenibilidad del proyecto para ser replicada posteriormente.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631280" cy="540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artes plásticas son una de las muestras de la producción intelectual del ser humano a lo largo de la his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 conocimiento es importante dentro del proceso educativo de los jóvenes educandos y de su acercamiento a otras realid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acilitar dicho conocimiento mediante las denominada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ecnologías de Información y Comunic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úna a lo anterior las nuevas posibilidades técnicas, su implementación, manejo y expan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Times New Roman"/>
              </a:rPr>
              <a:t>Proyecto colaborativo de intercambio educativo o profes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777240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unque el arte está presente en los diferentes currículos académicos pretendemos estudiarlo de manera trasversal y con ayuda de las nuevas tecnologías para, así, lograr un mayor aprovechamiento del 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4160"/>
            <a:ext cx="7772400" cy="353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Integrar a adolescentes y jóvenes estudiantes de los niveles de bachillerato o secundaria, de Latinoamérica, en un proyecto piloto que sirva para alcanzar un incremento sustancial en la calidad educativa necesaria en la sociedad del conocimiento en que nos hallamos inmersos. Todo esto mediante el acercamiento a las distintas realidades políticas, económicas y sociales de la región, vistas todas ellas a través del arte del siglo XX y por medio del trabajo en colaboración y del intercambio, apoyados estos en las denominadas TIC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romover, tanto entre sus integrantes como entre sus respectivas comunidades, valores y comportamientos que sirvan para mejorar la calidad de vida de todos ellos. Podemos señalar, principalmente, tres: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Valores estéti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onsabilidad.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Respeto a la divers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visar la situación del arte en Latinoamérica durante 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geográficamente y diferenciar las distintas tendencias, corrientes y autores que lo constituyen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Situar en el contexto global de la creación artística el arte latinoamericano del siglo XX. 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Reflexionar a partir del acercamiento a otras realidades de la zona, como son en los países las políticas, sociales o económicas,  entre otras. 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Times New Roman"/>
              </a:rPr>
              <a:t>Elaborar productos colaborativos dentro de un marco de respeto y valoración por la opinión del otro y que sirvan para condensar y sintetizar las diversas manifestaciones artísticas regionales, nacionales y local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70160"/>
            <a:ext cx="7772400" cy="2311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Estudiantes de uno de los últimos cursos de bachillerato o educación media de tres instituciones de Argentina, Perú y Colombia.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7596360" y="6237360"/>
            <a:ext cx="504720" cy="341280"/>
          </a:xfrm>
          <a:prstGeom prst="leftArrow">
            <a:avLst>
              <a:gd name="adj1" fmla="val 50000"/>
              <a:gd name="adj2" fmla="val 369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6:43:29Z</dcterms:modified>
  <cp:revision>35</cp:revision>
  <dc:subject/>
  <dc:title>PowerPoint Presentation</dc:title>
</cp:coreProperties>
</file>