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40EA-A8A0-4120-B8A5-6E6897ED0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47C2-947C-4A88-B419-0F98253A7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3463-04A8-44C1-BDE2-DA7E36E2C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9D85-3BE4-4D34-8367-DED51066C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5460-4D24-4A10-83E3-AD2137A6E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8796-2523-46FC-BF9E-22DECB958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2411-8337-4FA3-B192-89498148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DA07-212D-4DE0-81F5-0A798C950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11B7-2C35-4007-8AB9-A8764837F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5D07-3755-48BA-8816-D2E58590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4DD7-BE73-4D64-B5CF-83912A2F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A8E8-7F37-42DF-A00B-EB7E9166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F1BE6-EAD1-4499-9BA5-A56B4BB3599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79640" y="1773360"/>
            <a:ext cx="518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Arial"/>
              </a:rPr>
              <a:t>Comunitat virtua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Arial"/>
              </a:rPr>
              <a:t>del PDI d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Arial"/>
              </a:rPr>
              <a:t>Pedagogia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309000" y="4724280"/>
            <a:ext cx="237384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Integrants de gru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Cristina Bacigalu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Juana Maria Gelab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Tomeu Se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408560" y="63504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84320" y="404640"/>
            <a:ext cx="515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 u="sng">
                <a:solidFill>
                  <a:srgbClr val="000000"/>
                </a:solidFill>
                <a:uFillTx/>
                <a:latin typeface="Arial"/>
              </a:rPr>
              <a:t>Definició de comunitat virt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1773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93040" y="1149840"/>
            <a:ext cx="67384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- És un entorn Web on s’agrupen persones per compartir valor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llenguatge, experiències i un propòsit comú mitjanç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la comunicació a través d’una red telemàtica.</a:t>
            </a: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El concepte està format per dos termes: Comunitat i Vir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* Coneixement compart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* Dinami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* Propòsit comú o una visió compart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* Utilització d’un llenguatge com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* Evoluc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- Tipu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* De disc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* De pràc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* De construcció de coneix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* De aprenentat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01760" y="475560"/>
            <a:ext cx="837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 u="sng">
                <a:solidFill>
                  <a:srgbClr val="000000"/>
                </a:solidFill>
                <a:uFillTx/>
                <a:latin typeface="Arial"/>
              </a:rPr>
              <a:t>Origen de les comunitats virtuals de professors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9200" y="1845720"/>
            <a:ext cx="8270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Per aconseguir la</a:t>
            </a:r>
            <a:r>
              <a:rPr b="0" lang="ca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implicació del professorat es necessari que tengu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coneixements de l’ensenyança de la informàtica a més de coneix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de la mateixa i de la pràctica de la instrucció (Gallego 1994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La Asociación Internacional para la Tecnología de la Educación, IST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recomana una sèrie d’habilitats, capacitats i nocions fonamentals del professor.</a:t>
            </a: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702520" y="2133720"/>
            <a:ext cx="3786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000000"/>
                </a:solidFill>
                <a:latin typeface="Arial"/>
              </a:rPr>
              <a:t>Experiènci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000000"/>
                </a:solidFill>
                <a:latin typeface="Arial"/>
              </a:rPr>
              <a:t>rellev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80840" y="1076400"/>
            <a:ext cx="774000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000000"/>
                </a:solidFill>
                <a:uFillTx/>
                <a:latin typeface="Arial"/>
              </a:rPr>
              <a:t>1.- Institucionalització del suport al professorat 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000000"/>
                </a:solidFill>
                <a:uFillTx/>
                <a:latin typeface="Arial"/>
              </a:rPr>
              <a:t>l’ús de tecnologia a La University of Central Flor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000000"/>
                </a:solidFill>
                <a:uFillTx/>
                <a:latin typeface="Arial"/>
              </a:rPr>
              <a:t>2.- Virginia T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802240" y="2178000"/>
            <a:ext cx="3815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000000"/>
                </a:solidFill>
                <a:latin typeface="Arial"/>
              </a:rPr>
              <a:t>Planteja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000000"/>
                </a:solidFill>
                <a:latin typeface="Arial"/>
              </a:rPr>
              <a:t>ini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38800" y="3430080"/>
            <a:ext cx="607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El personal docent implicats en els estudis de Pedagogi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a més de personal docent d’altres universita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95240" y="1125360"/>
            <a:ext cx="221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 u="sng">
                <a:solidFill>
                  <a:srgbClr val="000000"/>
                </a:solidFill>
                <a:uFillTx/>
                <a:latin typeface="Arial"/>
              </a:rPr>
              <a:t>Destinata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053080" y="907920"/>
            <a:ext cx="573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 u="sng">
                <a:solidFill>
                  <a:srgbClr val="000000"/>
                </a:solidFill>
                <a:uFillTx/>
                <a:latin typeface="Arial"/>
              </a:rPr>
              <a:t>Idea prèvia i visió de la institu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07600" y="1989000"/>
            <a:ext cx="3531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Caràcter obligat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Funció de distribució de tas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Coordinació de tem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Eina d’investigació i innovac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Gestió de caràcter tan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309680" y="692280"/>
            <a:ext cx="666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 u="sng">
                <a:solidFill>
                  <a:srgbClr val="000000"/>
                </a:solidFill>
                <a:uFillTx/>
                <a:latin typeface="Arial"/>
              </a:rPr>
              <a:t>Descripció de la situació problemà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 u="sng">
                <a:solidFill>
                  <a:srgbClr val="000000"/>
                </a:solidFill>
                <a:uFillTx/>
                <a:latin typeface="Arial"/>
              </a:rPr>
              <a:t>i naturalesa del projec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09760" y="1989000"/>
            <a:ext cx="507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Manca de col·laboració entre professor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Repetició de contingu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Manca de possibilitat d’ampliació de contingu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Deshumanització de la tasca doc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(professor-alumne; professor-professo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267080" y="804960"/>
            <a:ext cx="18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 u="sng">
                <a:solidFill>
                  <a:srgbClr val="000000"/>
                </a:solidFill>
                <a:uFillTx/>
                <a:latin typeface="Arial"/>
              </a:rPr>
              <a:t>Objecti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72920" y="20080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47640" y="182232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Potenciar la col·laboració entre professor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Evitar la repetició de conting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Facilitar l’ampliació de temar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Millorar les relacions interpersonals i interprofessio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482120" y="2493000"/>
            <a:ext cx="6243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Dos anys experimentals i si te acceptació passarà a s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de caràcter indefin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Aquesta etapa experimental estarà forma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*  Un primer any de pressa de contacte i mill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*  Un segon any per consolidar la comunitat virtu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79840" y="928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11240" y="836640"/>
            <a:ext cx="150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 u="sng">
                <a:solidFill>
                  <a:srgbClr val="000000"/>
                </a:solidFill>
                <a:uFillTx/>
                <a:latin typeface="Arial"/>
              </a:rPr>
              <a:t>Dura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555920" y="2637000"/>
            <a:ext cx="6403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Des de una iniciativa pròpia d’un grup de professo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interessats en la coordinació pedagògica interdepartamenta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per tant, estarà gestionat per un grup de 5-6 professo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de diferents departaments de la carrera de pedagog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414880" y="907920"/>
            <a:ext cx="431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 u="sng">
                <a:solidFill>
                  <a:srgbClr val="000000"/>
                </a:solidFill>
                <a:uFillTx/>
                <a:latin typeface="Arial"/>
              </a:rPr>
              <a:t>Gestió i responsabilit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637080" y="2133720"/>
            <a:ext cx="1858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000000"/>
                </a:solidFill>
                <a:latin typeface="Arial"/>
              </a:rPr>
              <a:t>Mar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000000"/>
                </a:solidFill>
                <a:latin typeface="Arial"/>
              </a:rPr>
              <a:t>Teòr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6:36:37Z</dcterms:created>
  <dc:creator>Juana</dc:creator>
  <dc:description/>
  <dc:language>en-US</dc:language>
  <cp:lastModifiedBy>Cristina</cp:lastModifiedBy>
  <dcterms:modified xsi:type="dcterms:W3CDTF">2007-11-21T17:46:45Z</dcterms:modified>
  <cp:revision>18</cp:revision>
  <dc:subject/>
  <dc:title>Diapositiva 1</dc:title>
</cp:coreProperties>
</file>