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72F-3FDF-4384-96BD-4ADCEF46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541-D2F7-416C-A49D-67F65D4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FB6-391E-4E89-ABEC-3094C3C1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90C-57A9-4518-A86B-B9BFEE09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943-F0E7-4DDC-BD50-BDE054A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30B-59C3-4E00-9D04-BA606EC7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18C-ED84-4FDA-BCB5-1290CC1F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8B5-DE6F-4876-964C-5E9B05C8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F41-0768-477B-A46C-0B842E3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CF2-4343-490B-8570-31699AC8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71B-76AE-47C2-9D56-8AE563C8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B84-1DA0-47B6-BF0D-050078D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8113-0E52-4203-A34C-842AFDECD7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73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munitat vir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del PDI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edagogi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9000" y="4724280"/>
            <a:ext cx="23738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grants de gr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ristina Bacigal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Juana Maria Gela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omeu S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08560" y="63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4320" y="40464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finició de comunitat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040" y="1149840"/>
            <a:ext cx="67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És un entorn Web on s’agrupen persones per compartir val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tge, experiències i un propòsit comú mitjanç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comunicació a través d’una red telemàtica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concepte està format per dos termes: Comunitat i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Coneixement compar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inam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Propòsit comú o una visió com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Utilització d’un llenguatge co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Evolu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dis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prà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construcció de coneix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aprenent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1760" y="475560"/>
            <a:ext cx="83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rigen de les comunitats virtuals de professor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200" y="1845720"/>
            <a:ext cx="82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aconseguir la</a:t>
            </a:r>
            <a:r>
              <a:rPr b="0" lang="ca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mplicació del professorat es necessari que teng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ments de l’ensenyança de la informàtica a més de coneix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la mateixa i de la pràctica de la instrucció (Gallego 199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Asociación Internacional para la Tecnología de la Educación, 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comana una sèrie d’habilitats, capacitats i nocions fonamentals del professor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2520" y="213372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Experièn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relle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0840" y="1076400"/>
            <a:ext cx="774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1.- Institucionalització del suport al professorat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l’ús de tecnologia a La University of Central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2.- Virgin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2240" y="2178000"/>
            <a:ext cx="381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Planteja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800" y="3430080"/>
            <a:ext cx="60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personal docent implicats en els estudis de Pedago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més de personal docent d’altres univer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5240" y="11253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tinat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3080" y="90792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dea prèvia i visió de la institu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7600" y="1989000"/>
            <a:ext cx="353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ràcter oblig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unció de distribució de ta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ordinació de te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ina d’investigació i innova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estió de caràcter ta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9680" y="692280"/>
            <a:ext cx="66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cripció de la situació problemà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 naturalesa del proj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9760" y="1989000"/>
            <a:ext cx="50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peti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possibilitat d’amplia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humanització de la tasca do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(professor-alumne; professor-profes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67080" y="8049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bject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292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8223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tenciar la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vitar la repetició de conting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acilitar l’ampliació de tem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illorar les relacions interpersonals i inter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82120" y="249300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os anys experimentals i si te acceptació passarà a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caràcter indefi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questa etapa experimental estarà form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primer any de pressa de contacte i mil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segon any per consolidar la comunitat vir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9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1240" y="836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ur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55920" y="2637000"/>
            <a:ext cx="640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 de una iniciativa pròpia d’un grup de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ressats en la coordinació pedagògica interdepartamen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tant, estarà gestionat per un grup de 5-6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diferents departaments de la carrera de pedag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4880" y="90792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Gestió i responsabil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7080" y="2133720"/>
            <a:ext cx="185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Teò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36:37Z</dcterms:created>
  <dc:creator>Juana</dc:creator>
  <dc:description/>
  <dc:language>en-US</dc:language>
  <cp:lastModifiedBy>Cristina</cp:lastModifiedBy>
  <dcterms:modified xsi:type="dcterms:W3CDTF">2007-11-21T17:46:45Z</dcterms:modified>
  <cp:revision>18</cp:revision>
  <dc:subject/>
  <dc:title>Diapositiva 1</dc:title>
</cp:coreProperties>
</file>