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E02-97BE-46D3-970D-355E668C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E58-E915-4E26-A85B-482C2FC5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448-29D6-435D-9F7E-988D39F7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609-E99E-47DF-9A38-898C02A5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14777-F639-432B-97D3-403EE598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3069E-DA76-4A72-B296-7D6867C5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720AA-F7F7-49DE-B4C6-DC74C641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2CE5F-2A0B-45EC-A0C8-6F533DD8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B805E-D3D5-42C8-A211-BA368281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25EB5-AB68-4DCE-9C2E-45A250EC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4FEF1-1C76-4CDB-B251-0BC8321C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2D1-13F5-4220-9056-A6339CE9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DEE49-EBC6-4F3E-81D7-2CE398F0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F4B54-D011-4E30-8A5F-B95EF480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C1185-5B5E-4D32-AB45-7B9C94C6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D82C1-6820-4991-8538-74009D30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A9CE3-8F44-42AD-A20A-21FDB2CA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98C-4E97-4D16-8DDD-F1563D33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210-C180-459D-AB24-4F497351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67F-F33D-4352-AF48-D1E1A147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8FD-1B61-41EB-BB5D-C34F6702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5C2-9342-46DE-A7F9-6A81134F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7A1-84E7-4381-A406-DCE2DDB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679-D0D8-40EE-966C-D0803020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6C3A-3347-4C54-B5DC-D5AE67C708B9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2FA6-B8EA-49CF-98E9-E365E78CEDB6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im_eneo" descr=""/>
          <p:cNvPicPr/>
          <p:nvPr/>
        </p:nvPicPr>
        <p:blipFill>
          <a:blip r:embed="rId3"/>
          <a:stretch/>
        </p:blipFill>
        <p:spPr>
          <a:xfrm>
            <a:off x="7596360" y="6206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691200"/>
            <a:ext cx="564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UNIVERSIDAD NACIONAL AUTONOMA DE MÉX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1051920"/>
            <a:ext cx="51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ahoma"/>
              </a:rPr>
              <a:t>ESCUELA NACIONAL DE ENFERMERÍA Y OBSTETRICI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8200" y="2421000"/>
            <a:ext cx="47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SEMINARIO: TEORIAS Y MODELOS DE ENFERME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4221000"/>
            <a:ext cx="5040360" cy="503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213000"/>
            <a:ext cx="3240000" cy="432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93760" y="3213000"/>
            <a:ext cx="18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Tahoma"/>
              </a:rPr>
              <a:t>IMOGENE KING: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29264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i="1" lang="es-MX" sz="1600" spc="-1" strike="noStrike">
                <a:solidFill>
                  <a:srgbClr val="ffff00"/>
                </a:solidFill>
                <a:latin typeface="Tahoma"/>
              </a:rPr>
              <a:t>TEORIA DE CONSECUCION DE OBJETIV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30680" y="5273640"/>
            <a:ext cx="30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ffff"/>
                </a:solidFill>
                <a:latin typeface="Times New Roman"/>
              </a:rPr>
              <a:t>ALUMNA: Ruth Cabrera Martínez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25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ANTECEDENTES PERSONALES </a:t>
            </a:r>
            <a:br>
              <a:rPr sz="2000"/>
            </a:b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IMOGENE 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45   Imogene King se diplomó en Enfermería en el St. John´s Hospital School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of the Nursing en St. Loui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48   Obtuvo su BS  de educación en Enfermerí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57   Obtuvo  su MS en Enfermería por la St. Louis Un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61   Obtuvo en Doctorado en Educación en el Teachers College, en l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Universidad de Columbia, en la Cd. de Nueva York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Ha ocupado puestos como docente, coordinadora y enfermer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Comenzó a elaborar su teoría mientras era profesora asociada de Enfermería en la Universidad de Loyola, Chicago, donde desarrollo un Master en Enfermería utilizando un Marco Conceptu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71   Publicó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Toward a Theory For Nursing :  General Concepts of Huma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Behavior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, donde postula más que una teoría un Marco Conceptual para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 Enfermerí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1981   Perfeccionó sus ideas en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A Theory for Nursing : Systems, Concepts, Ana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Process 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a)</a:t>
            </a: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Propone un marco de sistemas abiertos como base para su teoría del logro de met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b)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Unió los conceptos esenciales para comprender la Enfermería como un Sistema Principal dentro de un Sistema de Salu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ffff"/>
                </a:solidFill>
                <a:latin typeface="Arial"/>
              </a:rPr>
              <a:t>c)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Su visión del Proceso de Enfermería hace hincapié en los procesos interpersonal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476280"/>
            <a:ext cx="5400720" cy="719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24720" y="33336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 filosofía de King se basa en el supuesto de que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“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 l centro de la enfermería es la interacción de los seres humanos con su entorno, la cual conduce a los individuos a un estado de salud, que les hace capaces de funcionar dentro de su rol social“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l Marco Conceptual de los Sistemas Abiertos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“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s una referencia para identificar y analizar los hechos propios de la situación de Enfermería”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King  basa su Teoría de Consecución de Objetivos en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 Teoría General de Sistem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Las Ciencias de la Conducta 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l Razonamiento deductivo e inductiv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Destaca para la elaboración de su Teoría la influencia de Peplau, Orlando Paterson  y Zderad, Yura y Walsh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11280" y="404280"/>
            <a:ext cx="4608720" cy="505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FUENTES TEOR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King  recopiló los datos empíricos d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” </a:t>
            </a:r>
            <a:r>
              <a:rPr b="1" lang="es-MX" sz="1400" spc="-1" strike="noStrike" u="sng">
                <a:solidFill>
                  <a:srgbClr val="00ffff"/>
                </a:solidFill>
                <a:uFillTx/>
                <a:latin typeface="Arial"/>
              </a:rPr>
              <a:t>El Proceso de Interacción entre Paciente y Enfermera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”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que conducen a la consecución de objetiv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ff"/>
                </a:solidFill>
                <a:latin typeface="Arial"/>
              </a:rPr>
              <a:t>CONCEPTOS</a:t>
            </a: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: King los entendía  como “ Ideas Abstractas”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Función:            - Dotar de significado a nuestras percepciones sensori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- Establecer generalizaciones almacenadas en la memoria para se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recordadas y aplicadas posteriormente en situaciones nuevas 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diferent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ff"/>
                </a:solidFill>
                <a:latin typeface="Arial"/>
              </a:rPr>
              <a:t>TEORÍA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:            “Conjunto de conceptos que se definen como interrelacionados 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                  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observables” dentro del mundo del ejercicio de la enfermerí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Función:          - Construir el Conocimiento Científico de esta disciplin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-46944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King señaló dos Métodos para desarrollar una Teoría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04600" indent="-40212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Plantearse la Teoría y contrastarla con la investig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04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b)      La  Investigación es la que proporciona los Datos a a partir de los cuales se desarrolla  el  Cuerpo Teóric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69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195640" y="475920"/>
            <a:ext cx="489744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APLICACIÓN DE DATOS EMPI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ORÍA DEL LOGRO DE M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404640"/>
            <a:ext cx="489744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1628640"/>
            <a:ext cx="5832360" cy="3888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8880" y="1853280"/>
            <a:ext cx="776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ransac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ercepción                                                                      Percep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cuerdo de                       Act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Me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fermer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ac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xploración                      Alt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 medi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municación                Determinación             Comun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 metas mutu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1557360"/>
            <a:ext cx="5832360" cy="4032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184464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563920"/>
            <a:ext cx="0" cy="649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3716280"/>
            <a:ext cx="0" cy="649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494028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80360" y="191628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486900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2565360"/>
            <a:ext cx="0" cy="649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67640" y="3860640"/>
            <a:ext cx="0" cy="649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2708280"/>
            <a:ext cx="360360" cy="360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32000" y="4363560"/>
            <a:ext cx="432000" cy="289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3429000"/>
            <a:ext cx="576360" cy="1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75640" y="3429000"/>
            <a:ext cx="576000" cy="1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803640" y="2494080"/>
            <a:ext cx="576360" cy="3585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876720" y="3933720"/>
            <a:ext cx="431640" cy="503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sta Teorìa representa una expansiòn de las ideas originales de King para incorporar el Concepto de Enfermerìa y el Paciente intercambiando informaciòn, estableciendo Metas y ACTUANDO Conjuntamente para alcanzar esas Meta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Describe una situaciòn en que dos personas desconocidas se encuentran en una Organizaciòn Sanitaria  para  Ayudar o ser Ayudado y Mantener su estado de Salu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Se basa en Conceptos de Sistemas personales e Interpersonales, entre ellos 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Interac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Percep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Comunica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Rol de Transacciò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Estrè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Crecimient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ffff"/>
                </a:solidFill>
                <a:latin typeface="Arial"/>
              </a:rPr>
              <a:t>Tiempo y espac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195640" y="404280"/>
            <a:ext cx="496872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ORÍA DEL LOGRO DE M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PRINCIPALES CONCEPTOS Y DEFINI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La teoría de King visualiza los siguientes conceptos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PERSONA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Ser social, emocional y racional con propósito, orientado hacia la acción y en el tiempo. Participa activamente en las decisiones que afectan su vida y la salud. Utiliza el aspecto ambiental desde una perspectiva de sistema abierto en interacciòn constante con su Entorno y que consta de tres sistemas que interactùan: Personal, Interpersonal y Social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ENFERMEDAD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Se considera como una interferencia en el continuo del ciclo de vida; por lo tanto incluye ajustes personales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ENFERMERÍA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El l propósito principal que plantea su teoría es el de ayudar al individuo a mantener su salud y actuar de acuerdo con el rol adecuado. "Se considera como un proceso interpersonal de acción, reacción, interacción y transacción; las percepciones de la enfermera y las del cliente influyen en la interacción"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876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ENTORNO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Sistema abierto con lìmites permeables que permiten el intercambio de materia, energìa e informaciò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SALUD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s un estadìo dinàmico del ciclo de la vi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Por lo  tanto este Modelo c onsidera a la  Enfermería como la Disciplina que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Planifica, Aplica y Evalúa los cuidados enfermeros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ffff00"/>
                </a:solidFill>
                <a:latin typeface="Arial"/>
              </a:rPr>
              <a:t>Aporta Conocimiento y Habilidades para el Proceso de Atención de Enfermería.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28600"/>
            <a:ext cx="5715000" cy="609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600200"/>
            <a:ext cx="73152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La Teorìa planteada por Imogene King de  la Consecuciòn de Objetivos y su Marco Sistèmico a nuestro parecer es uno de los modelos  màs completos que pueden sustentar la Practica de Enfermerìa dados los amplios conceptos que considera basados  fundamentalmente en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El interès central de la Enfermerìa es el ser humano, en interacciòn con su entorno, lo cque conduce a las personas a un Estado de Salud entendido como la Capacidad para desempeñar un Rol social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Este Modelo considera a la  Enfermería como la Disciplina que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- Planifica, Aplica y Evalúa los cuidados enfermer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-  Aporta Conocimientos y Habilidades para el Proceso de Atención de Enfermería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aplicado a un Individuo visto desde tres dimensiones Personal,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Interpersonal y Social en continua interacciòn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Por lo anterior consideramos a esta Teorìa como un Modelo Factible de Aplicar a las necesidades y Circuntancias que plantea la Practica de Enfermerìa Actualmente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549360"/>
            <a:ext cx="4897440" cy="576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404640"/>
            <a:ext cx="4968720" cy="576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CONCLUSIÓ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La teoría de King visualiza los siguientes concepto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PERSONA: Ser social, emocional y racional con propósito, orientado hacia la acción y en el tiempo. Participa activamente en las decisiones que afectan su vida y la salud. Utiliza el aspecto ambiental desde una perspectiva de sistema abierto en interacciòn constante con su Entorno y que consta de tres sistemas que interactùan: Personal, Interpersonal y Soci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ENFERMERÍA: El propósito principal que plantea su teoría es el de ayudar al individuo a mantener su salud y actuar de acuerdo con el rol adecuado. "Se considera como un proceso interpersonal de acción, reacción, interacción y transacción; las percepciones de la enfermera y las del cliente influyen en la interacción"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SALUD: Es un estadìo dinàmico del ciclo de la vi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implica continuos ajustes al estrès en los ambientres interno y esterno, utilizando los medios personales para conseguir una vida cotidiana òptim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89"/>
              </a:spcBef>
              <a:buClr>
                <a:srgbClr val="00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ENFERMEDAD: </a:t>
            </a:r>
            <a:r>
              <a:rPr b="1" lang="es-MX" sz="1300" spc="-1" strike="noStrike">
                <a:solidFill>
                  <a:srgbClr val="000099"/>
                </a:solidFill>
                <a:latin typeface="Arial"/>
              </a:rPr>
              <a:t>Se considera como una interferencia en el continuo del ciclo de vida; por lo tanto incluye ajustes personales</a:t>
            </a:r>
            <a:r>
              <a:rPr b="1" lang="es-MX" sz="1100" spc="-1" strike="noStrike">
                <a:solidFill>
                  <a:srgbClr val="000099"/>
                </a:solidFill>
                <a:latin typeface="Arial"/>
              </a:rPr>
              <a:t>.</a:t>
            </a:r>
            <a:br>
              <a:rPr sz="1100"/>
            </a:br>
            <a:r>
              <a:rPr b="1" lang="es-MX" sz="1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ENTORNO: sistema abierto con lìmites permeables que permiten el intercambio de materia, energìa e informaciò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981080" y="291600"/>
            <a:ext cx="4267440" cy="6224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              </a:t>
            </a: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CONCLUSIÓ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th Cabrera Martinez</cp:lastModifiedBy>
  <dcterms:modified xsi:type="dcterms:W3CDTF">2004-06-17T00:59:04Z</dcterms:modified>
  <cp:revision>47</cp:revision>
  <dc:subject/>
  <dc:title>PowerPoint Presentation</dc:title>
</cp:coreProperties>
</file>