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CE4-C70D-4A9A-BC0B-626FC3BC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FE4-224E-42FC-920F-1E7BA1CA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DCD-EB68-4DE7-A416-35C9F675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F20-68C6-41D9-83E9-67288F9D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38E9E-E795-440D-94AD-BB5BE15F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3A1B4-511A-4D6C-B56C-9C91EC0C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D1C0B-4995-4244-843C-85620784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9A24E-5644-46E6-BC1B-2D3619EC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706DB-6154-434A-9375-7B8A8C10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542B9-15C3-442C-B492-5CF2AC2C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CCF17-E952-4257-80B7-00016F41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DD1-4CD2-432B-A11D-C754F344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4687A-33E3-4546-B104-58703CAE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B8BB3-D0A9-4422-9B08-290042A4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DCEA3-D3E0-4C6A-B018-3662A5A7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2A709-B4CD-4E8E-A9C5-EF4B8847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27057-2D09-49AE-8BC0-3948A45B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225-7434-48A2-93B8-40CAF7A6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586-19A9-4A2B-8E9B-9F63B025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44E-D787-4A3C-9B41-90ED7F4E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E3D-F86B-4F3C-9A15-66835092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6DA-C51A-4512-864C-F3883206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8AB-85F9-491E-AA8B-4170AAEE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2E6-9033-4E35-91CF-F1C300D6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F57C-287D-489A-A64C-BE8677AE2B83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12E5-6DBC-4E47-8A27-EC2882F22A56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im_eneo" descr=""/>
          <p:cNvPicPr/>
          <p:nvPr/>
        </p:nvPicPr>
        <p:blipFill>
          <a:blip r:embed="rId3"/>
          <a:stretch/>
        </p:blipFill>
        <p:spPr>
          <a:xfrm>
            <a:off x="7596360" y="6206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691200"/>
            <a:ext cx="564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UNIVERSIDAD NACIONAL AUTONOMA DE MÉX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1051920"/>
            <a:ext cx="51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Tahoma"/>
              </a:rPr>
              <a:t>ESCUELA NACIONAL DE ENFERMERÍA Y OBSTETRICI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8200" y="2421000"/>
            <a:ext cx="47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SEMINARIO: TEORIAS Y MODELOS DE ENFERME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4221000"/>
            <a:ext cx="5040360" cy="5032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213000"/>
            <a:ext cx="3240000" cy="432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93760" y="3213000"/>
            <a:ext cx="18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Tahoma"/>
              </a:rPr>
              <a:t>IMOGENE KING: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429264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i="1" lang="es-MX" sz="1600" spc="-1" strike="noStrike">
                <a:solidFill>
                  <a:srgbClr val="ffff00"/>
                </a:solidFill>
                <a:latin typeface="Tahoma"/>
              </a:rPr>
              <a:t>TEORIA DE CONSECUCION DE OBJETIV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30680" y="5273640"/>
            <a:ext cx="30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ffff"/>
                </a:solidFill>
                <a:latin typeface="Times New Roman"/>
              </a:rPr>
              <a:t>ALUMNA: Ruth Cabrera Martínez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25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ANTECEDENTES PERSONALES </a:t>
            </a:r>
            <a:br>
              <a:rPr sz="2000"/>
            </a:b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IMOGENE 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45   Imogene King se diplomó en Enfermería en el St. John´s Hospital School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of the Nursing en St. Loui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48   Obtuvo su BS  de educación en Enfermerí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57   Obtuvo  su MS en Enfermería por la St. Louis Univers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61   Obtuvo en Doctorado en Educación en el Teachers College, en l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Universidad de Columbia, en la Cd. de Nueva York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Ha ocupado puestos como docente, coordinadora y enfermer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Comenzó a elaborar su teoría mientras era profesora asociada de Enfermería en la Universidad de Loyola, Chicago, donde desarrollo un Master en Enfermería utilizando un Marco Conceptu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71   Publicó 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Toward a Theory For Nursing :  General Concepts of Huma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Behavior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, donde postula más que una teoría un Marco Conceptual para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la Enfermerí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81   Perfeccionó sus ideas en 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A Theory for Nursing : Systems, Concepts, Ana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Process 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a)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Propone un marco de sistemas abiertos como base para su teoría del logro de met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b)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Unió los conceptos esenciales para comprender la Enfermería como un Sistema Principal dentro de un Sistema de Salu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c)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Su visión del Proceso de Enfermería hace hincapié en los procesos interpersonal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476280"/>
            <a:ext cx="5400720" cy="7192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24720" y="333360"/>
            <a:ext cx="1224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La filosofía de King se basa en el supuesto de que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“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 l centro de la enfermería es la interacción de los seres humanos con su entorno, la cual conduce a los individuos a un estado de salud, que les hace capaces de funcionar dentro de su rol social“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l Marco Conceptual de los Sistemas Abiertos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“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s una referencia para identificar y analizar los hechos propios de la situación de Enfermería”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King  basa su Teoría de Consecución de Objetivos en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La Teoría General de Sistem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Las Ciencias de la Conducta 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l Razonamiento deductivo e inductiv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Destaca para la elaboración de su Teoría la influencia de Peplau, Orlando Paterson  y Zderad, Yura y Walsh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11280" y="404280"/>
            <a:ext cx="4608720" cy="505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FUENTES TEOR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King  recopiló los datos empíricos d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” </a:t>
            </a:r>
            <a:r>
              <a:rPr b="1" lang="es-MX" sz="1400" spc="-1" strike="noStrike" u="sng">
                <a:solidFill>
                  <a:srgbClr val="00ffff"/>
                </a:solidFill>
                <a:uFillTx/>
                <a:latin typeface="Arial"/>
              </a:rPr>
              <a:t>El Proceso de Interacción entre Paciente y Enfermera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”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que conducen a la consecución de objetivo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-4694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ff"/>
                </a:solidFill>
                <a:latin typeface="Arial"/>
              </a:rPr>
              <a:t>CONCEPTOS</a:t>
            </a: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: King los entendía  como “ Ideas Abstractas”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Función:            - Dotar de significado a nuestras percepciones sensoria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- Establecer generalizaciones almacenadas en la memoria para ser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recordadas y aplicadas posteriormente en situaciones nuevas 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diferent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-4694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ff"/>
                </a:solidFill>
                <a:latin typeface="Arial"/>
              </a:rPr>
              <a:t>TEORÍA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:            “Conjunto de conceptos que se definen como interrelacionados 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observables” dentro del mundo del ejercicio de la enfermerí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Función:          - Construir el Conocimiento Científico de esta disciplin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-4694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King señaló dos Métodos para desarrollar una Teoría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804600" indent="-40212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Plantearse la Teoría y contrastarla con la investig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804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b)      La  Investigación es la que proporciona los Datos a a partir de los cuales se desarrolla  el  Cuerpo Teóric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195640" y="475920"/>
            <a:ext cx="4897440" cy="576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APLICACIÓN DE DATOS EMPI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ORÍA DEL LOGRO DE M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404640"/>
            <a:ext cx="4897440" cy="576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1628640"/>
            <a:ext cx="5832360" cy="3888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8880" y="1853280"/>
            <a:ext cx="776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ransac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ercepción                                                                      Percep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cuerdo de                       Act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Med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fermera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eac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xploración                      Alt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 medi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municación                Determinación             Comun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 metas mutu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1557360"/>
            <a:ext cx="5832360" cy="4032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1844640"/>
            <a:ext cx="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563920"/>
            <a:ext cx="0" cy="649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3716280"/>
            <a:ext cx="0" cy="649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4940280"/>
            <a:ext cx="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80360" y="1916280"/>
            <a:ext cx="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4869000"/>
            <a:ext cx="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67640" y="2565360"/>
            <a:ext cx="0" cy="649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67640" y="3860640"/>
            <a:ext cx="0" cy="649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2708280"/>
            <a:ext cx="36036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132000" y="4363560"/>
            <a:ext cx="432000" cy="289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3429000"/>
            <a:ext cx="576360" cy="1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75640" y="3429000"/>
            <a:ext cx="576000" cy="1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803640" y="2494080"/>
            <a:ext cx="576360" cy="3585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876720" y="3933720"/>
            <a:ext cx="431640" cy="503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sta Teorìa representa una expansiòn de las ideas originales de King para incorporar el Concepto de Enfermerìa y el Paciente intercambiando informaciòn, estableciendo Metas y ACTUANDO Conjuntamente para alcanzar esas Meta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Describe una situaciòn en que dos personas desconocidas se encuentran en una Organizaciòn Sanitaria  para  Ayudar o ser Ayudado y Mantener su estado de Salu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Se basa en Conceptos de Sistemas personales e Interpersonales, entre ellos 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Interacciò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Percepciò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Comunicaciò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Rol de Transacciò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strè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Crecimient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Tiempo y espac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195640" y="404280"/>
            <a:ext cx="4968720" cy="576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ORÍA DEL LOGRO DE M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PRINCIPALES CONCEPTOS Y DEFINI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La teoría de King visualiza los siguientes conceptos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PERSONA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Ser social, emocional y racional con propósito, orientado hacia la acción y en el tiempo. Participa activamente en las decisiones que afectan su vida y la salud. Utiliza el aspecto ambiental desde una perspectiva de sistema abierto en interacciòn constante con su Entorno y que consta de tres sistemas que interactùan: Personal, Interpersonal y Social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ENFERMEDAD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Se considera como una interferencia en el continuo del ciclo de vida; por lo tanto incluye ajustes personales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ENFERMERÍA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El l propósito principal que plantea su teoría es el de ayudar al individuo a mantener su salud y actuar de acuerdo con el rol adecuado. "Se considera como un proceso interpersonal de acción, reacción, interacción y transacción; las percepciones de la enfermera y las del cliente influyen en la interacción"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876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ENTORNO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Sistema abierto con lìmites permeables que permiten el intercambio de materia, energìa e informaciò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SALUD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s un estadìo dinàmico del ciclo de la vid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Por lo  tanto este Modelo c onsidera a la  Enfermería como la Disciplina que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Planifica, Aplica y Evalúa los cuidados enfermeros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Aporta Conocimiento y Habilidades para el Proceso de Atención de Enfermería.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28600"/>
            <a:ext cx="5715000" cy="609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1600200"/>
            <a:ext cx="73152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La Teorìa planteada por Imogene King de  la Consecuciòn de Objetivos y su Marco Sistèmico a nuestro parecer es uno de los modelos  màs completos que pueden sustentar la Practica de Enfermerìa dados los amplios conceptos que considera basados  fundamentalmente en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El interès central de la Enfermerìa es el ser humano, en interacciòn con su entorno, lo cque conduce a las personas a un Estado de Salud entendido como la Capacidad para desempeñar un Rol social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Este Modelo considera a la  Enfermería como la Disciplina que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- Planifica, Aplica y Evalúa los cuidados enfermer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-  Aporta Conocimientos y Habilidades para el Proceso de Atención de Enfermería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aplicado a un Individuo visto desde tres dimensiones Personal,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Interpersonal y Social en continua interacciòn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Por lo anterior consideramos a esta Teorìa como un Modelo Factible de Aplicar a las necesidades y Circuntancias que plantea la Practica de Enfermerìa Actualmente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8360" y="549360"/>
            <a:ext cx="4897440" cy="576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404640"/>
            <a:ext cx="4968720" cy="576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CONCLUSIÓ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La teoría de King visualiza los siguientes concepto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PERSONA: Ser social, emocional y racional con propósito, orientado hacia la acción y en el tiempo. Participa activamente en las decisiones que afectan su vida y la salud. Utiliza el aspecto ambiental desde una perspectiva de sistema abierto en interacciòn constante con su Entorno y que consta de tres sistemas que interactùan: Personal, Interpersonal y Soci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ENFERMERÍA: El propósito principal que plantea su teoría es el de ayudar al individuo a mantener su salud y actuar de acuerdo con el rol adecuado. "Se considera como un proceso interpersonal de acción, reacción, interacción y transacción; las percepciones de la enfermera y las del cliente influyen en la interacción"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SALUD: Es un estadìo dinàmico del ciclo de la vid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implica continuos ajustes al estrès en los ambientres interno y esterno, utilizando los medios personales para conseguir una vida cotidiana òptim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89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ENFERMEDAD: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Se considera como una interferencia en el continuo del ciclo de vida; por lo tanto incluye ajustes personales</a:t>
            </a:r>
            <a:r>
              <a:rPr b="1" lang="es-MX" sz="1100" spc="-1" strike="noStrike">
                <a:solidFill>
                  <a:srgbClr val="000099"/>
                </a:solidFill>
                <a:latin typeface="Arial"/>
              </a:rPr>
              <a:t>.</a:t>
            </a:r>
            <a:br>
              <a:rPr sz="1100"/>
            </a:br>
            <a:r>
              <a:rPr b="1" lang="es-MX" sz="11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ENTORNO: sistema abierto con lìmites permeables que permiten el intercambio de materia, energìa e informaciò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981080" y="291600"/>
            <a:ext cx="4267440" cy="6224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              </a:t>
            </a: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CONCLUSIÓ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th Cabrera Martinez</cp:lastModifiedBy>
  <dcterms:modified xsi:type="dcterms:W3CDTF">2004-06-17T00:59:04Z</dcterms:modified>
  <cp:revision>47</cp:revision>
  <dc:subject/>
  <dc:title>PowerPoint Presentation</dc:title>
</cp:coreProperties>
</file>