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8A2D-0BF8-4A5E-9E2D-473F44AA4E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una fami.iarizzazione con questi conc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gli elementi sono riassunti vicino alle frasi nel libro di testo: concetto tempo, concetto-personaggio, concetto-evento, concetto luogo 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dovevano evidenziare in particolare gli elementi comuni ai 2 tipi di imbarcazioni, che sembravano d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l’interpretazione della mappa doveva essere non espositiva, ma argomentativi nela descrizione delle 2 barche ( tipo di barca in funzione dell’ambiente ed è specchio uomo-ambi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807-A4C3-447F-AAB8-5E1F5AE4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F54-C4CF-4F12-8D74-C0CC8A2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7B4-C2E1-4BB1-9205-524FC109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262-0D6A-411E-9B23-538ABA42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B9E-2212-40F7-A260-3893B1C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650-5453-455A-AAA7-CE2F8A7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6C0-723E-44D9-BB67-FD779085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6F4-A461-4D36-A768-40E0DA9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FC3-1542-4B0B-A6CB-1E170EE6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ED9-61C1-4871-B132-1E7A82A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750-658F-4933-BB4D-0DEEA00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165-B63C-46F5-B33C-3063CCF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5E6-0D76-439A-B92E-7B9F04FA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oiosito.it/scuola/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4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 e progettazione di un interven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parare e sostenere esposizioni, relazioni e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argoment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Analizzare doc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ire uno strumento ricerca, anche con legami a risorse di 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t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z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zion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ganizz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ntamin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e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icl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a per il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1484280"/>
            <a:ext cx="1474560" cy="36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864072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8050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48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85880" y="957240"/>
            <a:ext cx="3972240" cy="4486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30320" y="274680"/>
            <a:ext cx="7081920" cy="585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95440" y="274680"/>
            <a:ext cx="6151680" cy="585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33520" y="274680"/>
            <a:ext cx="6275520" cy="585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mapp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ntiene le risposte alle domande formulate dai ragazzi per spiegare e spiegarsi gli avvenimenti seguiti all’11 settembre 2001, con nodi collegati  a una pagina di internet signific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1413000"/>
            <a:ext cx="244800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omen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e su concetto e relazione e eserc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ortati alla lavagna i concetti princip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e sulle rel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a per ogni paragrafo, a cop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 tutte l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zazione collettiva della mappa di ogni paragrafo (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con fasi di costruzione, revisione e ridefin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ronto fra le mappe dei singoli gruppi e quelle f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pie, mappa compl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zione collettiva di una unica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981000"/>
            <a:ext cx="381816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8172360" y="6308640"/>
            <a:ext cx="533520" cy="5493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241">
                <a:moveTo>
                  <a:pt x="0" y="0"/>
                </a:moveTo>
                <a:lnTo>
                  <a:pt x="21600" y="0"/>
                </a:lnTo>
                <a:lnTo>
                  <a:pt x="21600" y="22241"/>
                </a:lnTo>
                <a:lnTo>
                  <a:pt x="0" y="22241"/>
                </a:lnTo>
                <a:close/>
              </a:path>
              <a:path fill="lightenLess" w="21600" h="22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41">
                <a:moveTo>
                  <a:pt x="21600" y="0"/>
                </a:moveTo>
                <a:lnTo>
                  <a:pt x="21600" y="22241"/>
                </a:lnTo>
                <a:lnTo>
                  <a:pt x="20200" y="20841"/>
                </a:lnTo>
                <a:lnTo>
                  <a:pt x="20200" y="1400"/>
                </a:lnTo>
                <a:close/>
              </a:path>
              <a:path fill="darkenLess" w="21600" h="22241">
                <a:moveTo>
                  <a:pt x="21600" y="22241"/>
                </a:moveTo>
                <a:lnTo>
                  <a:pt x="0" y="22241"/>
                </a:lnTo>
                <a:lnTo>
                  <a:pt x="1400" y="20841"/>
                </a:lnTo>
                <a:lnTo>
                  <a:pt x="20200" y="20841"/>
                </a:lnTo>
                <a:close/>
              </a:path>
              <a:path fill="lighten" w="21600" h="22241">
                <a:moveTo>
                  <a:pt x="0" y="22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41"/>
                </a:lnTo>
                <a:close/>
              </a:path>
              <a:path fill="darken" w="21600" h="22241">
                <a:moveTo>
                  <a:pt x="3794" y="7813"/>
                </a:moveTo>
                <a:lnTo>
                  <a:pt x="7301" y="7813"/>
                </a:lnTo>
                <a:lnTo>
                  <a:pt x="7301" y="13148"/>
                </a:lnTo>
                <a:cubicBezTo>
                  <a:pt x="7301" y="14071"/>
                  <a:pt x="8102" y="14802"/>
                  <a:pt x="9138" y="14802"/>
                </a:cubicBezTo>
                <a:lnTo>
                  <a:pt x="10800" y="14802"/>
                </a:lnTo>
                <a:cubicBezTo>
                  <a:pt x="11836" y="14802"/>
                  <a:pt x="12636" y="14071"/>
                  <a:pt x="12636" y="13148"/>
                </a:cubicBezTo>
                <a:lnTo>
                  <a:pt x="12636" y="7813"/>
                </a:lnTo>
                <a:lnTo>
                  <a:pt x="10800" y="7813"/>
                </a:lnTo>
                <a:lnTo>
                  <a:pt x="14308" y="4305"/>
                </a:lnTo>
                <a:lnTo>
                  <a:pt x="17981" y="7813"/>
                </a:lnTo>
                <a:lnTo>
                  <a:pt x="16144" y="7813"/>
                </a:lnTo>
                <a:lnTo>
                  <a:pt x="16144" y="13148"/>
                </a:lnTo>
                <a:cubicBezTo>
                  <a:pt x="16144" y="15916"/>
                  <a:pt x="13568" y="18475"/>
                  <a:pt x="10800" y="18475"/>
                </a:cubicBezTo>
                <a:lnTo>
                  <a:pt x="9138" y="18475"/>
                </a:lnTo>
                <a:cubicBezTo>
                  <a:pt x="6370" y="18475"/>
                  <a:pt x="3794" y="15916"/>
                  <a:pt x="3794" y="1314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IETTI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à di riconoscere, estrapolare e definire gli elementi costitutivi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ttazione e realizzazione autonoma di una mappa su argomenti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er gestire unità informative sempre più compl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re consapevoli della progressione del processo di costruzione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er revisionare e ridefinire il piano progettuale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052640"/>
            <a:ext cx="424656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105264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153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zione individuale di una mappa da 2 brani su di un arg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ame e discussione collettiva delle map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mapp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uddivisa in 2 blocchi senza relazioni e asimmetrici e disomogenei; 2-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mapp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 relazioni simmetriche , ma in cui mancano le argomentazioni sulle conseguenze delle relazioni in comune; 3- mappa (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con relazioni simmetriche e con le argomentazioni sulle relazioni tra tipi di barche e rapporto uomo-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lasse ha realizzato insieme 2 mappe, 1 con strutturazione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5" action="ppaction://hlinksldjump"/>
              </a:rPr>
              <a:t>argomentativa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6" action="ppaction://hlinksldjump"/>
              </a:rPr>
              <a:t> e induttiv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1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7" action="ppaction://hlinksldjump"/>
              </a:rPr>
              <a:t>argomentativa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8" action="ppaction://hlinksldjump"/>
              </a:rPr>
              <a:t> e dedu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052640"/>
            <a:ext cx="417492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39680" y="105264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9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81532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1480" y="274680"/>
            <a:ext cx="7599240" cy="58514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29000" y="274680"/>
            <a:ext cx="4084560" cy="58514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38400" y="1023840"/>
            <a:ext cx="4867200" cy="43531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16200" y="274680"/>
            <a:ext cx="3711600" cy="58514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3:05:52Z</dcterms:created>
  <dc:creator>-</dc:creator>
  <dc:description/>
  <dc:language>en-US</dc:language>
  <cp:lastModifiedBy>-</cp:lastModifiedBy>
  <dcterms:modified xsi:type="dcterms:W3CDTF">2003-12-30T10:13:37Z</dcterms:modified>
  <cp:revision>7</cp:revision>
  <dc:subject/>
  <dc:title>Analisi e progettazione di un intervento:</dc:title>
</cp:coreProperties>
</file>