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BBC1-AA36-4DC0-9C4E-7ED973C2854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er una fami.iarizzazione con questi conc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gli elementi sono riassunti vicino alle frasi nel libro di testo: concetto tempo, concetto-personaggio, concetto-evento, concetto luogo 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dovevano evidenziare in particolare gli elementi comuni ai 2 tipi di imbarcazioni, che sembravano d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l’interpretazione della mappa doveva essere non espositiva, ma argomentativi nela descrizione delle 2 barche ( tipo di barca in funzione dell’ambiente ed è specchio uomo-ambien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4C6-88CE-411F-A7CB-CEF63F31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3BA-6C39-4D96-9057-A090219B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F5F-1552-4F9B-8D06-E9CD5B19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99A-479A-41C8-838F-E57B5B54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694-9046-4F95-AE54-FD7C41EB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B801-E412-40E8-8928-DFCF4B57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E9E-8169-4D68-A37F-4CBFF2E0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5426-98F9-4018-9DBC-3AF252A7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8BCD-9813-400E-A993-2288D402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DB2-DA2C-42B0-A031-AC711569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8260-CEE1-4CA6-8D3C-B4983107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7D0-F666-4826-AEE6-BF71DCE6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0766-8004-4036-BFD2-9E532CDDE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oiosito.it/scuola/" TargetMode="Externa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4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4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 e progettazione di un interven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eparare e sostenere esposizioni, relazioni e 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1" action="ppaction://hlinksldjump"/>
              </a:rPr>
              <a:t>argoment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2" action="ppaction://hlinksldjump"/>
              </a:rPr>
              <a:t>Analizzare doc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struire uno strumento ricerca, anche con legami a risorse di r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gett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6000" y="1844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z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zion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organizz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ntamin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de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icl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a per il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1484280"/>
            <a:ext cx="1474560" cy="360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ma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864072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5" y="7493"/>
                </a:moveTo>
                <a:lnTo>
                  <a:pt x="7913" y="7493"/>
                </a:lnTo>
                <a:lnTo>
                  <a:pt x="7913" y="12828"/>
                </a:lnTo>
                <a:cubicBezTo>
                  <a:pt x="7913" y="13751"/>
                  <a:pt x="8714" y="14482"/>
                  <a:pt x="9749" y="14482"/>
                </a:cubicBezTo>
                <a:lnTo>
                  <a:pt x="11412" y="14482"/>
                </a:lnTo>
                <a:cubicBezTo>
                  <a:pt x="12448" y="14482"/>
                  <a:pt x="13248" y="13751"/>
                  <a:pt x="13248" y="12828"/>
                </a:cubicBezTo>
                <a:lnTo>
                  <a:pt x="13248" y="7493"/>
                </a:lnTo>
                <a:lnTo>
                  <a:pt x="11412" y="7493"/>
                </a:lnTo>
                <a:lnTo>
                  <a:pt x="14919" y="3985"/>
                </a:lnTo>
                <a:lnTo>
                  <a:pt x="18592" y="7493"/>
                </a:lnTo>
                <a:lnTo>
                  <a:pt x="16756" y="7493"/>
                </a:lnTo>
                <a:lnTo>
                  <a:pt x="16756" y="12828"/>
                </a:lnTo>
                <a:cubicBezTo>
                  <a:pt x="16756" y="15596"/>
                  <a:pt x="14180" y="18155"/>
                  <a:pt x="11412" y="18155"/>
                </a:cubicBezTo>
                <a:lnTo>
                  <a:pt x="9749" y="18155"/>
                </a:lnTo>
                <a:cubicBezTo>
                  <a:pt x="6982" y="18155"/>
                  <a:pt x="4405" y="15596"/>
                  <a:pt x="440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1805040"/>
            <a:ext cx="7619760" cy="279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957240"/>
            <a:ext cx="7619760" cy="4486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85880" y="957240"/>
            <a:ext cx="3972240" cy="4486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30320" y="274680"/>
            <a:ext cx="7081920" cy="5851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95440" y="274680"/>
            <a:ext cx="6151680" cy="5851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33520" y="274680"/>
            <a:ext cx="6275520" cy="5851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ap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mapp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contiene le risposte alle domande formulate dai ragazzi per spiegare e spiegarsi gli avvenimenti seguiti all’11 settembre 2001, con nodi collegati  a una pagina di internet signific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1413000"/>
            <a:ext cx="244800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goment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ap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e su concetto e relazione e eserci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portati alla lavagna i concetti princip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e sulle rel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a per ogni paragrafo, a cop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 tutte l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zazione collettiva della mappa di ogni paragrafo (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 action="ppaction://hlinksldjump"/>
              </a:rPr>
              <a:t>1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–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)con fasi di costruzione, revisione e ridefini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ronto fra le mappe dei singoli gruppi e quelle fi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ppie, mappa comples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zione collettiva di una unica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4" action="ppaction://hlinksldjump"/>
              </a:rPr>
              <a:t>map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9280" y="981000"/>
            <a:ext cx="381816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si dei documenti-percors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5595"/>
                </a:moveTo>
                <a:lnTo>
                  <a:pt x="17806" y="12601"/>
                </a:lnTo>
                <a:lnTo>
                  <a:pt x="3794" y="19608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6" action="ppaction://hlinksldjump"/>
          </p:cNvPr>
          <p:cNvSpPr/>
          <p:nvPr/>
        </p:nvSpPr>
        <p:spPr>
          <a:xfrm>
            <a:off x="8172360" y="6308640"/>
            <a:ext cx="533520" cy="5493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241">
                <a:moveTo>
                  <a:pt x="0" y="0"/>
                </a:moveTo>
                <a:lnTo>
                  <a:pt x="21600" y="0"/>
                </a:lnTo>
                <a:lnTo>
                  <a:pt x="21600" y="22241"/>
                </a:lnTo>
                <a:lnTo>
                  <a:pt x="0" y="22241"/>
                </a:lnTo>
                <a:close/>
              </a:path>
              <a:path fill="lightenLess" w="21600" h="222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41">
                <a:moveTo>
                  <a:pt x="21600" y="0"/>
                </a:moveTo>
                <a:lnTo>
                  <a:pt x="21600" y="22241"/>
                </a:lnTo>
                <a:lnTo>
                  <a:pt x="20200" y="20841"/>
                </a:lnTo>
                <a:lnTo>
                  <a:pt x="20200" y="1400"/>
                </a:lnTo>
                <a:close/>
              </a:path>
              <a:path fill="darkenLess" w="21600" h="22241">
                <a:moveTo>
                  <a:pt x="21600" y="22241"/>
                </a:moveTo>
                <a:lnTo>
                  <a:pt x="0" y="22241"/>
                </a:lnTo>
                <a:lnTo>
                  <a:pt x="1400" y="20841"/>
                </a:lnTo>
                <a:lnTo>
                  <a:pt x="20200" y="20841"/>
                </a:lnTo>
                <a:close/>
              </a:path>
              <a:path fill="lighten" w="21600" h="22241">
                <a:moveTo>
                  <a:pt x="0" y="222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41"/>
                </a:lnTo>
                <a:close/>
              </a:path>
              <a:path fill="darken" w="21600" h="22241">
                <a:moveTo>
                  <a:pt x="3794" y="7813"/>
                </a:moveTo>
                <a:lnTo>
                  <a:pt x="7301" y="7813"/>
                </a:lnTo>
                <a:lnTo>
                  <a:pt x="7301" y="13148"/>
                </a:lnTo>
                <a:cubicBezTo>
                  <a:pt x="7301" y="14071"/>
                  <a:pt x="8102" y="14802"/>
                  <a:pt x="9138" y="14802"/>
                </a:cubicBezTo>
                <a:lnTo>
                  <a:pt x="10800" y="14802"/>
                </a:lnTo>
                <a:cubicBezTo>
                  <a:pt x="11836" y="14802"/>
                  <a:pt x="12636" y="14071"/>
                  <a:pt x="12636" y="13148"/>
                </a:cubicBezTo>
                <a:lnTo>
                  <a:pt x="12636" y="7813"/>
                </a:lnTo>
                <a:lnTo>
                  <a:pt x="10800" y="7813"/>
                </a:lnTo>
                <a:lnTo>
                  <a:pt x="14308" y="4305"/>
                </a:lnTo>
                <a:lnTo>
                  <a:pt x="17981" y="7813"/>
                </a:lnTo>
                <a:lnTo>
                  <a:pt x="16144" y="7813"/>
                </a:lnTo>
                <a:lnTo>
                  <a:pt x="16144" y="13148"/>
                </a:lnTo>
                <a:cubicBezTo>
                  <a:pt x="16144" y="15916"/>
                  <a:pt x="13568" y="18475"/>
                  <a:pt x="10800" y="18475"/>
                </a:cubicBezTo>
                <a:lnTo>
                  <a:pt x="9138" y="18475"/>
                </a:lnTo>
                <a:cubicBezTo>
                  <a:pt x="6370" y="18475"/>
                  <a:pt x="3794" y="15916"/>
                  <a:pt x="3794" y="13148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ap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IETTIV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à di riconoscere, estrapolare e definire gli elementi costitutivi di una map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ettazione e realizzazione autonoma di una mappa su argomenti di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per gestire unità informative sempre più compl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re consapevoli della progressione del processo di costruzione di una map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per revisionare e ridefinire il piano progettuale di una map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1052640"/>
            <a:ext cx="424656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7640" y="105264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si dei documenti-percors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81532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ap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struzione individuale di una mappa da 2 brani su di un argo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ame e discussione collettiva delle map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1" action="ppaction://hlinksldjump"/>
              </a:rPr>
              <a:t>mapp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uddivisa in 2 blocchi senza relazioni e asimmetrici e disomogenei; 2- 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2" action="ppaction://hlinksldjump"/>
              </a:rPr>
              <a:t>mapp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on relazioni simmetriche , ma in cui mancano le argomentazioni sulle conseguenze delle relazioni in comune; 3- mappa (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3" action="ppaction://hlinksldjump"/>
              </a:rPr>
              <a:t>1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4" action="ppaction://hlinksldjump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con relazioni simmetriche e con le argomentazioni sulle relazioni tra tipi di barche e rapporto uomo-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classe ha realizzato insieme 2 mappe, 1 con strutturazione 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5" action="ppaction://hlinksldjump"/>
              </a:rPr>
              <a:t>argomentativa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6" action="ppaction://hlinksldjump"/>
              </a:rPr>
              <a:t> e induttiva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 1 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7" action="ppaction://hlinksldjump"/>
              </a:rPr>
              <a:t>argomentativa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8" action="ppaction://hlinksldjump"/>
              </a:rPr>
              <a:t> e dedut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1052640"/>
            <a:ext cx="417492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39680" y="105264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si dei documenti-percors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9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10" action="ppaction://hlinksldjump"/>
          </p:cNvPr>
          <p:cNvSpPr/>
          <p:nvPr/>
        </p:nvSpPr>
        <p:spPr>
          <a:xfrm>
            <a:off x="815328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71480" y="274680"/>
            <a:ext cx="7599240" cy="58514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29000" y="274680"/>
            <a:ext cx="4084560" cy="58514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38400" y="1023840"/>
            <a:ext cx="4867200" cy="435312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16200" y="274680"/>
            <a:ext cx="3711600" cy="58514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3:05:52Z</dcterms:created>
  <dc:creator>-</dc:creator>
  <dc:description/>
  <dc:language>en-US</dc:language>
  <cp:lastModifiedBy>-</cp:lastModifiedBy>
  <dcterms:modified xsi:type="dcterms:W3CDTF">2003-12-30T10:13:37Z</dcterms:modified>
  <cp:revision>7</cp:revision>
  <dc:subject/>
  <dc:title>Analisi e progettazione di un intervento:</dc:title>
</cp:coreProperties>
</file>