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B11E-F7BA-4E3C-84C8-B1D01ABC0B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er una fami.iarizzazione con questi conc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gli elementi sono riassunti vicino alle frasi nel libro di testo: concetto tempo, concetto-personaggio, concetto-evento, concetto luogo 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dovevano evidenziare in particolare gli elementi comuni ai 2 tipi di imbarcazioni, che sembravano d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l’interpretazione della mappa doveva essere non espositiva, ma argomentativi nela descrizione delle 2 barche ( tipo di barca in funzione dell’ambiente ed è specchio uomo-ambien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CC2-BC53-4FC5-BDDC-2586B0CF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2C2-7316-4269-B5AA-BF6C2541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AE8-CAEE-4045-AD55-EB95A4DD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037-CA34-4B1F-8FE3-F9CDF162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99D-2B07-4E7C-BF69-113694AC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E45-ED04-4512-B55F-429D44C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E99-D385-48E9-B226-CF2AB11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E16-FC81-4C50-805C-82E01213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804-60D3-47F7-8690-B098ED23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7CD-BB35-438A-8018-7007CC3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D67-C880-4D96-84C4-46A8CF48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2CD-0DCC-4E1C-8718-31BF7DA2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CCE4-DA35-4A4F-A63B-7918C8B14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oiosito.it/scuola/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4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4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isi e progettazione di un interven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eparare e sostenere esposizioni, relazioni e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argoment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Analizzare doc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ruire uno strumento ricerca, anche con legami a risorse di 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ett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6000" y="1844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z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zion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organizz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ntamin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e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iclar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a per il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1484280"/>
            <a:ext cx="1474560" cy="36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8640720" y="6381720"/>
            <a:ext cx="503280" cy="476280"/>
          </a:xfrm>
          <a:custGeom>
            <a:avLst/>
            <a:gdLst>
              <a:gd name="textAreaLeft" fmla="*/ 30600 w 503280"/>
              <a:gd name="textAreaRight" fmla="*/ 472680 w 503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5" y="7493"/>
                </a:moveTo>
                <a:lnTo>
                  <a:pt x="7913" y="7493"/>
                </a:lnTo>
                <a:lnTo>
                  <a:pt x="7913" y="12828"/>
                </a:lnTo>
                <a:cubicBezTo>
                  <a:pt x="7913" y="13751"/>
                  <a:pt x="8714" y="14482"/>
                  <a:pt x="9749" y="14482"/>
                </a:cubicBezTo>
                <a:lnTo>
                  <a:pt x="11412" y="14482"/>
                </a:lnTo>
                <a:cubicBezTo>
                  <a:pt x="12448" y="14482"/>
                  <a:pt x="13248" y="13751"/>
                  <a:pt x="13248" y="12828"/>
                </a:cubicBezTo>
                <a:lnTo>
                  <a:pt x="13248" y="7493"/>
                </a:lnTo>
                <a:lnTo>
                  <a:pt x="11412" y="7493"/>
                </a:lnTo>
                <a:lnTo>
                  <a:pt x="14919" y="3985"/>
                </a:lnTo>
                <a:lnTo>
                  <a:pt x="18592" y="7493"/>
                </a:lnTo>
                <a:lnTo>
                  <a:pt x="16756" y="7493"/>
                </a:lnTo>
                <a:lnTo>
                  <a:pt x="16756" y="12828"/>
                </a:lnTo>
                <a:cubicBezTo>
                  <a:pt x="16756" y="15596"/>
                  <a:pt x="14180" y="18155"/>
                  <a:pt x="11412" y="18155"/>
                </a:cubicBezTo>
                <a:lnTo>
                  <a:pt x="9749" y="18155"/>
                </a:lnTo>
                <a:cubicBezTo>
                  <a:pt x="6982" y="18155"/>
                  <a:pt x="4405" y="15596"/>
                  <a:pt x="4405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805040"/>
            <a:ext cx="7619760" cy="2790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957240"/>
            <a:ext cx="7619760" cy="4486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85880" y="957240"/>
            <a:ext cx="3972240" cy="4486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30320" y="274680"/>
            <a:ext cx="7081920" cy="5851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95440" y="274680"/>
            <a:ext cx="6151680" cy="585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33520" y="274680"/>
            <a:ext cx="6275520" cy="5851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3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mapp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contiene le risposte alle domande formulate dai ragazzi per spiegare e spiegarsi gli avvenimenti seguiti all’11 settembre 2001, con nodi collegati  a una pagina di internet signific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1413000"/>
            <a:ext cx="244800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gomen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e su concetto e relazione e eserci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ortati alla lavagna i concetti princip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e sulle rel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a per ogni paragrafo, a cop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 tutte le ma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zazione collettiva della mappa di ogni paragrafo (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con fasi di costruzione, revisione e ridefin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ronto fra le mappe dei singoli gruppi e quelle fi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ppie, mappa compl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zione collettiva di una unica </a:t>
            </a: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981000"/>
            <a:ext cx="3818160" cy="432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5595"/>
                </a:moveTo>
                <a:lnTo>
                  <a:pt x="17806" y="12601"/>
                </a:lnTo>
                <a:lnTo>
                  <a:pt x="3794" y="19608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6" action="ppaction://hlinksldjump"/>
          </p:cNvPr>
          <p:cNvSpPr/>
          <p:nvPr/>
        </p:nvSpPr>
        <p:spPr>
          <a:xfrm>
            <a:off x="8172360" y="6308640"/>
            <a:ext cx="533520" cy="5493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241">
                <a:moveTo>
                  <a:pt x="0" y="0"/>
                </a:moveTo>
                <a:lnTo>
                  <a:pt x="21600" y="0"/>
                </a:lnTo>
                <a:lnTo>
                  <a:pt x="21600" y="22241"/>
                </a:lnTo>
                <a:lnTo>
                  <a:pt x="0" y="22241"/>
                </a:lnTo>
                <a:close/>
              </a:path>
              <a:path fill="lightenLess" w="21600" h="222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41">
                <a:moveTo>
                  <a:pt x="21600" y="0"/>
                </a:moveTo>
                <a:lnTo>
                  <a:pt x="21600" y="22241"/>
                </a:lnTo>
                <a:lnTo>
                  <a:pt x="20200" y="20841"/>
                </a:lnTo>
                <a:lnTo>
                  <a:pt x="20200" y="1400"/>
                </a:lnTo>
                <a:close/>
              </a:path>
              <a:path fill="darkenLess" w="21600" h="22241">
                <a:moveTo>
                  <a:pt x="21600" y="22241"/>
                </a:moveTo>
                <a:lnTo>
                  <a:pt x="0" y="22241"/>
                </a:lnTo>
                <a:lnTo>
                  <a:pt x="1400" y="20841"/>
                </a:lnTo>
                <a:lnTo>
                  <a:pt x="20200" y="20841"/>
                </a:lnTo>
                <a:close/>
              </a:path>
              <a:path fill="lighten" w="21600" h="22241">
                <a:moveTo>
                  <a:pt x="0" y="222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41"/>
                </a:lnTo>
                <a:close/>
              </a:path>
              <a:path fill="darken" w="21600" h="22241">
                <a:moveTo>
                  <a:pt x="3794" y="7813"/>
                </a:moveTo>
                <a:lnTo>
                  <a:pt x="7301" y="7813"/>
                </a:lnTo>
                <a:lnTo>
                  <a:pt x="7301" y="13148"/>
                </a:lnTo>
                <a:cubicBezTo>
                  <a:pt x="7301" y="14071"/>
                  <a:pt x="8102" y="14802"/>
                  <a:pt x="9138" y="14802"/>
                </a:cubicBezTo>
                <a:lnTo>
                  <a:pt x="10800" y="14802"/>
                </a:lnTo>
                <a:cubicBezTo>
                  <a:pt x="11836" y="14802"/>
                  <a:pt x="12636" y="14071"/>
                  <a:pt x="12636" y="13148"/>
                </a:cubicBezTo>
                <a:lnTo>
                  <a:pt x="12636" y="7813"/>
                </a:lnTo>
                <a:lnTo>
                  <a:pt x="10800" y="7813"/>
                </a:lnTo>
                <a:lnTo>
                  <a:pt x="14308" y="4305"/>
                </a:lnTo>
                <a:lnTo>
                  <a:pt x="17981" y="7813"/>
                </a:lnTo>
                <a:lnTo>
                  <a:pt x="16144" y="7813"/>
                </a:lnTo>
                <a:lnTo>
                  <a:pt x="16144" y="13148"/>
                </a:lnTo>
                <a:cubicBezTo>
                  <a:pt x="16144" y="15916"/>
                  <a:pt x="13568" y="18475"/>
                  <a:pt x="10800" y="18475"/>
                </a:cubicBezTo>
                <a:lnTo>
                  <a:pt x="9138" y="18475"/>
                </a:lnTo>
                <a:cubicBezTo>
                  <a:pt x="6370" y="18475"/>
                  <a:pt x="3794" y="15916"/>
                  <a:pt x="3794" y="1314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IETTIV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à di riconoscere, estrapolare e definire gli elementi costitutivi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ettazione e realizzazione autonoma di una mappa su argomenti di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er gestire unità informative sempre più compl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re consapevoli della progressione del processo di costruzione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per revisionare e ridefinire il piano progettuale di una ma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052640"/>
            <a:ext cx="424656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105264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81532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ap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struzione individuale di una mappa da 2 brani su di un argo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ame e discussione collettiva delle map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mapp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uddivisa in 2 blocchi senza relazioni e asimmetrici e disomogenei; 2-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mapp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 relazioni simmetriche , ma in cui mancano le argomentazioni sulle conseguenze delle relazioni in comune; 3- mappa (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1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con relazioni simmetriche e con le argomentazioni sulle relazioni tra tipi di barche e rapporto uomo-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classe ha realizzato insieme 2 mappe, 1 con strutturazione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5" action="ppaction://hlinksldjump"/>
              </a:rPr>
              <a:t>argomentativa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6" action="ppaction://hlinksldjump"/>
              </a:rPr>
              <a:t> e induttiv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1 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7" action="ppaction://hlinksldjump"/>
              </a:rPr>
              <a:t>argomentativa</a:t>
            </a:r>
            <a:r>
              <a:rPr b="0" lang="it-IT" sz="2800" spc="-1" strike="noStrike" u="sng">
                <a:solidFill>
                  <a:srgbClr val="003399"/>
                </a:solidFill>
                <a:uFillTx/>
                <a:latin typeface="Arial"/>
                <a:hlinkClick r:id="rId8" action="ppaction://hlinksldjump"/>
              </a:rPr>
              <a:t> e dedut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052640"/>
            <a:ext cx="4174920" cy="431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39680" y="105264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si dei documenti-percor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9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10" action="ppaction://hlinksldjump"/>
          </p:cNvPr>
          <p:cNvSpPr/>
          <p:nvPr/>
        </p:nvSpPr>
        <p:spPr>
          <a:xfrm>
            <a:off x="815328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71480" y="274680"/>
            <a:ext cx="7599240" cy="58514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29000" y="274680"/>
            <a:ext cx="4084560" cy="58514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38400" y="1023840"/>
            <a:ext cx="4867200" cy="435312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66cc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16200" y="274680"/>
            <a:ext cx="3711600" cy="585144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3:05:52Z</dcterms:created>
  <dc:creator>-</dc:creator>
  <dc:description/>
  <dc:language>en-US</dc:language>
  <cp:lastModifiedBy>-</cp:lastModifiedBy>
  <dcterms:modified xsi:type="dcterms:W3CDTF">2003-12-30T10:13:37Z</dcterms:modified>
  <cp:revision>7</cp:revision>
  <dc:subject/>
  <dc:title>Analisi e progettazione di un intervento:</dc:title>
</cp:coreProperties>
</file>